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C576-3311-4809-A086-1ACCC160C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E899-7957-409F-B099-2026E3EB6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1931-1569-4488-912C-E97F98D6A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88F3-1DD1-4C21-935C-CEBDCEEB1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B0D3-BD2A-466A-9846-6DEBFAB35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9B3D-6757-4C45-BF72-220FE7543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7C94-9D07-43C6-87EA-C140EBCB5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31C7-A537-48D7-AD9E-7EBE88EFD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0AFA-669C-4E59-8BF3-590EF0254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C2CE-AB9D-4D9F-AA80-B37F11B47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1A2A-9487-4173-9970-EC2DB0A02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6C63-F110-4B45-A5CD-78BE989F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266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524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9076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fld id="{2B40120F-AFF5-42B7-BB22-89165C6F4F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03160" y="655560"/>
          <a:ext cx="8031240" cy="600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3160" y="655560"/>
                    <a:ext cx="8031240" cy="600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17400" y="531720"/>
          <a:ext cx="8390160" cy="698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531720"/>
                    <a:ext cx="8390160" cy="69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519120" y="493560"/>
          <a:ext cx="8477280" cy="750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493560"/>
                    <a:ext cx="8477280" cy="750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69800" y="630360"/>
          <a:ext cx="8674200" cy="657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630360"/>
                    <a:ext cx="8674200" cy="657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777960" y="741240"/>
          <a:ext cx="8192880" cy="5757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960" y="741240"/>
                    <a:ext cx="8192880" cy="57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69800" y="482760"/>
          <a:ext cx="8674200" cy="7041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674200" cy="704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30360" y="482760"/>
          <a:ext cx="8513640" cy="712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482760"/>
                    <a:ext cx="8513640" cy="712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247680" y="358920"/>
          <a:ext cx="8637480" cy="646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680" y="358920"/>
                    <a:ext cx="8637480" cy="64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79280" y="173160"/>
            <a:ext cx="9288720" cy="67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ort java.io.*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U{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/en archivo U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declaración de entrada estandar (teclad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BufferedReade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clad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 BufferedReader(new InputStreamReader(System.in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funciones (métodos) para leer enteros y re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String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Lin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throws IOExceptio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(x); return teclado.readLin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throws IOExceptio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Integer.parseInt(readLine(x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throws IOExceptio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readInt(“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doubl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Doub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throws IOException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Double.parseDouble(readLine(x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doubl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Dou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throws IOExceptio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readDouble(“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79280" y="32400"/>
            <a:ext cx="9288720" cy="67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métodos para escribir frases, enteros y re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int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double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l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int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double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//fin de clase 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82680" y="395280"/>
          <a:ext cx="8601120" cy="764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680" y="395280"/>
                    <a:ext cx="8601120" cy="764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69800" y="630360"/>
          <a:ext cx="8674200" cy="621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630360"/>
                    <a:ext cx="8674200" cy="621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Lenguaje Java: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gener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341000"/>
            <a:ext cx="8062920" cy="4754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 fontScale="97000"/>
          </a:bodyPr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pirado en idioma inglé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int, print, read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notación matemát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xpresiones: 100.0*h/(h+m), p-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unciones: print(...), readIn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ntaxis (gramática, escritura) reglamen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trucciones terminan c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con significados especiales (int, double, pr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minúsculas (salvo casos especi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mántica (interpretación) precisa (sin ambigüeda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trucciones con significado/efecto bien defi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66800" y="901800"/>
          <a:ext cx="7610400" cy="502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901800"/>
                    <a:ext cx="76104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4000" y="214560"/>
            <a:ext cx="8640720" cy="49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h = U.readIn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un número entero  desde el teclado y lo guarda en la variable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ival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h; //decla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 = </a:t>
            </a:r>
            <a:r>
              <a:rPr b="0" lang="en-US" sz="2400" spc="-1" strike="noStrike">
                <a:solidFill>
                  <a:srgbClr val="00cc99"/>
                </a:solidFill>
                <a:latin typeface="Courier New"/>
                <a:ea typeface="Times New Roman"/>
              </a:rPr>
              <a:t>U.readInt()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/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fr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un comentario que contiene observaciones de utilidad para el programador, pero que es ignorado por el computador al ejecutar las instrucciones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444600" y="482760"/>
          <a:ext cx="8575560" cy="618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82760"/>
                    <a:ext cx="8575560" cy="61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24000" y="564120"/>
            <a:ext cx="8569080" cy="49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 = U.readInt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mánt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º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étodo (función)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.readIn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pera que el usuario ingrese un número (dígitos y en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(obtiene) el nú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ega el número como resul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º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úmero se guarda en (asigna a ) la variable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taxi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riable = U.readTip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Tipo(): readInt() o readDoubl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617400" y="531720"/>
          <a:ext cx="8390160" cy="699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531720"/>
                    <a:ext cx="8390160" cy="699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9:55:34Z</dcterms:created>
  <dc:creator>jalvarez</dc:creator>
  <dc:description/>
  <dc:language>en-US</dc:language>
  <cp:lastModifiedBy>jalvarez</cp:lastModifiedBy>
  <cp:lastPrinted>2006-03-07T16:10:21Z</cp:lastPrinted>
  <dcterms:modified xsi:type="dcterms:W3CDTF">2009-12-30T19:55:06Z</dcterms:modified>
  <cp:revision>71</cp:revision>
  <dc:subject/>
  <dc:title>Sin título de diapositiva</dc:title>
</cp:coreProperties>
</file>