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96D-ED34-4AEA-8DA6-88F99333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36E-20E6-4935-8270-B6DC77B3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312-EC2E-44DE-8C46-48AC05CE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741-E562-4AED-B85D-DCE26FF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77F7-AE16-4B91-B4F6-5CC326E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2854-86BD-4ECF-AC12-4CF3967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5945-6458-4C3E-9AC9-9B2AECC2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C099-C514-41C6-880D-9D069F49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2133-84BC-4EE9-B582-B39AD30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2F89-C57E-4766-A4CB-0E86A92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56C-BB35-4A5D-B51E-7515ABA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05F-4ACD-4381-904D-8FEFE9E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E0E6-4125-45C3-9D39-3428AA7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016-F26C-476B-8471-04EC635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4EA4-6E39-4382-AB15-2A62DA3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2B9-F84B-40C9-A8BC-9F0BEB21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747B-299E-4909-938A-7A07052A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54D-FE4A-48BC-B596-BFE4FD01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7A7-1552-494B-A252-81F17D52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449-CCF4-4E16-B182-47E61F3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0C2-6DF9-4A51-A46C-65494305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48C-BBA2-4B53-BC70-1D1391F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67A-2C82-4BA0-97D4-E9C80CA1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AE4-5B6E-4314-BF2C-B899F928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3772-FA2A-4CE8-A6F2-2EA7482AD17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537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l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6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80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62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65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51320" y="4365720"/>
            <a:ext cx="4167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i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19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80" y="800280"/>
            <a:ext cx="9624960" cy="3995640"/>
          </a:xfrm>
          <a:custGeom>
            <a:avLst/>
            <a:gdLst/>
            <a:ahLst/>
            <a:rect l="l" t="t" r="r" b="b"/>
            <a:pathLst>
              <a:path w="6063" h="2517">
                <a:moveTo>
                  <a:pt x="2026" y="431"/>
                </a:moveTo>
                <a:cubicBezTo>
                  <a:pt x="1870" y="408"/>
                  <a:pt x="1715" y="386"/>
                  <a:pt x="1481" y="341"/>
                </a:cubicBezTo>
                <a:cubicBezTo>
                  <a:pt x="1247" y="296"/>
                  <a:pt x="853" y="30"/>
                  <a:pt x="619" y="159"/>
                </a:cubicBezTo>
                <a:cubicBezTo>
                  <a:pt x="385" y="288"/>
                  <a:pt x="128" y="772"/>
                  <a:pt x="75" y="1112"/>
                </a:cubicBezTo>
                <a:cubicBezTo>
                  <a:pt x="22" y="1452"/>
                  <a:pt x="0" y="2004"/>
                  <a:pt x="302" y="2200"/>
                </a:cubicBezTo>
                <a:cubicBezTo>
                  <a:pt x="604" y="2396"/>
                  <a:pt x="1496" y="2321"/>
                  <a:pt x="1889" y="2291"/>
                </a:cubicBezTo>
                <a:cubicBezTo>
                  <a:pt x="2282" y="2261"/>
                  <a:pt x="2396" y="2057"/>
                  <a:pt x="2661" y="2019"/>
                </a:cubicBezTo>
                <a:cubicBezTo>
                  <a:pt x="2926" y="1981"/>
                  <a:pt x="3031" y="2011"/>
                  <a:pt x="3477" y="2064"/>
                </a:cubicBezTo>
                <a:cubicBezTo>
                  <a:pt x="3923" y="2117"/>
                  <a:pt x="4929" y="2517"/>
                  <a:pt x="5337" y="2336"/>
                </a:cubicBezTo>
                <a:cubicBezTo>
                  <a:pt x="5745" y="2155"/>
                  <a:pt x="5843" y="1339"/>
                  <a:pt x="5926" y="976"/>
                </a:cubicBezTo>
                <a:cubicBezTo>
                  <a:pt x="6009" y="613"/>
                  <a:pt x="6063" y="318"/>
                  <a:pt x="5836" y="159"/>
                </a:cubicBezTo>
                <a:cubicBezTo>
                  <a:pt x="5609" y="0"/>
                  <a:pt x="4921" y="0"/>
                  <a:pt x="4566" y="23"/>
                </a:cubicBezTo>
                <a:cubicBezTo>
                  <a:pt x="4211" y="46"/>
                  <a:pt x="3954" y="219"/>
                  <a:pt x="3704" y="295"/>
                </a:cubicBezTo>
                <a:cubicBezTo>
                  <a:pt x="3454" y="371"/>
                  <a:pt x="3356" y="454"/>
                  <a:pt x="3069" y="477"/>
                </a:cubicBezTo>
                <a:cubicBezTo>
                  <a:pt x="2782" y="500"/>
                  <a:pt x="2161" y="439"/>
                  <a:pt x="1980" y="431"/>
                </a:cubicBezTo>
              </a:path>
            </a:pathLst>
          </a:custGeom>
          <a:solidFill>
            <a:srgbClr val="33cccc">
              <a:alpha val="32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653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RNA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21301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47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alactosid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Oriana</cp:lastModifiedBy>
  <dcterms:modified xsi:type="dcterms:W3CDTF">2009-01-26T04:50:27Z</dcterms:modified>
  <cp:revision>218</cp:revision>
  <dc:subject/>
  <dc:title>Presentación de PowerPoint</dc:title>
</cp:coreProperties>
</file>