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4B0-8872-4E5E-8861-C982BB48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3A1-DB58-4AF5-A215-4CFBED2B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3CA-AD0D-4C58-B646-607FE4A0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AEE-7BF5-4FE8-AD84-48322EE7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0C4F-3334-4F63-BEFF-1003CFAA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52F8-61A1-47C4-967D-966BC109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40B5-1ECE-4455-B6CD-6F5DD774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BE37-1109-4399-9C6C-B27B4930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81B1-AD15-4C51-B6E3-08C4D9FE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AC13-189D-4CD3-B3FD-8B5F4D84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8F3C-4A3C-4175-95E5-05F8CFF0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2C88-8536-46CD-952A-33F326C0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0903-FC74-4492-A723-876E147C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2D14-F9A0-45B8-9CD3-E8046B76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B692-3267-4EF7-B57D-43BC8C71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03B0-7B90-4EB6-810A-AB0CA720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1A85-BD54-4817-9BF8-E9F1CB0E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EB82-8E69-4648-8CFE-7B9A55B1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ACA-C55B-4B2E-8F63-C8F8C366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985A-C2D7-40EC-BA07-04424C58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65B-40E7-475E-AF4B-20E2C7C3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BF2-4025-45D0-8C79-1A2BEB9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7CC-9017-466E-A976-B4B1C89B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542-14BA-4B6B-8EFD-53DD2334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5 de Ener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0659-3825-479B-A54D-3AFD68A3B40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n esta clase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xpresión de los genes es controlada dependiendo del tipo celular, del tiempo de vida de la célula y de los nutrientes y factores de crecimiento del med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pro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lac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so del operón triptof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ulación de la expresión génica en eucario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a nivel del inicio de la tran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La síntesis 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-galactosidasa es induc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162560" cy="4775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16200000">
            <a:off x="359280" y="345024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centración de Beta galactodasid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943600"/>
            <a:ext cx="304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 (min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cripción del operón lact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620120" cy="4818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1148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14600" y="6095880"/>
            <a:ext cx="6324480" cy="8254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B-galactosid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9900"/>
                </a:solidFill>
                <a:latin typeface="Comic Sans MS"/>
              </a:rPr>
              <a:t>perme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0066"/>
                </a:solidFill>
                <a:latin typeface="Comic Sans MS"/>
              </a:rPr>
              <a:t>aceti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5638680"/>
            <a:ext cx="609480" cy="38124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5638680"/>
            <a:ext cx="609840" cy="45720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5715000"/>
            <a:ext cx="685800" cy="380880"/>
          </a:xfrm>
          <a:prstGeom prst="ellipse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4120" y="404640"/>
            <a:ext cx="8274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función del operón lactosa (lac) es producir las enz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ridas para metabolizar lactosa y obtener energía cuando é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requerida por la cél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537372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l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Qué pasa en au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2133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¿Y en presencia de lactosa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91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190440" y="-4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4224240" cy="6283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rot="16200000">
            <a:off x="-1095480" y="2696040"/>
            <a:ext cx="45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</a:rPr>
              <a:t>Nº de células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43800">
            <a:off x="3170880" y="3533760"/>
            <a:ext cx="3505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 Beta galactosid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563868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iempo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43434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ucosa también regula la transcripción de los genes del metabolismo de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80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sucede cuando las bacterias están en presencia de </a:t>
            </a: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glucosa y lact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5146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6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sumen de la regulación del operón lac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2286000"/>
            <a:ext cx="84582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uc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cAMP   Lactos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Transcrip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ó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l operón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Ausent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         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Pres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transcrip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ent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Baja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Alto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Present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Times New Roman"/>
              </a:rPr>
              <a:t>Alta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0292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perón triptof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229600" cy="2791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52388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zimas de la biosíntesis del aminoácido triptof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1752480"/>
            <a:ext cx="8686800" cy="1282680"/>
            <a:chOff x="457200" y="1752480"/>
            <a:chExt cx="8686800" cy="1282680"/>
          </a:xfrm>
        </p:grpSpPr>
        <p:sp>
          <p:nvSpPr>
            <p:cNvPr id="266" name=""/>
            <p:cNvSpPr/>
            <p:nvPr/>
          </p:nvSpPr>
          <p:spPr>
            <a:xfrm>
              <a:off x="457200" y="1752480"/>
              <a:ext cx="8686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S1         S2          S3       S4         S5        TRIPTOFANO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43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05320" y="19051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9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38680" y="1905120"/>
              <a:ext cx="381240" cy="152280"/>
            </a:xfrm>
            <a:prstGeom prst="rightArrow">
              <a:avLst>
                <a:gd name="adj1" fmla="val 50000"/>
                <a:gd name="adj2" fmla="val 6258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2096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             B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C           D           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800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405320" cy="5715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2286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Arial"/>
              </a:rPr>
              <a:t>Regulación de la transcripción del operón triptof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572000" y="1143000"/>
            <a:ext cx="4572000" cy="5715000"/>
            <a:chOff x="4572000" y="1143000"/>
            <a:chExt cx="4572000" cy="571500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0" y="1143000"/>
              <a:ext cx="4572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162920" y="121932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Bacterias en medio </a:t>
              </a:r>
              <a:r>
                <a:rPr b="1" lang="es-ES_tradnl" sz="2000" spc="-1" strike="noStrike" u="sng">
                  <a:solidFill>
                    <a:srgbClr val="ff3300"/>
                  </a:solidFill>
                  <a:uFillTx/>
                  <a:latin typeface="Comic Sans MS"/>
                </a:rPr>
                <a:t>sin</a:t>
              </a:r>
              <a:r>
                <a:rPr b="0" lang="es-ES_tradnl" sz="2000" spc="-1" strike="noStrike">
                  <a:solidFill>
                    <a:srgbClr val="ff3300"/>
                  </a:solidFill>
                  <a:latin typeface="Comic Sans MS"/>
                </a:rPr>
                <a:t> triptofa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743200" y="12193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Bacterias en medio </a:t>
            </a:r>
            <a:r>
              <a:rPr b="1" lang="es-ES_tradnl" sz="2000" spc="-1" strike="noStrike" u="sng">
                <a:solidFill>
                  <a:srgbClr val="ff3300"/>
                </a:solidFill>
                <a:uFillTx/>
                <a:latin typeface="Comic Sans MS"/>
              </a:rPr>
              <a:t>con</a:t>
            </a: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 triptof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5791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as las células de nuestro cuerpo tienen los mismos genes, pero no producen las mismas proteí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1447920"/>
            <a:ext cx="3429000" cy="1381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SEÑALE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33"/>
                </a:solidFill>
                <a:latin typeface="Times New Roman"/>
              </a:rPr>
              <a:t>(NUTRIENTES, HORMONAS, ET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1295280"/>
            <a:ext cx="3809880" cy="20595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f125"/>
                </a:solidFill>
                <a:latin typeface="Times New Roman"/>
              </a:rPr>
              <a:t>Activación o inactivación de genes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TIPOS CELULARES</a:t>
            </a:r>
            <a:r>
              <a:rPr b="1" lang="es-ES_tradnl" sz="2400" spc="-1" strike="noStrike">
                <a:solidFill>
                  <a:srgbClr val="ecf12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13200">
            <a:off x="4343040" y="2057400"/>
            <a:ext cx="5335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095880" cy="3090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86000" y="47242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ós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47242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T. mus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46483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neur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63244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. Ro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8120" y="5486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Osaka"/>
              </a:rPr>
              <a:t>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colá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5562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Osaka"/>
              </a:rPr>
              <a:t>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mios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5715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quer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4114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Neurotrans-mis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22860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348000" y="0"/>
            <a:ext cx="5105520" cy="4191120"/>
          </a:xfrm>
          <a:prstGeom prst="ellipse">
            <a:avLst/>
          </a:prstGeom>
          <a:solidFill>
            <a:srgbClr val="99cc00">
              <a:alpha val="50000"/>
            </a:srgbClr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685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ÑALES 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905120"/>
            <a:ext cx="1828800" cy="759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1905120"/>
            <a:ext cx="11430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905120"/>
            <a:ext cx="914400" cy="7596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6576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9625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148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2670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388620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038480"/>
            <a:ext cx="76320" cy="763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37339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438280"/>
            <a:ext cx="0" cy="838440"/>
          </a:xfrm>
          <a:prstGeom prst="line">
            <a:avLst/>
          </a:prstGeom>
          <a:ln cap="sq" w="507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332600">
            <a:off x="2816280" y="-611280"/>
            <a:ext cx="696960" cy="2208240"/>
          </a:xfrm>
          <a:custGeom>
            <a:avLst/>
            <a:gdLst>
              <a:gd name="textAreaLeft" fmla="*/ 93240 w 696960"/>
              <a:gd name="textAreaRight" fmla="*/ 603720 w 696960"/>
              <a:gd name="textAreaTop" fmla="*/ 386280 h 2208240"/>
              <a:gd name="textAreaBottom" fmla="*/ 1600920 h 22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630680"/>
            <a:ext cx="83059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bacter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Presencia o ausencia de nutrientes, temperatura, oxígeno, pH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organimos multicelular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: Factores de crecimiento y hormonas, nutrientes, entre otros factores. La expresión de genes depende de tipo de célula y de la  etapa de diferenciación de las célu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914400" y="1828800"/>
            <a:ext cx="0" cy="274320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sibles puntos de regulación de la expresión de genes en eucario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658280" cy="3181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828800" y="44956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7242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58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7480" y="38098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572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gulación de la transcripción del gen de albúm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00800" y="2133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N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85960" y="3371760"/>
            <a:ext cx="268632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72280" y="3371760"/>
            <a:ext cx="971280" cy="1159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43480" y="3371760"/>
            <a:ext cx="17136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3257640"/>
            <a:ext cx="57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43560" y="337176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43560" y="34876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43560" y="36590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en de album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743880" y="3544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15040" y="38307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29160" y="2857680"/>
            <a:ext cx="914400" cy="514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29160" y="2800440"/>
            <a:ext cx="228600" cy="571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00640" y="20574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actores de transcripción ba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6229440" y="2514600"/>
            <a:ext cx="4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2629080"/>
            <a:ext cx="22860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62924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57840" y="308628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3029040"/>
            <a:ext cx="857160" cy="34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57560" y="30862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A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71760" y="2629080"/>
            <a:ext cx="571680" cy="742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C/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172040" y="3371760"/>
            <a:ext cx="17136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71960" y="3371760"/>
            <a:ext cx="114480" cy="11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3371760"/>
            <a:ext cx="22860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57680" y="2571840"/>
            <a:ext cx="857160" cy="85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9520" y="2819520"/>
            <a:ext cx="74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Times New Roman"/>
              </a:rPr>
              <a:t>HNF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3371760"/>
            <a:ext cx="1143000" cy="11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514600" y="3200400"/>
            <a:ext cx="11448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400120" y="3200400"/>
            <a:ext cx="11412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8596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29280" y="4516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15280" y="4516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434484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343560" y="42307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867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-12.000p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819520"/>
            <a:ext cx="5335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75248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467120" y="31240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314840" y="30481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72400" y="3352680"/>
            <a:ext cx="914400" cy="15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153280" y="3657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96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h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5684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6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610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686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1055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giones “Enhancers” en el ADN se unen a  proteínas reguladoras de la transcrip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914400" y="30492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teínas reguladoras unidas a “enhancers” actúan a distancia induciendo la curvatura del ADN, para permitir su acercamiento al complejo promotor con la RNA polimerasa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547640" y="1844640"/>
          <a:ext cx="53294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44640"/>
                    <a:ext cx="53294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Arial"/>
              </a:rPr>
              <a:t>Cómo se activa un gen en un tipo de célula  y no en otro?</a:t>
            </a: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26920" y="1989000"/>
            <a:ext cx="3382920" cy="3468600"/>
            <a:chOff x="826920" y="1989000"/>
            <a:chExt cx="3382920" cy="3468600"/>
          </a:xfrm>
        </p:grpSpPr>
        <p:sp>
          <p:nvSpPr>
            <p:cNvPr id="362" name=""/>
            <p:cNvSpPr/>
            <p:nvPr/>
          </p:nvSpPr>
          <p:spPr>
            <a:xfrm>
              <a:off x="826920" y="1989000"/>
              <a:ext cx="338292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A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albúmina se expresan porque las células de hígad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6920" y="3717720"/>
              <a:ext cx="3382920" cy="173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cc0000"/>
                  </a:solidFill>
                  <a:latin typeface="Tahoma"/>
                  <a:ea typeface="Osaka"/>
                </a:rPr>
                <a:t>En el esquema B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  <a:ea typeface="Osaka"/>
                </a:rPr>
                <a:t>, los genes de la proteína cristalino se expresan porque las células de cristalino tienen los activadores necesarios para ese 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738680" y="1052640"/>
            <a:ext cx="4405320" cy="5503680"/>
            <a:chOff x="4738680" y="1052640"/>
            <a:chExt cx="4405320" cy="5503680"/>
          </a:xfrm>
        </p:grpSpPr>
        <p:graphicFrame>
          <p:nvGraphicFramePr>
            <p:cNvPr id="365" name=""/>
            <p:cNvGraphicFramePr/>
            <p:nvPr/>
          </p:nvGraphicFramePr>
          <p:xfrm>
            <a:off x="4738680" y="1052640"/>
            <a:ext cx="4359240" cy="550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8680" y="1052640"/>
                      <a:ext cx="4359240" cy="55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"/>
            <p:cNvSpPr/>
            <p:nvPr/>
          </p:nvSpPr>
          <p:spPr>
            <a:xfrm>
              <a:off x="5459400" y="1197000"/>
              <a:ext cx="1523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hepát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19760" y="1197000"/>
              <a:ext cx="152424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Núcleo de células de cristal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409920" y="0"/>
            <a:ext cx="5734080" cy="638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539640" y="2276640"/>
          <a:ext cx="2664000" cy="224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276640"/>
                    <a:ext cx="266400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4105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ulación de los genes de globina en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85080" y="11253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24360" y="620640"/>
            <a:ext cx="719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067280" y="692280"/>
            <a:ext cx="9363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  <a:ea typeface="Osak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IPOS DE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523880"/>
            <a:ext cx="3124080" cy="8254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XPRESIÓN A UN NIVEL CONS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905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NTITU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666880"/>
            <a:ext cx="320040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INACTIVOS QUE SE ACTIV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505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INDUC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572000"/>
            <a:ext cx="3276720" cy="1557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ENES ACTIVOS, PERO SE SILENCIAN BAJO CIERTAS COND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5410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REPRE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9810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581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55627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59108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609480"/>
            <a:ext cx="358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Regulación de la expresión de genes ocurre principalmente en la etapa de la </a:t>
            </a:r>
            <a:r>
              <a:rPr b="1" lang="es-ES_tradnl" sz="3200" spc="-1" strike="noStrike">
                <a:solidFill>
                  <a:srgbClr val="a50021"/>
                </a:solidFill>
                <a:latin typeface="Arial"/>
              </a:rPr>
              <a:t>transcrip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75248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0400" y="111240"/>
            <a:ext cx="8608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structura  de un promotor en procari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51320" y="4365720"/>
            <a:ext cx="4167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io de inicio de la transcri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1557360"/>
            <a:ext cx="9296280" cy="2210760"/>
            <a:chOff x="250920" y="1557360"/>
            <a:chExt cx="9296280" cy="2210760"/>
          </a:xfrm>
        </p:grpSpPr>
        <p:sp>
          <p:nvSpPr>
            <p:cNvPr id="119" name=""/>
            <p:cNvSpPr/>
            <p:nvPr/>
          </p:nvSpPr>
          <p:spPr>
            <a:xfrm>
              <a:off x="250920" y="25635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920" y="3249360"/>
              <a:ext cx="9144000" cy="0"/>
            </a:xfrm>
            <a:prstGeom prst="line">
              <a:avLst/>
            </a:prstGeom>
            <a:ln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45000" y="3309840"/>
              <a:ext cx="53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845560" y="3309840"/>
              <a:ext cx="701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73400" y="3309840"/>
              <a:ext cx="456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07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8264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5960" y="3309840"/>
              <a:ext cx="62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89800" y="2014560"/>
              <a:ext cx="1905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0" y="1785960"/>
              <a:ext cx="421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31160" y="1557360"/>
              <a:ext cx="10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38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38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ACT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56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8640" y="254772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8640" y="2852640"/>
              <a:ext cx="1282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TAT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30400" y="2090520"/>
              <a:ext cx="16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gión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89800" y="2563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7451640" y="3789000"/>
            <a:ext cx="0" cy="647640"/>
          </a:xfrm>
          <a:prstGeom prst="line">
            <a:avLst/>
          </a:prstGeom>
          <a:ln cap="sq"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480" y="800280"/>
            <a:ext cx="9624960" cy="3995640"/>
          </a:xfrm>
          <a:custGeom>
            <a:avLst/>
            <a:gdLst/>
            <a:ahLst/>
            <a:rect l="l" t="t" r="r" b="b"/>
            <a:pathLst>
              <a:path w="6063" h="2517">
                <a:moveTo>
                  <a:pt x="2026" y="431"/>
                </a:moveTo>
                <a:cubicBezTo>
                  <a:pt x="1870" y="408"/>
                  <a:pt x="1715" y="386"/>
                  <a:pt x="1481" y="341"/>
                </a:cubicBezTo>
                <a:cubicBezTo>
                  <a:pt x="1247" y="296"/>
                  <a:pt x="853" y="30"/>
                  <a:pt x="619" y="159"/>
                </a:cubicBezTo>
                <a:cubicBezTo>
                  <a:pt x="385" y="288"/>
                  <a:pt x="128" y="772"/>
                  <a:pt x="75" y="1112"/>
                </a:cubicBezTo>
                <a:cubicBezTo>
                  <a:pt x="22" y="1452"/>
                  <a:pt x="0" y="2004"/>
                  <a:pt x="302" y="2200"/>
                </a:cubicBezTo>
                <a:cubicBezTo>
                  <a:pt x="604" y="2396"/>
                  <a:pt x="1496" y="2321"/>
                  <a:pt x="1889" y="2291"/>
                </a:cubicBezTo>
                <a:cubicBezTo>
                  <a:pt x="2282" y="2261"/>
                  <a:pt x="2396" y="2057"/>
                  <a:pt x="2661" y="2019"/>
                </a:cubicBezTo>
                <a:cubicBezTo>
                  <a:pt x="2926" y="1981"/>
                  <a:pt x="3031" y="2011"/>
                  <a:pt x="3477" y="2064"/>
                </a:cubicBezTo>
                <a:cubicBezTo>
                  <a:pt x="3923" y="2117"/>
                  <a:pt x="4929" y="2517"/>
                  <a:pt x="5337" y="2336"/>
                </a:cubicBezTo>
                <a:cubicBezTo>
                  <a:pt x="5745" y="2155"/>
                  <a:pt x="5843" y="1339"/>
                  <a:pt x="5926" y="976"/>
                </a:cubicBezTo>
                <a:cubicBezTo>
                  <a:pt x="6009" y="613"/>
                  <a:pt x="6063" y="318"/>
                  <a:pt x="5836" y="159"/>
                </a:cubicBezTo>
                <a:cubicBezTo>
                  <a:pt x="5609" y="0"/>
                  <a:pt x="4921" y="0"/>
                  <a:pt x="4566" y="23"/>
                </a:cubicBezTo>
                <a:cubicBezTo>
                  <a:pt x="4211" y="46"/>
                  <a:pt x="3954" y="219"/>
                  <a:pt x="3704" y="295"/>
                </a:cubicBezTo>
                <a:cubicBezTo>
                  <a:pt x="3454" y="371"/>
                  <a:pt x="3356" y="454"/>
                  <a:pt x="3069" y="477"/>
                </a:cubicBezTo>
                <a:cubicBezTo>
                  <a:pt x="2782" y="500"/>
                  <a:pt x="2161" y="439"/>
                  <a:pt x="1980" y="431"/>
                </a:cubicBezTo>
              </a:path>
            </a:pathLst>
          </a:custGeom>
          <a:solidFill>
            <a:srgbClr val="33cccc">
              <a:alpha val="32000"/>
            </a:srgbClr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653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RNA polimer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4653000"/>
            <a:ext cx="21301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00"/>
                </a:solidFill>
                <a:latin typeface="Arial"/>
              </a:rPr>
              <a:t>Proteínas reguladoras de la transcri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ador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Ayudan a la RNA polimerasa a unirse con mayor fuerza al PRO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mento de la velocidad de    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íntesis de mR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presor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Impiden la transcripción por la RNA polim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minución de la velocidad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síntesis de 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3526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7150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00800" y="66294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533520"/>
            <a:ext cx="8229600" cy="6172200"/>
            <a:chOff x="152280" y="533520"/>
            <a:chExt cx="8229600" cy="6172200"/>
          </a:xfrm>
        </p:grpSpPr>
        <p:sp>
          <p:nvSpPr>
            <p:cNvPr id="147" name=""/>
            <p:cNvSpPr/>
            <p:nvPr/>
          </p:nvSpPr>
          <p:spPr>
            <a:xfrm flipH="1">
              <a:off x="1066320" y="213372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4120" y="1905120"/>
              <a:ext cx="167616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6200" y="190512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1905120"/>
              <a:ext cx="10666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638680" y="1599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1600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4800" y="914400"/>
              <a:ext cx="1295280" cy="9907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38680" y="8380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Ba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281952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9152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43800" y="2743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7220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20574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218960" y="190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1295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480" y="533520"/>
              <a:ext cx="266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CIÓN DE LA TRANSCRIP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143000" y="50292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4800600"/>
              <a:ext cx="1676520" cy="2286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4800600"/>
              <a:ext cx="1523880" cy="228600"/>
            </a:xfrm>
            <a:prstGeom prst="rect">
              <a:avLst/>
            </a:prstGeom>
            <a:solidFill>
              <a:srgbClr val="d8ee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5480" y="4800600"/>
              <a:ext cx="106704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715000" y="449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4495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38480" y="4114800"/>
              <a:ext cx="1524240" cy="76212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7339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cripción activ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57150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67480" y="4800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0120" y="5638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48520" y="5181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1911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mo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294920" y="4800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67080" y="4191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4038480"/>
              <a:ext cx="1600200" cy="91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28800" y="2590920"/>
              <a:ext cx="1219320" cy="838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0400" y="3276720"/>
              <a:ext cx="457200" cy="533160"/>
            </a:xfrm>
            <a:custGeom>
              <a:avLst/>
              <a:gdLst/>
              <a:ahLst/>
              <a:rect l="l" t="t" r="r" b="b"/>
              <a:pathLst>
                <a:path w="288" h="336">
                  <a:moveTo>
                    <a:pt x="0" y="0"/>
                  </a:moveTo>
                  <a:cubicBezTo>
                    <a:pt x="96" y="44"/>
                    <a:pt x="192" y="88"/>
                    <a:pt x="240" y="144"/>
                  </a:cubicBezTo>
                  <a:cubicBezTo>
                    <a:pt x="288" y="200"/>
                    <a:pt x="280" y="304"/>
                    <a:pt x="288" y="33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35053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CTIV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58672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60199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43600" y="617220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95880" y="6324480"/>
              <a:ext cx="152424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48520" y="6477120"/>
              <a:ext cx="1523880" cy="228600"/>
            </a:xfrm>
            <a:custGeom>
              <a:avLst/>
              <a:gdLst/>
              <a:ahLst/>
              <a:rect l="l" t="t" r="r" b="b"/>
              <a:pathLst>
                <a:path w="960" h="144">
                  <a:moveTo>
                    <a:pt x="0" y="48"/>
                  </a:moveTo>
                  <a:cubicBezTo>
                    <a:pt x="92" y="96"/>
                    <a:pt x="184" y="144"/>
                    <a:pt x="240" y="144"/>
                  </a:cubicBezTo>
                  <a:cubicBezTo>
                    <a:pt x="296" y="144"/>
                    <a:pt x="272" y="56"/>
                    <a:pt x="336" y="48"/>
                  </a:cubicBezTo>
                  <a:cubicBezTo>
                    <a:pt x="400" y="40"/>
                    <a:pt x="536" y="96"/>
                    <a:pt x="624" y="96"/>
                  </a:cubicBezTo>
                  <a:cubicBezTo>
                    <a:pt x="712" y="96"/>
                    <a:pt x="808" y="64"/>
                    <a:pt x="864" y="48"/>
                  </a:cubicBezTo>
                  <a:cubicBezTo>
                    <a:pt x="920" y="32"/>
                    <a:pt x="944" y="8"/>
                    <a:pt x="9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67280" y="1828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4724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280" y="152388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495680"/>
              <a:ext cx="106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H="1">
            <a:off x="990720" y="2057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82880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828800"/>
            <a:ext cx="114300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5627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1523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1066680"/>
            <a:ext cx="129564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762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4120" y="274320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48"/>
                </a:moveTo>
                <a:cubicBezTo>
                  <a:pt x="92" y="96"/>
                  <a:pt x="184" y="144"/>
                  <a:pt x="240" y="144"/>
                </a:cubicBezTo>
                <a:cubicBezTo>
                  <a:pt x="296" y="144"/>
                  <a:pt x="272" y="56"/>
                  <a:pt x="336" y="48"/>
                </a:cubicBezTo>
                <a:cubicBezTo>
                  <a:pt x="400" y="40"/>
                  <a:pt x="536" y="96"/>
                  <a:pt x="624" y="96"/>
                </a:cubicBezTo>
                <a:cubicBezTo>
                  <a:pt x="712" y="96"/>
                  <a:pt x="808" y="64"/>
                  <a:pt x="864" y="48"/>
                </a:cubicBezTo>
                <a:cubicBezTo>
                  <a:pt x="920" y="32"/>
                  <a:pt x="944" y="8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15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2666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1828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105520"/>
            <a:ext cx="1676520" cy="2286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5105520"/>
            <a:ext cx="1219320" cy="228600"/>
          </a:xfrm>
          <a:prstGeom prst="rect">
            <a:avLst/>
          </a:prstGeom>
          <a:solidFill>
            <a:srgbClr val="d8ee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5105520"/>
            <a:ext cx="10666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486400" y="480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43400"/>
            <a:ext cx="129528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886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066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RNA 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5105520"/>
            <a:ext cx="7617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99036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p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5680" y="3962520"/>
            <a:ext cx="60984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971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IÓN DE LA TRAN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457200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943240" y="449568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1828800"/>
            <a:ext cx="533520" cy="22860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2895480"/>
            <a:ext cx="609840" cy="1219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304812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0" y="0"/>
                </a:moveTo>
                <a:cubicBezTo>
                  <a:pt x="140" y="0"/>
                  <a:pt x="280" y="0"/>
                  <a:pt x="384" y="48"/>
                </a:cubicBezTo>
                <a:cubicBezTo>
                  <a:pt x="488" y="96"/>
                  <a:pt x="584" y="248"/>
                  <a:pt x="624" y="288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l operón lactosa en bacte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2193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ene los genes de las enzimas que permiten hidrolizar el disacárido lact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86200" y="1057320"/>
            <a:ext cx="4362480" cy="58006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12000" y="3860640"/>
            <a:ext cx="2447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Osaka"/>
              </a:rPr>
              <a:t>galactosid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18:46:15Z</dcterms:created>
  <dc:creator>Oriana Salazar</dc:creator>
  <dc:description/>
  <dc:language>en-US</dc:language>
  <cp:lastModifiedBy>Oriana</cp:lastModifiedBy>
  <dcterms:modified xsi:type="dcterms:W3CDTF">2009-01-26T04:50:27Z</dcterms:modified>
  <cp:revision>218</cp:revision>
  <dc:subject/>
  <dc:title>Presentación de PowerPoint</dc:title>
</cp:coreProperties>
</file>