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810-26A8-4C58-9763-793A22A5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4F4-ADD2-451D-9A1F-EC3B5EC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CDB-8AB3-4501-BC62-CF55BD3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355-A95B-44C3-BB8E-D3A2297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2F28-8DE7-4896-A9C1-42EF435E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883-446B-4C6F-8A39-7BF726B7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120-1F30-4A49-BD6A-56928B10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2F8-49E1-4CC6-8669-66EC5FD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1212-7F58-4F2E-82F0-0A62164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FEA9-7076-47F0-AAE0-D8184A1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D83-58C1-4586-85AA-615C236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99D-C360-41C1-B56D-37324B62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279-D7E3-491F-BD26-6CA0870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8D4-E5AD-4125-9157-C2D6143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E83-5AB3-4519-8C11-3FE88B6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0124-7ED2-4738-81BF-3D6BFAC5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08BD-6F53-4E46-8619-2A766494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085-FCF6-4F5A-86E2-C647142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B33-C31C-447B-BBAF-C9CEF04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787-5248-4574-A3CE-1CBA453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18E-F811-47D8-B884-14C4142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9D0-567A-49C6-969A-C8D11B4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FE6-2955-4DB6-A373-397955E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B35-FDA2-4C24-A3C3-F3F6FC5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AD9-2FC9-4CC0-A556-345929045C9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537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l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6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80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62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65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51320" y="4365720"/>
            <a:ext cx="4167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i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19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80" y="800280"/>
            <a:ext cx="9624960" cy="3995640"/>
          </a:xfrm>
          <a:custGeom>
            <a:avLst/>
            <a:gdLst/>
            <a:ahLst/>
            <a:rect l="l" t="t" r="r" b="b"/>
            <a:pathLst>
              <a:path w="6063" h="2517">
                <a:moveTo>
                  <a:pt x="2026" y="431"/>
                </a:moveTo>
                <a:cubicBezTo>
                  <a:pt x="1870" y="408"/>
                  <a:pt x="1715" y="386"/>
                  <a:pt x="1481" y="341"/>
                </a:cubicBezTo>
                <a:cubicBezTo>
                  <a:pt x="1247" y="296"/>
                  <a:pt x="853" y="30"/>
                  <a:pt x="619" y="159"/>
                </a:cubicBezTo>
                <a:cubicBezTo>
                  <a:pt x="385" y="288"/>
                  <a:pt x="128" y="772"/>
                  <a:pt x="75" y="1112"/>
                </a:cubicBezTo>
                <a:cubicBezTo>
                  <a:pt x="22" y="1452"/>
                  <a:pt x="0" y="2004"/>
                  <a:pt x="302" y="2200"/>
                </a:cubicBezTo>
                <a:cubicBezTo>
                  <a:pt x="604" y="2396"/>
                  <a:pt x="1496" y="2321"/>
                  <a:pt x="1889" y="2291"/>
                </a:cubicBezTo>
                <a:cubicBezTo>
                  <a:pt x="2282" y="2261"/>
                  <a:pt x="2396" y="2057"/>
                  <a:pt x="2661" y="2019"/>
                </a:cubicBezTo>
                <a:cubicBezTo>
                  <a:pt x="2926" y="1981"/>
                  <a:pt x="3031" y="2011"/>
                  <a:pt x="3477" y="2064"/>
                </a:cubicBezTo>
                <a:cubicBezTo>
                  <a:pt x="3923" y="2117"/>
                  <a:pt x="4929" y="2517"/>
                  <a:pt x="5337" y="2336"/>
                </a:cubicBezTo>
                <a:cubicBezTo>
                  <a:pt x="5745" y="2155"/>
                  <a:pt x="5843" y="1339"/>
                  <a:pt x="5926" y="976"/>
                </a:cubicBezTo>
                <a:cubicBezTo>
                  <a:pt x="6009" y="613"/>
                  <a:pt x="6063" y="318"/>
                  <a:pt x="5836" y="159"/>
                </a:cubicBezTo>
                <a:cubicBezTo>
                  <a:pt x="5609" y="0"/>
                  <a:pt x="4921" y="0"/>
                  <a:pt x="4566" y="23"/>
                </a:cubicBezTo>
                <a:cubicBezTo>
                  <a:pt x="4211" y="46"/>
                  <a:pt x="3954" y="219"/>
                  <a:pt x="3704" y="295"/>
                </a:cubicBezTo>
                <a:cubicBezTo>
                  <a:pt x="3454" y="371"/>
                  <a:pt x="3356" y="454"/>
                  <a:pt x="3069" y="477"/>
                </a:cubicBezTo>
                <a:cubicBezTo>
                  <a:pt x="2782" y="500"/>
                  <a:pt x="2161" y="439"/>
                  <a:pt x="1980" y="431"/>
                </a:cubicBezTo>
              </a:path>
            </a:pathLst>
          </a:custGeom>
          <a:solidFill>
            <a:srgbClr val="33cccc">
              <a:alpha val="32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653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RNA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21301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47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alactosid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Oriana</cp:lastModifiedBy>
  <dcterms:modified xsi:type="dcterms:W3CDTF">2009-01-26T04:50:27Z</dcterms:modified>
  <cp:revision>218</cp:revision>
  <dc:subject/>
  <dc:title>Presentación de PowerPoint</dc:title>
</cp:coreProperties>
</file>