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0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0.wmf" ContentType="image/x-wmf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6044-7B1B-42DA-9DE7-0908F7B6C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752-86BC-4EB3-A4B8-08FA79A41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B9F-6102-48A3-9596-96AC88E9C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F941-02E6-4DA4-831B-BCCDBBEB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94E2-BBDD-4F40-A37A-01122CAF8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DD94-A146-4D74-A812-FDF2C2A6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37FA-577E-4B24-B84B-B7BA209C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55BA-0431-48CD-9565-300F5A70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9134A-6EF1-406D-A6A7-2B7D6D94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FE98B-1D00-4D6E-943C-EB50E4D4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051C6-4938-4EDA-AEB1-29A69902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04E-6E94-4744-A548-2F203D98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34CDC-8169-427C-A504-09B3BE941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24F91-BC62-441F-BF14-B9369141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4F7FC-E447-4CFB-A570-92C90265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4E55-01B1-4BE4-B0F0-D35CE93D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64D6-E922-41A1-AFA7-D0437FCB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3C10-70D1-452A-8515-D7958A2D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AE0A-3CF0-42A7-BF7A-D86FACF3F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3A82-F4FD-4614-A8CE-C3A840ED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7859-082C-4F84-BADD-590E9AD4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C96-73AA-4DC7-9ABD-E70CA497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DF1C-F10F-42BF-875B-549CBBF3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0746-12B8-4F4F-8D20-DD3C9835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926F-159E-4DAC-A7BE-ED9EEB276E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"/>
            <p:cNvSpPr/>
            <p:nvPr/>
          </p:nvSpPr>
          <p:spPr>
            <a:xfrm>
              <a:off x="264600" y="591480"/>
              <a:ext cx="634320" cy="85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53AD-3973-4D49-8058-77F110BBBC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9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lase 1</a:t>
            </a:r>
            <a:br>
              <a:rPr sz="4400"/>
            </a:b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13 Ene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Dra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88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6002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partes del A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876920" y="3048120"/>
            <a:ext cx="3429000" cy="3809520"/>
            <a:chOff x="4876920" y="3048120"/>
            <a:chExt cx="3429000" cy="3809520"/>
          </a:xfrm>
        </p:grpSpPr>
        <p:graphicFrame>
          <p:nvGraphicFramePr>
            <p:cNvPr id="172" name=""/>
            <p:cNvGraphicFramePr/>
            <p:nvPr/>
          </p:nvGraphicFramePr>
          <p:xfrm>
            <a:off x="4876920" y="3448800"/>
            <a:ext cx="2825640" cy="340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6920" y="3448800"/>
                      <a:ext cx="2825640" cy="340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4" name=""/>
            <p:cNvSpPr/>
            <p:nvPr/>
          </p:nvSpPr>
          <p:spPr>
            <a:xfrm>
              <a:off x="4876920" y="304812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BASES NITROGEN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72560" y="3649680"/>
              <a:ext cx="72504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525360" y="3649680"/>
              <a:ext cx="105516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1447920" y="914400"/>
            <a:ext cx="5852880" cy="20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"/>
          <p:cNvGraphicFramePr/>
          <p:nvPr/>
        </p:nvGraphicFramePr>
        <p:xfrm>
          <a:off x="380880" y="3733920"/>
          <a:ext cx="3753000" cy="23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3733920"/>
                    <a:ext cx="37530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CF9A-6C8F-4FFB-AB5D-801424DE65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914400" y="0"/>
          <a:ext cx="746748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46748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2" name=""/>
          <p:cNvSpPr/>
          <p:nvPr/>
        </p:nvSpPr>
        <p:spPr>
          <a:xfrm>
            <a:off x="4419720" y="1752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62520" y="2220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220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09680" y="925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33720" y="1676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li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0"/>
            <a:ext cx="5499000" cy="3238560"/>
          </a:xfrm>
          <a:custGeom>
            <a:avLst/>
            <a:gdLst/>
            <a:ahLst/>
            <a:rect l="l" t="t" r="r" b="b"/>
            <a:pathLst>
              <a:path w="3464" h="2040">
                <a:moveTo>
                  <a:pt x="960" y="400"/>
                </a:moveTo>
                <a:cubicBezTo>
                  <a:pt x="836" y="420"/>
                  <a:pt x="712" y="440"/>
                  <a:pt x="576" y="496"/>
                </a:cubicBezTo>
                <a:cubicBezTo>
                  <a:pt x="440" y="552"/>
                  <a:pt x="232" y="608"/>
                  <a:pt x="144" y="736"/>
                </a:cubicBezTo>
                <a:cubicBezTo>
                  <a:pt x="56" y="864"/>
                  <a:pt x="0" y="1104"/>
                  <a:pt x="48" y="1264"/>
                </a:cubicBezTo>
                <a:cubicBezTo>
                  <a:pt x="96" y="1424"/>
                  <a:pt x="184" y="1640"/>
                  <a:pt x="432" y="1696"/>
                </a:cubicBezTo>
                <a:cubicBezTo>
                  <a:pt x="680" y="1752"/>
                  <a:pt x="1264" y="1576"/>
                  <a:pt x="1536" y="1600"/>
                </a:cubicBezTo>
                <a:cubicBezTo>
                  <a:pt x="1808" y="1624"/>
                  <a:pt x="1896" y="1776"/>
                  <a:pt x="2064" y="1840"/>
                </a:cubicBezTo>
                <a:cubicBezTo>
                  <a:pt x="2232" y="1904"/>
                  <a:pt x="2424" y="2040"/>
                  <a:pt x="2544" y="1984"/>
                </a:cubicBezTo>
                <a:cubicBezTo>
                  <a:pt x="2664" y="1928"/>
                  <a:pt x="2648" y="1672"/>
                  <a:pt x="2784" y="1504"/>
                </a:cubicBezTo>
                <a:cubicBezTo>
                  <a:pt x="2920" y="1336"/>
                  <a:pt x="3256" y="1200"/>
                  <a:pt x="3360" y="976"/>
                </a:cubicBezTo>
                <a:cubicBezTo>
                  <a:pt x="3464" y="752"/>
                  <a:pt x="3456" y="320"/>
                  <a:pt x="3408" y="160"/>
                </a:cubicBezTo>
                <a:cubicBezTo>
                  <a:pt x="3360" y="0"/>
                  <a:pt x="3336" y="8"/>
                  <a:pt x="3072" y="16"/>
                </a:cubicBezTo>
                <a:cubicBezTo>
                  <a:pt x="2808" y="24"/>
                  <a:pt x="2184" y="144"/>
                  <a:pt x="1824" y="208"/>
                </a:cubicBezTo>
                <a:cubicBezTo>
                  <a:pt x="1464" y="272"/>
                  <a:pt x="1188" y="336"/>
                  <a:pt x="912" y="40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3678600">
            <a:off x="6286320" y="7236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F158-1E1E-41C9-9045-BC75E9D7BA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250920"/>
            <a:ext cx="7162920" cy="62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F02F-F9AB-4A05-AC7A-A199D5B30D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EL ADN es una doble hé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76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F8E-7D3F-4D18-BE37-DDF974DFD7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El material genético: los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280120" y="1676520"/>
            <a:ext cx="3584520" cy="38862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962160" cy="35118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80880" y="5943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pro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10080" y="57913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Células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927-B1D4-4759-B96D-CB32BE27E2C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362320" y="6172200"/>
            <a:ext cx="1066680" cy="304920"/>
          </a:xfrm>
          <a:prstGeom prst="rect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6172200"/>
            <a:ext cx="990720" cy="380880"/>
          </a:xfrm>
          <a:prstGeom prst="rect">
            <a:avLst/>
          </a:pr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52280"/>
            <a:ext cx="129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URAC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67480" y="0"/>
            <a:ext cx="129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38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46748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4380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TI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445-DA41-4647-869B-19838FF817A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429000" cy="3367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429000" cy="3244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438280" y="419112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0" y="411480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5105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467480" y="2362320"/>
            <a:ext cx="60984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438280"/>
            <a:ext cx="609480" cy="5335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252-8707-4FEE-9AB6-F00B8924E7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res tipos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NA mensajero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748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2000" y="5486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de transferencia (t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0480" y="594216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ribosomal (r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979640" cy="24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4114800" y="1600200"/>
          <a:ext cx="240984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00200"/>
                    <a:ext cx="24098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F16-76C7-4DF0-B059-A5A198552FF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5909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Genes (AD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419112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Proteí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(función en catálisis y estructu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1981080"/>
            <a:ext cx="457200" cy="198144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33520" cy="34765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62120" y="2438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presión de los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25F-37C6-46EB-B5B3-4BE9620C2E1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50920" y="1344600"/>
            <a:ext cx="8381880" cy="53085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19120" y="21067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209680"/>
            <a:ext cx="228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RE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143000" y="3200400"/>
            <a:ext cx="285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3880" y="4952880"/>
            <a:ext cx="2318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638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1500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781680" y="1447920"/>
            <a:ext cx="175284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447920"/>
            <a:ext cx="21333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3868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Proceso de expresión de los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10E5-066D-4713-B80D-04AA2B772F8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Qué es la Biotecnolo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9116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A3B3-188F-421F-AE85-2A6702D141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4" name=""/>
          <p:cNvGrpSpPr/>
          <p:nvPr/>
        </p:nvGrpSpPr>
        <p:grpSpPr>
          <a:xfrm>
            <a:off x="0" y="1219320"/>
            <a:ext cx="9144000" cy="4449600"/>
            <a:chOff x="0" y="1219320"/>
            <a:chExt cx="9144000" cy="4449600"/>
          </a:xfrm>
        </p:grpSpPr>
        <p:pic>
          <p:nvPicPr>
            <p:cNvPr id="245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914400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47920" y="1343160"/>
              <a:ext cx="60195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99"/>
                  </a:solidFill>
                  <a:latin typeface="Arial"/>
                </a:rPr>
                <a:t>TRANSCRIPCION: SINTESIS DE AR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00800" y="4238640"/>
              <a:ext cx="2743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Cadena de ARN crec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7120" y="2105280"/>
              <a:ext cx="2666880" cy="77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Hebra de DNA mo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95480" y="4695840"/>
              <a:ext cx="3048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Dirección de la síntesis de A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E9BE-0478-4C2C-AEA1-CC60872278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2438280" y="0"/>
          <a:ext cx="6270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627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2438280" y="1828800"/>
            <a:ext cx="62485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hebra inferior del DNA es el molde para la síntesis de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La RNA polimerasa hace una copia de la secuencia de DNA pero substituyendo timidina (T) por uridina 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43200" y="4952880"/>
            <a:ext cx="556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76720" y="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Transcripción del 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0880" y="3505320"/>
            <a:ext cx="22100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hebra inferior del dúplex es usada como molde para sintetizar el RNA. Sin embargo, la secuencia de bases del RNA es la misma que la de la hebra superior, con U en lugar de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49528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182880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ttp://www-class.unl.edu/biochem/gp2/m_biology/animation/gene/gene_a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8DB6-CDB6-4CB7-A034-3796B432BFB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pro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868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4A9D-FE32-47F0-B2CB-EDD3D777D8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eu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914400" y="1905120"/>
          <a:ext cx="73152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6CDE-57E8-463E-8C6B-2C6ACD7E01E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352680" y="369720"/>
            <a:ext cx="5589720" cy="6488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0" y="175248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enes de eucariontes son interrumpidos por secuencias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o codificantes (intr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1676520"/>
            <a:ext cx="2209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934320" y="5486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RNA mad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FE78-80C6-49AE-B27A-D07B89540A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76212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5F8-61B0-4C1A-8830-38B564A2194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990720" y="1585800"/>
            <a:ext cx="7924680" cy="52722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procariontes la transcripción y la traducción están acoplados en el tiempo y en el espaci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1840-F149-42F6-9DE6-F808260C87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Genes de procariontes están asociados en </a:t>
            </a:r>
            <a:r>
              <a:rPr b="1" lang="es-CL" sz="4000" spc="-1" strike="noStrike" u="sng">
                <a:solidFill>
                  <a:srgbClr val="000000"/>
                </a:solidFill>
                <a:uFillTx/>
                <a:latin typeface="Arial"/>
              </a:rPr>
              <a:t>op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066680" y="1981080"/>
          <a:ext cx="716292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E97C-6A3B-4755-BB05-3FF7C62D75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66"/>
                </a:solidFill>
                <a:latin typeface="Arial"/>
              </a:rPr>
              <a:t>Operón lactosa de </a:t>
            </a:r>
            <a:r>
              <a:rPr b="1" i="1" lang="es-CL" sz="4000" spc="-1" strike="noStrike">
                <a:solidFill>
                  <a:srgbClr val="000066"/>
                </a:solidFill>
                <a:latin typeface="Arial"/>
              </a:rPr>
              <a:t>E. coli</a:t>
            </a:r>
            <a:br>
              <a:rPr sz="4000"/>
            </a:br>
            <a:r>
              <a:rPr b="1" i="1" lang="es-CL" sz="2400" spc="-1" strike="noStrike">
                <a:solidFill>
                  <a:srgbClr val="000066"/>
                </a:solidFill>
                <a:latin typeface="Arial"/>
              </a:rPr>
              <a:t>contiene genes de enzimas que degradan el dímero lacto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2209680"/>
            <a:ext cx="6782040" cy="4152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F966-173B-4C25-9FB0-C597F71201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09480" y="152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 DE EXPRESIÓN GÉNICA: DIFERENCIAS ENTRE PROCARIONTES Y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DF9F-E789-44B3-8C60-3BBCE5F4FE2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8120" y="2743200"/>
            <a:ext cx="2438280" cy="1523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1240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Ingenierí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172200" y="2971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2981000">
            <a:off x="5257440" y="17524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194000">
            <a:off x="5409720" y="449532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481400">
            <a:off x="3200040" y="45720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539200">
            <a:off x="2245680" y="2855520"/>
            <a:ext cx="382680" cy="1065240"/>
          </a:xfrm>
          <a:prstGeom prst="downArrow">
            <a:avLst>
              <a:gd name="adj1" fmla="val 50000"/>
              <a:gd name="adj2" fmla="val 6959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143000"/>
            <a:ext cx="2209680" cy="91440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295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roteínas recombi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590920"/>
            <a:ext cx="1828800" cy="152388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819520"/>
            <a:ext cx="190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Modificación genética de vías metabólicas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1600200" cy="15238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334120"/>
            <a:ext cx="2133360" cy="121896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486400"/>
            <a:ext cx="1981080" cy="12193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nimales y plantas transgé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Aplicaciones de Ingeniería genética para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ABED-A5E8-4251-A1F1-78B4F2E74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emari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ses moleculares de la genética (Prof Oriana Salaza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écnicas de Ingeniería Genética (Prof. Paola Barb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 de Ing. Genética (Prof. Oriana Salaz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Osaka"/>
              </a:rPr>
              <a:t>En esta cl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son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gen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y dónde está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es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AD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(o DNA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Cóm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funciona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2768-9C5A-497D-A965-5DF5A820F0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457200"/>
          <a:ext cx="7561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561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124080"/>
          <a:ext cx="175284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124080"/>
                    <a:ext cx="175284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895480"/>
          <a:ext cx="1628640" cy="308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419720" y="2895480"/>
          <a:ext cx="1628640" cy="308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3048120"/>
          <a:ext cx="1752480" cy="28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048120"/>
                    <a:ext cx="1752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486400" y="5715000"/>
          <a:ext cx="311472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715000"/>
                    <a:ext cx="311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066680" y="8380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mic Sans MS"/>
                <a:ea typeface="Osaka"/>
              </a:rPr>
              <a:t>Streptococcus pneumonia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13372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20574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  <a:ea typeface="Osaka"/>
              </a:rPr>
              <a:t>No causan neumo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C6DB-396E-49AF-89DC-9661D32F2D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352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Definición de un </a:t>
            </a:r>
            <a:r>
              <a:rPr b="1" lang="es-ES_tradnl" sz="3600" spc="-1" strike="noStrike">
                <a:solidFill>
                  <a:srgbClr val="cc0000"/>
                </a:solidFill>
                <a:latin typeface="Arial"/>
                <a:ea typeface="Osaka"/>
              </a:rPr>
              <a:t>“principio transformante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  <a:ea typeface="Osak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2819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Griff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14600" y="26668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133720" y="3962520"/>
            <a:ext cx="5715000" cy="1371600"/>
            <a:chOff x="2133720" y="3962520"/>
            <a:chExt cx="5715000" cy="1371600"/>
          </a:xfrm>
        </p:grpSpPr>
        <p:sp>
          <p:nvSpPr>
            <p:cNvPr id="132" name=""/>
            <p:cNvSpPr/>
            <p:nvPr/>
          </p:nvSpPr>
          <p:spPr>
            <a:xfrm>
              <a:off x="2133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R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720" y="411480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  <a:ea typeface="Osaka"/>
                </a:rPr>
                <a:t>neumococos 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495680" y="3962520"/>
              <a:ext cx="914400" cy="761760"/>
            </a:xfrm>
            <a:prstGeom prst="rightArrow">
              <a:avLst>
                <a:gd name="adj1" fmla="val 50000"/>
                <a:gd name="adj2" fmla="val 30009"/>
              </a:avLst>
            </a:prstGeom>
            <a:solidFill>
              <a:srgbClr val="ff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514600" y="5029200"/>
              <a:ext cx="762120" cy="304920"/>
              <a:chOff x="2514600" y="5029200"/>
              <a:chExt cx="762120" cy="304920"/>
            </a:xfrm>
          </p:grpSpPr>
          <p:sp>
            <p:nvSpPr>
              <p:cNvPr id="136" name=""/>
              <p:cNvSpPr/>
              <p:nvPr/>
            </p:nvSpPr>
            <p:spPr>
              <a:xfrm>
                <a:off x="2514600" y="5029200"/>
                <a:ext cx="38088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895480" y="5029200"/>
                <a:ext cx="381240" cy="304920"/>
              </a:xfrm>
              <a:prstGeom prst="ellipse">
                <a:avLst/>
              </a:prstGeom>
              <a:solidFill>
                <a:srgbClr val="ff66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5943600" y="4876920"/>
              <a:ext cx="762120" cy="304560"/>
              <a:chOff x="5943600" y="4876920"/>
              <a:chExt cx="762120" cy="304560"/>
            </a:xfrm>
          </p:grpSpPr>
          <p:sp>
            <p:nvSpPr>
              <p:cNvPr id="139" name=""/>
              <p:cNvSpPr/>
              <p:nvPr/>
            </p:nvSpPr>
            <p:spPr>
              <a:xfrm>
                <a:off x="5943600" y="4876920"/>
                <a:ext cx="38088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4480" y="4876920"/>
                <a:ext cx="381240" cy="304560"/>
              </a:xfrm>
              <a:prstGeom prst="ellipse">
                <a:avLst/>
              </a:prstGeom>
              <a:solidFill>
                <a:srgbClr val="008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5791320" y="4724280"/>
              <a:ext cx="1218960" cy="609840"/>
            </a:xfrm>
            <a:prstGeom prst="ellipse">
              <a:avLst/>
            </a:prstGeom>
            <a:noFill/>
            <a:ln cap="sq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4F64-EAD7-4FFF-A048-3346EAB0F3D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90720" y="228600"/>
          <a:ext cx="766584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665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"/>
          <p:cNvGraphicFramePr/>
          <p:nvPr/>
        </p:nvGraphicFramePr>
        <p:xfrm>
          <a:off x="6334200" y="3276720"/>
          <a:ext cx="280980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4200" y="3276720"/>
                    <a:ext cx="28098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4114800" y="5943600"/>
          <a:ext cx="23907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943600"/>
                    <a:ext cx="2390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05320" y="3200400"/>
          <a:ext cx="3352680" cy="234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200400"/>
                    <a:ext cx="335268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457200" y="3200400"/>
          <a:ext cx="3048120" cy="23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200400"/>
                    <a:ext cx="304812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91E-38B6-41D2-BED0-63323ACDDE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DEFINIENDO AL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16002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s de una defini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efinición clásica</a:t>
            </a:r>
            <a:r>
              <a:rPr b="0" lang="es-ES_tradnl" sz="3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(Men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molecular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 gen es a un segmento lineal de ADN que contiene la información para sintetizar una molécula funcional, ya sea una proteína o un 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8195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6095880"/>
            <a:ext cx="7391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Arial"/>
              </a:rPr>
              <a:t>Los genes están contenidos en el AD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533520"/>
            <a:ext cx="5791320" cy="9144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010280" y="838080"/>
            <a:ext cx="17748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2057400" cy="16462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514600" y="3962520"/>
            <a:ext cx="609480" cy="457200"/>
          </a:xfrm>
          <a:prstGeom prst="leftArrow">
            <a:avLst>
              <a:gd name="adj1" fmla="val 50000"/>
              <a:gd name="adj2" fmla="val 33327"/>
            </a:avLst>
          </a:prstGeom>
          <a:solidFill>
            <a:srgbClr val="0033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033-1B7B-4475-BDF2-ED74445947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5134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lementos de la estructura de un 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1980000"/>
            <a:ext cx="281952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638680" y="1980000"/>
            <a:ext cx="312444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TER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3657600"/>
            <a:ext cx="266724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5268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20574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Promotor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96080" y="2133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Osaka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Osaka"/>
              </a:rPr>
              <a:t>Termin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5419-5623-4835-ACF0-710D3C06EE7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Ing Quimica</cp:lastModifiedBy>
  <dcterms:modified xsi:type="dcterms:W3CDTF">2009-01-13T13:25:19Z</dcterms:modified>
  <cp:revision>339</cp:revision>
  <dc:subject/>
  <dc:title>Genes: Qué son y dónde están?</dc:title>
</cp:coreProperties>
</file>