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0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E22-20A0-4D02-B967-6A148907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0A1-565D-4996-B4EF-DF28E154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C58-56EC-4A52-915B-EB2688C5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D76-B0C4-4F3C-90DA-26C688AC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5514-1666-42D1-8999-99625BBE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4E97-B82C-4F98-A69C-C1C65AB8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3FFC-A4D6-4062-97C5-E89860AD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CAA1-2422-49DD-98AE-1E32443E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DC12-8632-43E4-8190-69F1291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7847-765E-4B3B-9BD0-17AA7836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BD06-E736-4515-B3C0-A515456A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A3F-7E47-4A54-9040-6C3AA8CD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39A8-358B-4CE7-85DC-2B1905F3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2017-8855-4B7D-BE0A-EF4D6004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22D4-5E32-40DB-A4B5-1C5C287C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F906-EBB3-436C-954A-819CDF1E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5DB7-B4B3-4ADC-B6AB-538FE772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D71-ADAF-48BD-A6C8-66C83EF4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67A-DF41-4B07-8735-72900FC5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085-20C4-4D70-B022-8B76862F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775-16F4-4521-B124-8F3CCC6C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406-6ED1-4D24-AB4A-8096415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B66-0C86-46F2-BC8D-D0916613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7D5-8AC6-4150-A8EF-7B99D848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6180-093C-40B8-B5BC-F86CC7F73C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0"/>
            <a:ext cx="677880" cy="1523880"/>
            <a:chOff x="228600" y="0"/>
            <a:chExt cx="677880" cy="1523880"/>
          </a:xfrm>
        </p:grpSpPr>
        <p:sp>
          <p:nvSpPr>
            <p:cNvPr id="6" name=""/>
            <p:cNvSpPr/>
            <p:nvPr/>
          </p:nvSpPr>
          <p:spPr>
            <a:xfrm>
              <a:off x="264600" y="591480"/>
              <a:ext cx="634320" cy="85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6778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9AC0-D052-409F-A6B2-386BE2147A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2009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lase 1</a:t>
            </a:r>
            <a:br>
              <a:rPr sz="4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3 Ene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Dra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88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002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partes del A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876920" y="3048120"/>
            <a:ext cx="3429000" cy="3809520"/>
            <a:chOff x="4876920" y="3048120"/>
            <a:chExt cx="3429000" cy="3809520"/>
          </a:xfrm>
        </p:grpSpPr>
        <p:graphicFrame>
          <p:nvGraphicFramePr>
            <p:cNvPr id="172" name=""/>
            <p:cNvGraphicFramePr/>
            <p:nvPr/>
          </p:nvGraphicFramePr>
          <p:xfrm>
            <a:off x="4876920" y="3448800"/>
            <a:ext cx="2825640" cy="340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3448800"/>
                      <a:ext cx="2825640" cy="340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4876920" y="30481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BASES NITROGEN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72560" y="3649680"/>
              <a:ext cx="72504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5360" y="3649680"/>
              <a:ext cx="105516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447920" y="914400"/>
            <a:ext cx="5852880" cy="20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380880" y="3733920"/>
          <a:ext cx="3753000" cy="23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733920"/>
                    <a:ext cx="37530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3734-B31D-4548-91F9-A3AFB70D1B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914400" y="0"/>
          <a:ext cx="7467480" cy="68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467480" cy="68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419720" y="17524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22208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220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925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1676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oli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0"/>
            <a:ext cx="5499000" cy="3238560"/>
          </a:xfrm>
          <a:custGeom>
            <a:avLst/>
            <a:gdLst/>
            <a:ahLst/>
            <a:rect l="l" t="t" r="r" b="b"/>
            <a:pathLst>
              <a:path w="3464" h="2040">
                <a:moveTo>
                  <a:pt x="960" y="400"/>
                </a:moveTo>
                <a:cubicBezTo>
                  <a:pt x="836" y="420"/>
                  <a:pt x="712" y="440"/>
                  <a:pt x="576" y="496"/>
                </a:cubicBezTo>
                <a:cubicBezTo>
                  <a:pt x="440" y="552"/>
                  <a:pt x="232" y="608"/>
                  <a:pt x="144" y="736"/>
                </a:cubicBezTo>
                <a:cubicBezTo>
                  <a:pt x="56" y="864"/>
                  <a:pt x="0" y="1104"/>
                  <a:pt x="48" y="1264"/>
                </a:cubicBezTo>
                <a:cubicBezTo>
                  <a:pt x="96" y="1424"/>
                  <a:pt x="184" y="1640"/>
                  <a:pt x="432" y="1696"/>
                </a:cubicBezTo>
                <a:cubicBezTo>
                  <a:pt x="680" y="1752"/>
                  <a:pt x="1264" y="1576"/>
                  <a:pt x="1536" y="1600"/>
                </a:cubicBezTo>
                <a:cubicBezTo>
                  <a:pt x="1808" y="1624"/>
                  <a:pt x="1896" y="1776"/>
                  <a:pt x="2064" y="1840"/>
                </a:cubicBezTo>
                <a:cubicBezTo>
                  <a:pt x="2232" y="1904"/>
                  <a:pt x="2424" y="2040"/>
                  <a:pt x="2544" y="1984"/>
                </a:cubicBezTo>
                <a:cubicBezTo>
                  <a:pt x="2664" y="1928"/>
                  <a:pt x="2648" y="1672"/>
                  <a:pt x="2784" y="1504"/>
                </a:cubicBezTo>
                <a:cubicBezTo>
                  <a:pt x="2920" y="1336"/>
                  <a:pt x="3256" y="1200"/>
                  <a:pt x="3360" y="976"/>
                </a:cubicBezTo>
                <a:cubicBezTo>
                  <a:pt x="3464" y="752"/>
                  <a:pt x="3456" y="320"/>
                  <a:pt x="3408" y="160"/>
                </a:cubicBezTo>
                <a:cubicBezTo>
                  <a:pt x="3360" y="0"/>
                  <a:pt x="3336" y="8"/>
                  <a:pt x="3072" y="16"/>
                </a:cubicBezTo>
                <a:cubicBezTo>
                  <a:pt x="2808" y="24"/>
                  <a:pt x="2184" y="144"/>
                  <a:pt x="1824" y="208"/>
                </a:cubicBezTo>
                <a:cubicBezTo>
                  <a:pt x="1464" y="272"/>
                  <a:pt x="1188" y="336"/>
                  <a:pt x="912" y="40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28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3678600">
            <a:off x="6286320" y="72360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52A-426B-4115-9456-98DCA19F9E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250920"/>
            <a:ext cx="7162920" cy="621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483-BC59-41E6-AE89-39E26AA43B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EL ADN es una doble hé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76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76B-C2CC-4F6A-ADC7-4C2463DC12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El material genético: los cromos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280120" y="1676520"/>
            <a:ext cx="3584520" cy="3886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962160" cy="351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5943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Osaka"/>
              </a:rPr>
              <a:t>Células pro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Células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647-8F3F-4FEE-8B64-68A330D589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362320" y="6172200"/>
            <a:ext cx="1066680" cy="304920"/>
          </a:xfrm>
          <a:prstGeom prst="rect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6172200"/>
            <a:ext cx="990720" cy="380880"/>
          </a:xfrm>
          <a:prstGeom prst="rect">
            <a:avLst/>
          </a:pr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2280"/>
            <a:ext cx="129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URAC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0"/>
            <a:ext cx="129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TI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BB2-1540-4FD7-B21E-2BB9332D25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429000" cy="3367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429000" cy="3244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38280" y="419112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411480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5105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5105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2362320"/>
            <a:ext cx="609840" cy="5331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2438280"/>
            <a:ext cx="609480" cy="5335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4AF-2973-47AE-8355-0E1F4A79FC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res tipos de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NA mensajero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2819520" cy="2274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0" y="5486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de transferencia (t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0480" y="594216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ribosomal (r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979640" cy="24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114800" y="1600200"/>
          <a:ext cx="240984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600200"/>
                    <a:ext cx="240984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5AA-29B7-4C73-8D2D-714DAA0E97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90920" y="838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Genes (AD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4191120"/>
            <a:ext cx="6248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Proteí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(función en catálisis y estructura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1981080"/>
            <a:ext cx="457200" cy="198144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433520" cy="3476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2438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xpresión de los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435-3875-4A78-9EA5-D6889563AE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1344600"/>
            <a:ext cx="8381880" cy="5308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19120" y="210672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209680"/>
            <a:ext cx="2286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RE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200400"/>
            <a:ext cx="2852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4952880"/>
            <a:ext cx="2318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638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4038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ens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81680" y="1447920"/>
            <a:ext cx="175284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447920"/>
            <a:ext cx="21333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057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Proceso de expresión de los 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F15-AE13-40FE-9FF1-3BDD304AA3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Qué es la Biotecnolo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91160" cy="51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F54-B7B6-4C44-8C68-AA42D462B1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1219320"/>
            <a:ext cx="9144000" cy="4449600"/>
            <a:chOff x="0" y="1219320"/>
            <a:chExt cx="9144000" cy="444960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914400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47920" y="1343160"/>
              <a:ext cx="601956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99"/>
                  </a:solidFill>
                  <a:latin typeface="Arial"/>
                </a:rPr>
                <a:t>TRANSCRIPCION: SINTESIS DE AR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00800" y="4238640"/>
              <a:ext cx="2743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Cadena de ARN crec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2105280"/>
              <a:ext cx="2666880" cy="77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Hebra de DNA mol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95480" y="4695840"/>
              <a:ext cx="3048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Dirección de la síntesis de AR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9C1-7229-4E3D-8863-18B1B83CE7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438280" y="0"/>
          <a:ext cx="6270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0"/>
                    <a:ext cx="6270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438280" y="1828800"/>
            <a:ext cx="6248520" cy="13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La hebra inferior del DNA es el molde para la síntesis de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La RNA polimerasa hace una copia de la secuencia de DNA pero substituyendo timidina (T) por uridina (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4952880"/>
            <a:ext cx="556272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0"/>
            <a:ext cx="373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Transcripción del 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22100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hebra inferior del dúplex es usada como molde para sintetizar el RNA. Sin embargo, la secuencia de bases del RNA es la misma que la de la hebra superior, con U en lugar de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95288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82880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ttp://www-class.unl.edu/biochem/gp2/m_biology/animation/gene/gene_a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0FE-A8D0-4505-92AD-70B8995EE5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pro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86800" cy="38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510-FBC2-4A07-A7F0-B378675A1A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eu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914400" y="1905120"/>
          <a:ext cx="731520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794-56A4-46A6-B865-A0F929E9F4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352680" y="369720"/>
            <a:ext cx="5589720" cy="6488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75248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Genes de eucariontes son interrumpidos por secuencias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o codificantes (intr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1676520"/>
            <a:ext cx="22096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5486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RNA mad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AB2-B4C2-4656-B18F-8EC0F5EA9A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212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6A2-291F-4026-9F99-FFAB6F9CDF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1585800"/>
            <a:ext cx="7924680" cy="52722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procariontes la transcripción y la traducción están acoplados en el tiempo y en el espaci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8C4-D347-4582-96A9-9B5966D7C9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Genes de procariontes están asociados en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oper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66680" y="1981080"/>
          <a:ext cx="716292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1FA-FE19-4CF2-BE67-9CBDA200F7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66"/>
                </a:solidFill>
                <a:latin typeface="Arial"/>
              </a:rPr>
              <a:t>Operón lactosa de </a:t>
            </a:r>
            <a:r>
              <a:rPr b="1" i="1" lang="es-CL" sz="4000" spc="-1" strike="noStrike">
                <a:solidFill>
                  <a:srgbClr val="000066"/>
                </a:solidFill>
                <a:latin typeface="Arial"/>
              </a:rPr>
              <a:t>E. coli</a:t>
            </a:r>
            <a:br>
              <a:rPr sz="4000"/>
            </a:br>
            <a:r>
              <a:rPr b="1" i="1" lang="es-CL" sz="2400" spc="-1" strike="noStrike">
                <a:solidFill>
                  <a:srgbClr val="000066"/>
                </a:solidFill>
                <a:latin typeface="Arial"/>
              </a:rPr>
              <a:t>contiene genes de enzimas que degradan el dímero lact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782040" cy="415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9D6-1386-4DF2-88BE-D12D9B3A40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09480" y="152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 DE EXPRESIÓN GÉNICA: DIFERENCIAS ENTRE PROCARIONTES Y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1A3-5A83-40FE-8DCC-DB5939AE40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8120" y="2743200"/>
            <a:ext cx="2438280" cy="15238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1240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Ingeniería ge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172200" y="29718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2981000">
            <a:off x="5257440" y="17524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194000">
            <a:off x="5409720" y="449532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481400">
            <a:off x="3200040" y="45720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539200">
            <a:off x="2245680" y="2855520"/>
            <a:ext cx="382680" cy="1065240"/>
          </a:xfrm>
          <a:prstGeom prst="downArrow">
            <a:avLst>
              <a:gd name="adj1" fmla="val 50000"/>
              <a:gd name="adj2" fmla="val 69591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143000"/>
            <a:ext cx="2209680" cy="91440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2952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roteínas recombi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590920"/>
            <a:ext cx="1828800" cy="152388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819520"/>
            <a:ext cx="190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Modificación genética de vías metabólicas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514600"/>
            <a:ext cx="1600200" cy="152388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334120"/>
            <a:ext cx="2133360" cy="121896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486400"/>
            <a:ext cx="1981080" cy="1219320"/>
          </a:xfrm>
          <a:prstGeom prst="ellipse">
            <a:avLst/>
          </a:prstGeom>
          <a:solidFill>
            <a:srgbClr val="99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nimales y plantas transgé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Aplicaciones de Ingeniería genética para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5B8-4E33-4761-AA50-96334EB876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emari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es moleculares de la genética (Prof Oriana Salaz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cnicas de Ingeniería Genética (Prof. Paola Bar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 de Ing. Genética (Prof. Oriana Salaz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6576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Osaka"/>
              </a:rPr>
              <a:t>En esta cl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son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gen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y dónde está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es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AD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(o DNA)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Cóm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funciona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los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E15-A095-4168-A6C9-EE63654643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90720" y="457200"/>
          <a:ext cx="7561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561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3124080"/>
          <a:ext cx="175284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124080"/>
                    <a:ext cx="175284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743200" y="2895480"/>
          <a:ext cx="1628640" cy="308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419720" y="2895480"/>
          <a:ext cx="1628640" cy="308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48520" y="3048120"/>
          <a:ext cx="1752480" cy="28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048120"/>
                    <a:ext cx="1752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486400" y="5715000"/>
          <a:ext cx="311472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5715000"/>
                    <a:ext cx="3114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066680" y="838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Osaka"/>
              </a:rPr>
              <a:t>Streptococcus pneumoni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33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Osaka"/>
              </a:rPr>
              <a:t>causan neum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2057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Osaka"/>
              </a:rPr>
              <a:t>No causan neum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078-594D-44F7-84D2-FD5884804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352680" y="18288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Definición de un </a:t>
            </a:r>
            <a:r>
              <a:rPr b="1" lang="es-ES_tradnl" sz="3600" spc="-1" strike="noStrike">
                <a:solidFill>
                  <a:srgbClr val="cc0000"/>
                </a:solidFill>
                <a:latin typeface="Arial"/>
                <a:ea typeface="Osaka"/>
              </a:rPr>
              <a:t>“principio transformante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  <a:ea typeface="Osak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819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Griff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6668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33720" y="3962520"/>
            <a:ext cx="5715000" cy="1371600"/>
            <a:chOff x="2133720" y="3962520"/>
            <a:chExt cx="5715000" cy="1371600"/>
          </a:xfrm>
        </p:grpSpPr>
        <p:sp>
          <p:nvSpPr>
            <p:cNvPr id="132" name=""/>
            <p:cNvSpPr/>
            <p:nvPr/>
          </p:nvSpPr>
          <p:spPr>
            <a:xfrm>
              <a:off x="2133720" y="4114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mococos 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62720" y="4114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mococos 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3962520"/>
              <a:ext cx="914400" cy="76176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514600" y="5029200"/>
              <a:ext cx="762120" cy="304920"/>
              <a:chOff x="2514600" y="5029200"/>
              <a:chExt cx="762120" cy="304920"/>
            </a:xfrm>
          </p:grpSpPr>
          <p:sp>
            <p:nvSpPr>
              <p:cNvPr id="136" name=""/>
              <p:cNvSpPr/>
              <p:nvPr/>
            </p:nvSpPr>
            <p:spPr>
              <a:xfrm>
                <a:off x="2514600" y="5029200"/>
                <a:ext cx="380880" cy="304920"/>
              </a:xfrm>
              <a:prstGeom prst="ellipse">
                <a:avLst/>
              </a:prstGeom>
              <a:solidFill>
                <a:srgbClr val="ff66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95480" y="5029200"/>
                <a:ext cx="381240" cy="304920"/>
              </a:xfrm>
              <a:prstGeom prst="ellipse">
                <a:avLst/>
              </a:prstGeom>
              <a:solidFill>
                <a:srgbClr val="ff66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943600" y="4876920"/>
              <a:ext cx="762120" cy="304560"/>
              <a:chOff x="5943600" y="4876920"/>
              <a:chExt cx="762120" cy="304560"/>
            </a:xfrm>
          </p:grpSpPr>
          <p:sp>
            <p:nvSpPr>
              <p:cNvPr id="139" name=""/>
              <p:cNvSpPr/>
              <p:nvPr/>
            </p:nvSpPr>
            <p:spPr>
              <a:xfrm>
                <a:off x="5943600" y="4876920"/>
                <a:ext cx="380880" cy="30456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4876920"/>
                <a:ext cx="381240" cy="30456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791320" y="4724280"/>
              <a:ext cx="1218960" cy="609840"/>
            </a:xfrm>
            <a:prstGeom prst="ellipse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828-7A83-4264-95A1-DD95F89327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90720" y="228600"/>
          <a:ext cx="766584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6658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334200" y="3276720"/>
          <a:ext cx="280980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4200" y="3276720"/>
                    <a:ext cx="28098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114800" y="5943600"/>
          <a:ext cx="23907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943600"/>
                    <a:ext cx="2390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05320" y="3200400"/>
          <a:ext cx="3352680" cy="234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200400"/>
                    <a:ext cx="335268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57200" y="3200400"/>
          <a:ext cx="3048120" cy="23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200400"/>
                    <a:ext cx="304812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6C8-2B7F-4889-AE49-61711F1D16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DEFINIENDO AL 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6002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s de una definició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efinición clásica</a:t>
            </a:r>
            <a:r>
              <a:rPr b="0" lang="es-ES_tradnl" sz="3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ff0066"/>
                </a:solidFill>
                <a:latin typeface="Arial"/>
              </a:rPr>
              <a:t>(Men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nición molecular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 gen es a un segmento lineal de ADN que contiene la información para sintetizar una molécula funcional, ya sea una proteína o un R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81952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6095880"/>
            <a:ext cx="739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Arial"/>
              </a:rPr>
              <a:t>Los genes están contenidos en el AD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533520"/>
            <a:ext cx="5791320" cy="9144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7748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205740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14600" y="39625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00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27E-A26D-425F-A994-A9FA7AC369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513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lementos de la estructura de un 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1752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1980000"/>
            <a:ext cx="281952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1980000"/>
            <a:ext cx="312444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TER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657600"/>
            <a:ext cx="266724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romoto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2133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Termin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82A-5C06-48DA-8397-DE0C51F950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7:47:27Z</dcterms:created>
  <dc:creator>Oriana Salazar</dc:creator>
  <dc:description/>
  <dc:language>en-US</dc:language>
  <cp:lastModifiedBy>Ing Quimica</cp:lastModifiedBy>
  <dcterms:modified xsi:type="dcterms:W3CDTF">2009-01-13T13:25:19Z</dcterms:modified>
  <cp:revision>339</cp:revision>
  <dc:subject/>
  <dc:title>Genes: Qué son y dónde están?</dc:title>
</cp:coreProperties>
</file>