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0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D1D2-62BF-4300-BDBC-33E8B0B0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CCD-9499-4901-8BD7-C7DBB903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3E2-019A-4604-8F73-1B7A2F14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7EB-D3D4-4AF8-8E80-BFAD1523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90AA-F597-4F76-8EF7-FBEDF8E9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3D7F-0EA9-4AEE-97D9-541440F0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AF92-809E-484B-87EB-4F71502C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D469-A5A1-48A3-90CB-CBB3C586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0369-B90C-4B41-9B4E-E06EE56F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ACDB-85E2-4559-9B0E-C48CCC5C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1469-0906-47C0-8145-58E8419E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CDE-FB08-4A2A-BAD0-FEA07EB5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B56F-1E2C-49DF-B01F-DD7D3884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8448-C13E-4536-8EBB-3389ACE6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C438-D6D7-4D49-8665-DEB257FA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EE41-0C9C-476A-97CC-9D509D9B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759D-D493-493E-96EE-F439DA6A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A86-CD9B-4514-8D39-5F60DF3C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004-FEBB-4657-9A9F-6BB988B8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858-986A-4876-92AC-A771B018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466-31F0-453F-A0E5-C6D44BF2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758-212F-404A-88DB-8116F3CB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3873-CE66-4DEB-9256-5F41AE1A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C2C-577B-4442-8789-22A0B423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9F8E-5D30-45ED-A9A3-FEB11401F5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0"/>
            <a:ext cx="677880" cy="1523880"/>
            <a:chOff x="228600" y="0"/>
            <a:chExt cx="677880" cy="1523880"/>
          </a:xfrm>
        </p:grpSpPr>
        <p:sp>
          <p:nvSpPr>
            <p:cNvPr id="6" name=""/>
            <p:cNvSpPr/>
            <p:nvPr/>
          </p:nvSpPr>
          <p:spPr>
            <a:xfrm>
              <a:off x="264600" y="591480"/>
              <a:ext cx="634320" cy="85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2"/>
            <a:srcRect l="6136" t="0" r="7364" b="0"/>
            <a:stretch/>
          </p:blipFill>
          <p:spPr>
            <a:xfrm>
              <a:off x="228600" y="0"/>
              <a:ext cx="6778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2349-DFB8-4653-BF3E-119A361E29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2009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lase 1</a:t>
            </a:r>
            <a:br>
              <a:rPr sz="4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3 Ene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. Dra. Oriana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o de Ingeniería Bio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to. de Ingeniería 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. Ciencias Físicas y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0"/>
            <a:ext cx="895320" cy="2013120"/>
            <a:chOff x="228600" y="0"/>
            <a:chExt cx="895320" cy="2013120"/>
          </a:xfrm>
        </p:grpSpPr>
        <p:sp>
          <p:nvSpPr>
            <p:cNvPr id="88" name=""/>
            <p:cNvSpPr/>
            <p:nvPr/>
          </p:nvSpPr>
          <p:spPr>
            <a:xfrm>
              <a:off x="276120" y="781560"/>
              <a:ext cx="837720" cy="11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rcRect l="6136" t="0" r="7364" b="0"/>
            <a:stretch/>
          </p:blipFill>
          <p:spPr>
            <a:xfrm>
              <a:off x="228600" y="0"/>
              <a:ext cx="895320" cy="20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00200" y="304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partes del A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876920" y="3048120"/>
            <a:ext cx="3429000" cy="3809520"/>
            <a:chOff x="4876920" y="3048120"/>
            <a:chExt cx="3429000" cy="3809520"/>
          </a:xfrm>
        </p:grpSpPr>
        <p:graphicFrame>
          <p:nvGraphicFramePr>
            <p:cNvPr id="172" name=""/>
            <p:cNvGraphicFramePr/>
            <p:nvPr/>
          </p:nvGraphicFramePr>
          <p:xfrm>
            <a:off x="4876920" y="3448800"/>
            <a:ext cx="2825640" cy="340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3448800"/>
                      <a:ext cx="2825640" cy="340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4876920" y="304812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BASES NITROGENA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72560" y="3649680"/>
              <a:ext cx="725040" cy="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25360" y="3649680"/>
              <a:ext cx="1055160" cy="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447920" y="914400"/>
            <a:ext cx="5852880" cy="20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380880" y="3733920"/>
          <a:ext cx="3753000" cy="23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733920"/>
                    <a:ext cx="37530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CFD-D3C5-4A4B-A35F-ED3A627103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914400" y="0"/>
          <a:ext cx="7467480" cy="68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7467480" cy="68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4419720" y="17524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22208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220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925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1676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5791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olinucleó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0"/>
            <a:ext cx="5499000" cy="3238560"/>
          </a:xfrm>
          <a:custGeom>
            <a:avLst/>
            <a:gdLst/>
            <a:ahLst/>
            <a:rect l="l" t="t" r="r" b="b"/>
            <a:pathLst>
              <a:path w="3464" h="2040">
                <a:moveTo>
                  <a:pt x="960" y="400"/>
                </a:moveTo>
                <a:cubicBezTo>
                  <a:pt x="836" y="420"/>
                  <a:pt x="712" y="440"/>
                  <a:pt x="576" y="496"/>
                </a:cubicBezTo>
                <a:cubicBezTo>
                  <a:pt x="440" y="552"/>
                  <a:pt x="232" y="608"/>
                  <a:pt x="144" y="736"/>
                </a:cubicBezTo>
                <a:cubicBezTo>
                  <a:pt x="56" y="864"/>
                  <a:pt x="0" y="1104"/>
                  <a:pt x="48" y="1264"/>
                </a:cubicBezTo>
                <a:cubicBezTo>
                  <a:pt x="96" y="1424"/>
                  <a:pt x="184" y="1640"/>
                  <a:pt x="432" y="1696"/>
                </a:cubicBezTo>
                <a:cubicBezTo>
                  <a:pt x="680" y="1752"/>
                  <a:pt x="1264" y="1576"/>
                  <a:pt x="1536" y="1600"/>
                </a:cubicBezTo>
                <a:cubicBezTo>
                  <a:pt x="1808" y="1624"/>
                  <a:pt x="1896" y="1776"/>
                  <a:pt x="2064" y="1840"/>
                </a:cubicBezTo>
                <a:cubicBezTo>
                  <a:pt x="2232" y="1904"/>
                  <a:pt x="2424" y="2040"/>
                  <a:pt x="2544" y="1984"/>
                </a:cubicBezTo>
                <a:cubicBezTo>
                  <a:pt x="2664" y="1928"/>
                  <a:pt x="2648" y="1672"/>
                  <a:pt x="2784" y="1504"/>
                </a:cubicBezTo>
                <a:cubicBezTo>
                  <a:pt x="2920" y="1336"/>
                  <a:pt x="3256" y="1200"/>
                  <a:pt x="3360" y="976"/>
                </a:cubicBezTo>
                <a:cubicBezTo>
                  <a:pt x="3464" y="752"/>
                  <a:pt x="3456" y="320"/>
                  <a:pt x="3408" y="160"/>
                </a:cubicBezTo>
                <a:cubicBezTo>
                  <a:pt x="3360" y="0"/>
                  <a:pt x="3336" y="8"/>
                  <a:pt x="3072" y="16"/>
                </a:cubicBezTo>
                <a:cubicBezTo>
                  <a:pt x="2808" y="24"/>
                  <a:pt x="2184" y="144"/>
                  <a:pt x="1824" y="208"/>
                </a:cubicBezTo>
                <a:cubicBezTo>
                  <a:pt x="1464" y="272"/>
                  <a:pt x="1188" y="336"/>
                  <a:pt x="912" y="400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28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1 nucleó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3678600">
            <a:off x="6286320" y="72360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C15-3394-49C6-80E4-70678A452D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250920"/>
            <a:ext cx="7162920" cy="621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3A2-C653-4FB3-8979-8A5467127E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EL ADN es una doble hél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5768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558-800E-424C-9F12-87C9C0E34D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Arial"/>
              </a:rPr>
              <a:t>El material genético: los cromoso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280120" y="1676520"/>
            <a:ext cx="3584520" cy="3886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962160" cy="351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0880" y="5943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Osaka"/>
              </a:rPr>
              <a:t>Células pro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579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Células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F01-F02E-4089-9BC4-B5EFD4D00A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362320" y="6172200"/>
            <a:ext cx="1066680" cy="304920"/>
          </a:xfrm>
          <a:prstGeom prst="rect">
            <a:avLst/>
          </a:prstGeom>
          <a:noFill/>
          <a:ln cap="sq"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6172200"/>
            <a:ext cx="990720" cy="380880"/>
          </a:xfrm>
          <a:prstGeom prst="rect">
            <a:avLst/>
          </a:pr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152388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GUA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52280"/>
            <a:ext cx="129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CIT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12408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AD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64832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URAC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0"/>
            <a:ext cx="129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CIT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152388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GUA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312408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AD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43800" y="464832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TI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2C7-A425-48BC-96E6-0B65334475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429000" cy="3367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105520" y="762120"/>
            <a:ext cx="3429000" cy="3244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438280" y="4191120"/>
            <a:ext cx="0" cy="685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0" y="4114800"/>
            <a:ext cx="0" cy="685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5105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5105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2362320"/>
            <a:ext cx="609840" cy="5331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2438280"/>
            <a:ext cx="609480" cy="5335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BDA-3A6C-4DB6-A08B-D50CFC4EA1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res tipos de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429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NA mensajero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2819520" cy="2274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0" y="5486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RNA de transferencia (t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0480" y="594216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RNA ribosomal (r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979640" cy="24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114800" y="1600200"/>
          <a:ext cx="240984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600200"/>
                    <a:ext cx="240984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02920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CB3-39DF-4787-9634-2A46E87BC7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90920" y="8380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Genes (AD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4191120"/>
            <a:ext cx="6248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Proteí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(función en catálisis y estructura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1981080"/>
            <a:ext cx="457200" cy="198144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1433520" cy="3476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24382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xpresión de los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5EA-8BCE-40C5-A0C8-EEF07230E1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0920" y="1344600"/>
            <a:ext cx="8381880" cy="5308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19120" y="210672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209680"/>
            <a:ext cx="2286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RE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3200400"/>
            <a:ext cx="2852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TRANSCRIP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4952880"/>
            <a:ext cx="2318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TRA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638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fu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15000" y="4038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ens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81680" y="1447920"/>
            <a:ext cx="175284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447920"/>
            <a:ext cx="213336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057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Arial"/>
              </a:rPr>
              <a:t>Proceso de expresión de los 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874-525E-4021-8B6E-340B1BF828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Qué es la Biotecnolog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491160" cy="51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F60-83B2-49F0-B361-36522DE3A2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1219320"/>
            <a:ext cx="9144000" cy="4449600"/>
            <a:chOff x="0" y="1219320"/>
            <a:chExt cx="9144000" cy="444960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0" y="1219320"/>
              <a:ext cx="9144000" cy="44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47920" y="1343160"/>
              <a:ext cx="601956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99"/>
                  </a:solidFill>
                  <a:latin typeface="Arial"/>
                </a:rPr>
                <a:t>TRANSCRIPCION: SINTESIS DE AR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00800" y="4238640"/>
              <a:ext cx="27432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Cadena de ARN crec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7120" y="2105280"/>
              <a:ext cx="2666880" cy="77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Hebra de DNA mol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95480" y="4695840"/>
              <a:ext cx="3048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Dirección de la síntesis de AR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316-F72C-4D91-A9DC-D9B393E3D2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438280" y="0"/>
          <a:ext cx="6270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0"/>
                    <a:ext cx="6270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2438280" y="1828800"/>
            <a:ext cx="6248520" cy="133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La hebra inferior del DNA es el molde para la síntesis de 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La RNA polimerasa hace una copia de la secuencia de DNA pero substituyendo timidina (T) por uridina (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4952880"/>
            <a:ext cx="556272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0"/>
            <a:ext cx="373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Transcripción del 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22100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hebra inferior del dúplex es usada como molde para sintetizar el RNA. Sin embargo, la secuencia de bases del RNA es la misma que la de la hebra superior, con U en lugar de 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95288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828800"/>
            <a:ext cx="26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ttp://www-class.unl.edu/biochem/gp2/m_biology/animation/gene/gene_a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4A4-8EEF-46C8-B5D1-863E129FEF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structura de un gen procari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686800" cy="38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9B9-2666-4AF1-8148-B148E21B19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structura de un gen eucari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914400" y="1905120"/>
          <a:ext cx="731520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1520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E81-D29E-4ED6-A697-5535E4EFFA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352680" y="369720"/>
            <a:ext cx="5589720" cy="6488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175248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Genes de eucariontes son interrumpidos por secuencias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o codificantes (intr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1676520"/>
            <a:ext cx="22096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5486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RNA mad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088-0116-4898-9433-194AEF4FAC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62120" y="706320"/>
            <a:ext cx="7696080" cy="615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6CF-7EAB-4485-A9E0-2860F2B7D6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90720" y="1585800"/>
            <a:ext cx="7924680" cy="52722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 procariontes la transcripción y la traducción están acoplados en el tiempo y en el espaci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0B9-4F0C-493D-9524-60469941D3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Genes de procariontes están asociados en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Arial"/>
              </a:rPr>
              <a:t>oper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066680" y="1981080"/>
          <a:ext cx="7162920" cy="43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162920" cy="43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2F0B-430E-4F2A-9C67-1829650C1F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66"/>
                </a:solidFill>
                <a:latin typeface="Arial"/>
              </a:rPr>
              <a:t>Operón lactosa de </a:t>
            </a:r>
            <a:r>
              <a:rPr b="1" i="1" lang="es-CL" sz="4000" spc="-1" strike="noStrike">
                <a:solidFill>
                  <a:srgbClr val="000066"/>
                </a:solidFill>
                <a:latin typeface="Arial"/>
              </a:rPr>
              <a:t>E. coli</a:t>
            </a:r>
            <a:br>
              <a:rPr sz="4000"/>
            </a:br>
            <a:r>
              <a:rPr b="1" i="1" lang="es-CL" sz="2400" spc="-1" strike="noStrike">
                <a:solidFill>
                  <a:srgbClr val="000066"/>
                </a:solidFill>
                <a:latin typeface="Arial"/>
              </a:rPr>
              <a:t>contiene genes de enzimas que degradan el dímero lact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782040" cy="415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928-310F-460E-9389-ADC145D95F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09480" y="152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O DE EXPRESIÓN GÉNICA: DIFERENCIAS ENTRE PROCARIONTES Y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4B4-C25A-4E87-AA45-D3508FABCE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8120" y="2743200"/>
            <a:ext cx="2438280" cy="152388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1240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Ingeniería gené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172200" y="29718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2981000">
            <a:off x="5257440" y="175248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194000">
            <a:off x="5409720" y="4495320"/>
            <a:ext cx="381240" cy="990720"/>
          </a:xfrm>
          <a:prstGeom prst="downArrow">
            <a:avLst>
              <a:gd name="adj1" fmla="val 50000"/>
              <a:gd name="adj2" fmla="val 64967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481400">
            <a:off x="3200040" y="45720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539200">
            <a:off x="2245680" y="2855520"/>
            <a:ext cx="382680" cy="1065240"/>
          </a:xfrm>
          <a:prstGeom prst="downArrow">
            <a:avLst>
              <a:gd name="adj1" fmla="val 50000"/>
              <a:gd name="adj2" fmla="val 69591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1143000"/>
            <a:ext cx="2209680" cy="914400"/>
          </a:xfrm>
          <a:prstGeom prst="ellipse">
            <a:avLst/>
          </a:prstGeom>
          <a:solidFill>
            <a:srgbClr val="ff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12952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Proteínas recombi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2590920"/>
            <a:ext cx="1828800" cy="1523880"/>
          </a:xfrm>
          <a:prstGeom prst="ellipse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2819520"/>
            <a:ext cx="1905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Modificación genética de vías metabólicas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514600"/>
            <a:ext cx="1600200" cy="152388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9718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Terapia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334120"/>
            <a:ext cx="2133360" cy="121896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486400"/>
            <a:ext cx="1981080" cy="1219320"/>
          </a:xfrm>
          <a:prstGeom prst="ellipse">
            <a:avLst/>
          </a:prstGeom>
          <a:solidFill>
            <a:srgbClr val="99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562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Animales y plantas transgé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5715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Aplicaciones de Ingeniería genética para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AF7-0D9F-4FF9-A4BC-8338753149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Temario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es moleculares de la genética (Prof Oriana Salaz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écnicas de Ingeniería Genética (Prof. Paola Bar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ciones de Ing. Genética (Prof. Oriana Salaz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6576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Osaka"/>
              </a:rPr>
              <a:t>En esta cl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Qué son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gen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y dónde está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Qué es e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AD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(o DNA)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Cóm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funciona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los ge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585-7672-4D27-B4AD-0AA7ED2EA6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90720" y="457200"/>
          <a:ext cx="75610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7561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8080" y="3124080"/>
          <a:ext cx="175284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124080"/>
                    <a:ext cx="175284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743200" y="2895480"/>
          <a:ext cx="1628640" cy="308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16286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419720" y="2895480"/>
          <a:ext cx="1628640" cy="308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2895480"/>
                    <a:ext cx="16286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248520" y="3048120"/>
          <a:ext cx="1752480" cy="284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3048120"/>
                    <a:ext cx="17524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486400" y="5715000"/>
          <a:ext cx="3114720" cy="54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5715000"/>
                    <a:ext cx="31147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066680" y="838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Osaka"/>
              </a:rPr>
              <a:t>Streptococcus pneumoni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133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Osaka"/>
              </a:rPr>
              <a:t>causan neum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2057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Osaka"/>
              </a:rPr>
              <a:t>No causan neum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C4C-05F2-46D5-B0AB-E2EC680F31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352680" y="18288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Osaka"/>
              </a:rPr>
              <a:t>Definición de un </a:t>
            </a:r>
            <a:r>
              <a:rPr b="1" lang="es-ES_tradnl" sz="3600" spc="-1" strike="noStrike">
                <a:solidFill>
                  <a:srgbClr val="cc0000"/>
                </a:solidFill>
                <a:latin typeface="Arial"/>
                <a:ea typeface="Osaka"/>
              </a:rPr>
              <a:t>“principio transformante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  <a:ea typeface="Osak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819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Osaka"/>
              </a:rPr>
              <a:t>Griff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6668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133720" y="3962520"/>
            <a:ext cx="5715000" cy="1371600"/>
            <a:chOff x="2133720" y="3962520"/>
            <a:chExt cx="5715000" cy="1371600"/>
          </a:xfrm>
        </p:grpSpPr>
        <p:sp>
          <p:nvSpPr>
            <p:cNvPr id="132" name=""/>
            <p:cNvSpPr/>
            <p:nvPr/>
          </p:nvSpPr>
          <p:spPr>
            <a:xfrm>
              <a:off x="2133720" y="4114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neumococos 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62720" y="4114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neumococos 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95680" y="3962520"/>
              <a:ext cx="914400" cy="76176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514600" y="5029200"/>
              <a:ext cx="762120" cy="304920"/>
              <a:chOff x="2514600" y="5029200"/>
              <a:chExt cx="762120" cy="304920"/>
            </a:xfrm>
          </p:grpSpPr>
          <p:sp>
            <p:nvSpPr>
              <p:cNvPr id="136" name=""/>
              <p:cNvSpPr/>
              <p:nvPr/>
            </p:nvSpPr>
            <p:spPr>
              <a:xfrm>
                <a:off x="2514600" y="5029200"/>
                <a:ext cx="380880" cy="304920"/>
              </a:xfrm>
              <a:prstGeom prst="ellipse">
                <a:avLst/>
              </a:prstGeom>
              <a:solidFill>
                <a:srgbClr val="ff66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95480" y="5029200"/>
                <a:ext cx="381240" cy="304920"/>
              </a:xfrm>
              <a:prstGeom prst="ellipse">
                <a:avLst/>
              </a:prstGeom>
              <a:solidFill>
                <a:srgbClr val="ff66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943600" y="4876920"/>
              <a:ext cx="762120" cy="304560"/>
              <a:chOff x="5943600" y="4876920"/>
              <a:chExt cx="762120" cy="304560"/>
            </a:xfrm>
          </p:grpSpPr>
          <p:sp>
            <p:nvSpPr>
              <p:cNvPr id="139" name=""/>
              <p:cNvSpPr/>
              <p:nvPr/>
            </p:nvSpPr>
            <p:spPr>
              <a:xfrm>
                <a:off x="5943600" y="4876920"/>
                <a:ext cx="380880" cy="304560"/>
              </a:xfrm>
              <a:prstGeom prst="ellipse">
                <a:avLst/>
              </a:prstGeom>
              <a:solidFill>
                <a:srgbClr val="008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24480" y="4876920"/>
                <a:ext cx="381240" cy="304560"/>
              </a:xfrm>
              <a:prstGeom prst="ellipse">
                <a:avLst/>
              </a:prstGeom>
              <a:solidFill>
                <a:srgbClr val="008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791320" y="4724280"/>
              <a:ext cx="1218960" cy="609840"/>
            </a:xfrm>
            <a:prstGeom prst="ellipse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0DE-C469-4CAB-8BAB-E366A0ABBC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990720" y="228600"/>
          <a:ext cx="766584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6658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334200" y="3276720"/>
          <a:ext cx="280980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4200" y="3276720"/>
                    <a:ext cx="28098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114800" y="5943600"/>
          <a:ext cx="23907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943600"/>
                    <a:ext cx="23907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05320" y="3200400"/>
          <a:ext cx="3352680" cy="234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200400"/>
                    <a:ext cx="335268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57200" y="3200400"/>
          <a:ext cx="3048120" cy="237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200400"/>
                    <a:ext cx="304812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884-4F05-4C5F-BBFC-0A7B408C10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DEFINIENDO AL 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6002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s de una definició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Definición clásica</a:t>
            </a:r>
            <a:r>
              <a:rPr b="0" lang="es-ES_tradnl" sz="3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ff0066"/>
                </a:solidFill>
                <a:latin typeface="Arial"/>
              </a:rPr>
              <a:t>(Men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nición molecular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 gen es a un segmento lineal de ADN que contiene la información para sintetizar una molécula funcional, ya sea una proteína o un R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81952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6095880"/>
            <a:ext cx="739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0000"/>
                </a:solidFill>
                <a:latin typeface="Arial"/>
              </a:rPr>
              <a:t>Los genes están contenidos en el AD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533520"/>
            <a:ext cx="5791320" cy="9144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010280" y="838080"/>
            <a:ext cx="17748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205740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14600" y="39625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0033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C45-DD96-4123-B217-C5BB43CA43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5513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lementos de la estructura de un 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17524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1980000"/>
            <a:ext cx="281952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0" rIns="1098000" tIns="180000" bIns="1800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1980000"/>
            <a:ext cx="312444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0" rIns="1098000" tIns="180000" bIns="1800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TER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3657600"/>
            <a:ext cx="266724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3200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3200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2057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Promoto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2133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Termin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A76-B526-4D85-98D5-6F57C5C681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7:47:27Z</dcterms:created>
  <dc:creator>Oriana Salazar</dc:creator>
  <dc:description/>
  <dc:language>en-US</dc:language>
  <cp:lastModifiedBy>Ing Quimica</cp:lastModifiedBy>
  <dcterms:modified xsi:type="dcterms:W3CDTF">2009-01-13T13:25:19Z</dcterms:modified>
  <cp:revision>339</cp:revision>
  <dc:subject/>
  <dc:title>Genes: Qué son y dónde están?</dc:title>
</cp:coreProperties>
</file>