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0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0.wmf" ContentType="image/x-wmf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C182-C1A6-4C9F-BB89-8DBB4157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9685-81BB-4B35-992D-8F09CE29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7A51-E385-4943-BC60-22EB81616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A3E8-17E5-44B1-AFEF-DE9083AA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2ECF-F2ED-4E0A-BA61-B9E4C15F0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8182-04B5-45A2-BF87-089BEA63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BAE4-2A61-49F5-AA97-CE12D0EE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EF07-0B78-4B7F-AB7A-09C432CD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F769-7992-4015-B868-EC28E8FD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7018-9550-452C-A23E-C68783A4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7B07-0168-432C-8AA9-7E65360F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51C7-FF22-4CBA-A8B4-10E2AA33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3B98-BEDE-44A5-BF7F-93E7F343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AAD3-FF73-497F-8162-9495B2B8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A317-125D-4D3B-89A4-3319FA7A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B07D-DA1E-4115-938A-D9F71CD4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388B-FBB0-487A-AF0C-605C1E88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564E-E843-4C84-815F-C04E32DF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11EA-C6D3-4A3B-9698-F2DB840D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DF64-1234-455E-BE82-9C065620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08AD-AB00-4240-AAF6-AAC65456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A953-A0DC-4314-82D6-5E359016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208F-9F78-4556-A45F-DCB9F571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931B-AFB1-42E4-B5D3-5A0191B1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41A8-C9B2-46D3-8FD7-3F468730C4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0"/>
            <a:ext cx="677880" cy="1523880"/>
            <a:chOff x="228600" y="0"/>
            <a:chExt cx="677880" cy="1523880"/>
          </a:xfrm>
        </p:grpSpPr>
        <p:sp>
          <p:nvSpPr>
            <p:cNvPr id="6" name=""/>
            <p:cNvSpPr/>
            <p:nvPr/>
          </p:nvSpPr>
          <p:spPr>
            <a:xfrm>
              <a:off x="264600" y="591480"/>
              <a:ext cx="634320" cy="85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" name="" descr=""/>
            <p:cNvPicPr/>
            <p:nvPr/>
          </p:nvPicPr>
          <p:blipFill>
            <a:blip r:embed="rId2"/>
            <a:srcRect l="6136" t="0" r="7364" b="0"/>
            <a:stretch/>
          </p:blipFill>
          <p:spPr>
            <a:xfrm>
              <a:off x="228600" y="0"/>
              <a:ext cx="677880" cy="15238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6F69-A757-4722-A356-F21708F69D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IOTECNOLOGÍA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2009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Clase 1</a:t>
            </a:r>
            <a:br>
              <a:rPr sz="4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3 Enero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f. Dra. Oriana Sala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entro de Ingeniería Bioquímica y Bio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pto. de Ingeniería Química y Bio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c. Ciencias Físicas y Matem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28600" y="0"/>
            <a:ext cx="895320" cy="2013120"/>
            <a:chOff x="228600" y="0"/>
            <a:chExt cx="895320" cy="2013120"/>
          </a:xfrm>
        </p:grpSpPr>
        <p:sp>
          <p:nvSpPr>
            <p:cNvPr id="88" name=""/>
            <p:cNvSpPr/>
            <p:nvPr/>
          </p:nvSpPr>
          <p:spPr>
            <a:xfrm>
              <a:off x="276120" y="781560"/>
              <a:ext cx="837720" cy="112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1"/>
            <a:srcRect l="6136" t="0" r="7364" b="0"/>
            <a:stretch/>
          </p:blipFill>
          <p:spPr>
            <a:xfrm>
              <a:off x="228600" y="0"/>
              <a:ext cx="895320" cy="2013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600200" y="304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s partes del AD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876920" y="3048120"/>
            <a:ext cx="3429000" cy="3809520"/>
            <a:chOff x="4876920" y="3048120"/>
            <a:chExt cx="3429000" cy="3809520"/>
          </a:xfrm>
        </p:grpSpPr>
        <p:graphicFrame>
          <p:nvGraphicFramePr>
            <p:cNvPr id="172" name=""/>
            <p:cNvGraphicFramePr/>
            <p:nvPr/>
          </p:nvGraphicFramePr>
          <p:xfrm>
            <a:off x="4876920" y="3448800"/>
            <a:ext cx="2825640" cy="340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76920" y="3448800"/>
                      <a:ext cx="2825640" cy="340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"/>
            <p:cNvSpPr/>
            <p:nvPr/>
          </p:nvSpPr>
          <p:spPr>
            <a:xfrm>
              <a:off x="4876920" y="304812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BASES NITROGENAD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72560" y="3649680"/>
              <a:ext cx="725040" cy="0"/>
            </a:xfrm>
            <a:prstGeom prst="line">
              <a:avLst/>
            </a:prstGeom>
            <a:ln cap="sq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25360" y="3649680"/>
              <a:ext cx="1055160" cy="0"/>
            </a:xfrm>
            <a:prstGeom prst="line">
              <a:avLst/>
            </a:prstGeom>
            <a:ln cap="sq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1447920" y="914400"/>
            <a:ext cx="5852880" cy="20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" name=""/>
          <p:cNvGraphicFramePr/>
          <p:nvPr/>
        </p:nvGraphicFramePr>
        <p:xfrm>
          <a:off x="380880" y="3733920"/>
          <a:ext cx="3753000" cy="2324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3733920"/>
                    <a:ext cx="375300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C7BE-FEBD-4993-9EA0-BDEEE08A45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914400" y="0"/>
          <a:ext cx="7467480" cy="684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0"/>
                    <a:ext cx="7467480" cy="68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4419720" y="17524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22208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22208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9255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16765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57913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olinucleót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0"/>
            <a:ext cx="5499000" cy="3238560"/>
          </a:xfrm>
          <a:custGeom>
            <a:avLst/>
            <a:gdLst/>
            <a:ahLst/>
            <a:rect l="l" t="t" r="r" b="b"/>
            <a:pathLst>
              <a:path w="3464" h="2040">
                <a:moveTo>
                  <a:pt x="960" y="400"/>
                </a:moveTo>
                <a:cubicBezTo>
                  <a:pt x="836" y="420"/>
                  <a:pt x="712" y="440"/>
                  <a:pt x="576" y="496"/>
                </a:cubicBezTo>
                <a:cubicBezTo>
                  <a:pt x="440" y="552"/>
                  <a:pt x="232" y="608"/>
                  <a:pt x="144" y="736"/>
                </a:cubicBezTo>
                <a:cubicBezTo>
                  <a:pt x="56" y="864"/>
                  <a:pt x="0" y="1104"/>
                  <a:pt x="48" y="1264"/>
                </a:cubicBezTo>
                <a:cubicBezTo>
                  <a:pt x="96" y="1424"/>
                  <a:pt x="184" y="1640"/>
                  <a:pt x="432" y="1696"/>
                </a:cubicBezTo>
                <a:cubicBezTo>
                  <a:pt x="680" y="1752"/>
                  <a:pt x="1264" y="1576"/>
                  <a:pt x="1536" y="1600"/>
                </a:cubicBezTo>
                <a:cubicBezTo>
                  <a:pt x="1808" y="1624"/>
                  <a:pt x="1896" y="1776"/>
                  <a:pt x="2064" y="1840"/>
                </a:cubicBezTo>
                <a:cubicBezTo>
                  <a:pt x="2232" y="1904"/>
                  <a:pt x="2424" y="2040"/>
                  <a:pt x="2544" y="1984"/>
                </a:cubicBezTo>
                <a:cubicBezTo>
                  <a:pt x="2664" y="1928"/>
                  <a:pt x="2648" y="1672"/>
                  <a:pt x="2784" y="1504"/>
                </a:cubicBezTo>
                <a:cubicBezTo>
                  <a:pt x="2920" y="1336"/>
                  <a:pt x="3256" y="1200"/>
                  <a:pt x="3360" y="976"/>
                </a:cubicBezTo>
                <a:cubicBezTo>
                  <a:pt x="3464" y="752"/>
                  <a:pt x="3456" y="320"/>
                  <a:pt x="3408" y="160"/>
                </a:cubicBezTo>
                <a:cubicBezTo>
                  <a:pt x="3360" y="0"/>
                  <a:pt x="3336" y="8"/>
                  <a:pt x="3072" y="16"/>
                </a:cubicBezTo>
                <a:cubicBezTo>
                  <a:pt x="2808" y="24"/>
                  <a:pt x="2184" y="144"/>
                  <a:pt x="1824" y="208"/>
                </a:cubicBezTo>
                <a:cubicBezTo>
                  <a:pt x="1464" y="272"/>
                  <a:pt x="1188" y="336"/>
                  <a:pt x="912" y="400"/>
                </a:cubicBezTo>
              </a:path>
            </a:pathLst>
          </a:custGeom>
          <a:noFill/>
          <a:ln w="507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2286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1 nucleót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3678600">
            <a:off x="6286320" y="72360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3D3A-36E1-4D1F-B23B-DB6473A41C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066680" y="250920"/>
            <a:ext cx="7162920" cy="621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4B23-575D-4731-BDA9-E63E4586A4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Arial"/>
              </a:rPr>
              <a:t>EL ADN es una doble hél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757680" cy="55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2447-FA24-4916-BC93-D9F2DF6697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9"/>
                </a:solidFill>
                <a:latin typeface="Arial"/>
              </a:rPr>
              <a:t>El material genético: los cromoso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280120" y="1676520"/>
            <a:ext cx="3584520" cy="3886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3962160" cy="351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80880" y="5943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Osaka"/>
              </a:rPr>
              <a:t>Células procario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10080" y="5791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Células eucario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1C99-7B14-4696-82FB-6C4197AEDE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362320" y="6172200"/>
            <a:ext cx="1066680" cy="304920"/>
          </a:xfrm>
          <a:prstGeom prst="rect">
            <a:avLst/>
          </a:prstGeom>
          <a:noFill/>
          <a:ln cap="sq"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6172200"/>
            <a:ext cx="990720" cy="380880"/>
          </a:xfrm>
          <a:prstGeom prst="rect">
            <a:avLst/>
          </a:pr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1523880"/>
            <a:ext cx="1600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imes New Roman"/>
              </a:rPr>
              <a:t>GUA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52280"/>
            <a:ext cx="1295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imes New Roman"/>
              </a:rPr>
              <a:t>CITOS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124080"/>
            <a:ext cx="1219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imes New Roman"/>
              </a:rPr>
              <a:t>ADE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4648320"/>
            <a:ext cx="1219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imes New Roman"/>
              </a:rPr>
              <a:t>URACI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67480" y="0"/>
            <a:ext cx="1295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imes New Roman"/>
              </a:rPr>
              <a:t>CITOS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43800" y="1523880"/>
            <a:ext cx="1600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imes New Roman"/>
              </a:rPr>
              <a:t>GUA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67480" y="3124080"/>
            <a:ext cx="1219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imes New Roman"/>
              </a:rPr>
              <a:t>ADE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43800" y="4648320"/>
            <a:ext cx="1219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imes New Roman"/>
              </a:rPr>
              <a:t>TIM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81A6-2818-415F-A9F6-1D57961456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3429000" cy="33670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5105520" y="762120"/>
            <a:ext cx="3429000" cy="32446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438280" y="4191120"/>
            <a:ext cx="0" cy="68580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0" y="4114800"/>
            <a:ext cx="0" cy="68580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51055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Comic Sans MS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72200" y="51055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Comic Sans MS"/>
              </a:rPr>
              <a:t>D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2362320"/>
            <a:ext cx="609840" cy="53316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05320" y="2438280"/>
            <a:ext cx="609480" cy="53352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441A-9FA8-4289-BBB1-04195F6FCC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Tres tipos de 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429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NA mensajero (mR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914400" y="3581280"/>
            <a:ext cx="2819520" cy="22748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572000" y="5486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RNA de transferencia (t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0480" y="5942160"/>
            <a:ext cx="32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RNA ribosomal (r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477120" y="3429000"/>
            <a:ext cx="1979640" cy="240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4114800" y="1600200"/>
          <a:ext cx="2409840" cy="18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1600200"/>
                    <a:ext cx="240984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5029200" y="152388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829D-E5C8-40EB-A597-3818D1B7FA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590920" y="8380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Comic Sans MS"/>
              </a:rPr>
              <a:t>Genes (AD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00200" y="4191120"/>
            <a:ext cx="62485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Comic Sans MS"/>
              </a:rPr>
              <a:t>Proteín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Comic Sans MS"/>
              </a:rPr>
              <a:t>(función en catálisis y estructura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67080" y="1981080"/>
            <a:ext cx="457200" cy="198144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00800" y="990720"/>
            <a:ext cx="1433520" cy="34765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62120" y="24382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xpresión de los ge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492F-8CC3-4466-BA73-930B4FDD3E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50920" y="1344600"/>
            <a:ext cx="8381880" cy="53085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19120" y="210672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2209680"/>
            <a:ext cx="2286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REPL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43000" y="3200400"/>
            <a:ext cx="2852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TRANSCRIP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23880" y="4952880"/>
            <a:ext cx="23180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TRA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6386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fu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15000" y="40384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mens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81680" y="1447920"/>
            <a:ext cx="1752840" cy="53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1447920"/>
            <a:ext cx="213336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38680" y="20574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197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66"/>
                </a:solidFill>
                <a:latin typeface="Arial"/>
              </a:rPr>
              <a:t>Proceso de expresión de los ge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B94E-CE69-4B98-8971-04013F2F96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Arial"/>
              </a:rPr>
              <a:t>Qué es la Biotecnologí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491160" cy="51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97D8-8E69-46CF-9124-E1536320EC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0" y="1219320"/>
            <a:ext cx="9144000" cy="4449600"/>
            <a:chOff x="0" y="1219320"/>
            <a:chExt cx="9144000" cy="4449600"/>
          </a:xfrm>
        </p:grpSpPr>
        <p:pic>
          <p:nvPicPr>
            <p:cNvPr id="245" name="" descr=""/>
            <p:cNvPicPr/>
            <p:nvPr/>
          </p:nvPicPr>
          <p:blipFill>
            <a:blip r:embed="rId1"/>
            <a:stretch/>
          </p:blipFill>
          <p:spPr>
            <a:xfrm>
              <a:off x="0" y="1219320"/>
              <a:ext cx="9144000" cy="44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47920" y="1343160"/>
              <a:ext cx="601956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99"/>
                  </a:solidFill>
                  <a:latin typeface="Arial"/>
                </a:rPr>
                <a:t>TRANSCRIPCION: SINTESIS DE AR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00800" y="4238640"/>
              <a:ext cx="27432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Cadena de ARN crecien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77120" y="2105280"/>
              <a:ext cx="2666880" cy="77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Hebra de DNA mol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895480" y="4695840"/>
              <a:ext cx="304812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Dirección de la síntesis de AR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E939-FD68-47F9-ACEF-16E3AF8222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2438280" y="0"/>
          <a:ext cx="62708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0"/>
                    <a:ext cx="6270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2438280" y="1828800"/>
            <a:ext cx="6248520" cy="133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La hebra inferior del DNA es el molde para la síntesis de 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</a:rPr>
              <a:t>La RNA polimerasa hace una copia de la secuencia de DNA pero substituyendo timidina (T) por uridina (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43200" y="4952880"/>
            <a:ext cx="556272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0"/>
            <a:ext cx="3733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Transcripción del A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3505320"/>
            <a:ext cx="221004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a hebra inferior del dúplex es usada como molde para sintetizar el RNA. Sin embargo, la secuencia de bases del RNA es la misma que la de la hebra superior, con U en lugar de 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4120" y="4952880"/>
            <a:ext cx="304560" cy="1219320"/>
          </a:xfrm>
          <a:prstGeom prst="downArrow">
            <a:avLst>
              <a:gd name="adj1" fmla="val 50000"/>
              <a:gd name="adj2" fmla="val 100089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1828800"/>
            <a:ext cx="2666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http://www-class.unl.edu/biochem/gp2/m_biology/animation/gene/gene_a2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3F16-6618-46A9-A1C9-F7F07EF7D8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99"/>
                </a:solidFill>
                <a:latin typeface="Arial"/>
              </a:rPr>
              <a:t>Estructura de un gen procario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8686800" cy="38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AC1C-4BB6-4A3A-BC5D-50BD432A11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99"/>
                </a:solidFill>
                <a:latin typeface="Arial"/>
              </a:rPr>
              <a:t>Estructura de un gen eucario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914400" y="1905120"/>
          <a:ext cx="7315200" cy="44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31520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26F1-2B8F-40C3-A9C8-F165134A98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352680" y="369720"/>
            <a:ext cx="5589720" cy="64882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0" y="1752480"/>
            <a:ext cx="327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Genes de eucariontes son interrumpidos por secuencias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no codificantes (intr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1676520"/>
            <a:ext cx="220968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34320" y="54864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mRNA mad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51D2-271C-4342-B9B9-B930DD5A9C7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762120" y="706320"/>
            <a:ext cx="7696080" cy="615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ED23-7A1D-41CE-B451-772212DF82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90720" y="1585800"/>
            <a:ext cx="7924680" cy="52722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n procariontes la transcripción y la traducción están acoplados en el tiempo y en el espacio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368D-AC88-4EFB-B504-A603BD3C436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Genes de procariontes están asociados en </a:t>
            </a:r>
            <a:r>
              <a:rPr b="1" lang="es-CL" sz="4000" spc="-1" strike="noStrike" u="sng">
                <a:solidFill>
                  <a:srgbClr val="000000"/>
                </a:solidFill>
                <a:uFillTx/>
                <a:latin typeface="Arial"/>
              </a:rPr>
              <a:t>oper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066680" y="1981080"/>
          <a:ext cx="7162920" cy="43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7162920" cy="43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4FBE-07DA-46A2-8796-9691D5323AF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66"/>
                </a:solidFill>
                <a:latin typeface="Arial"/>
              </a:rPr>
              <a:t>Operón lactosa de </a:t>
            </a:r>
            <a:r>
              <a:rPr b="1" i="1" lang="es-CL" sz="4000" spc="-1" strike="noStrike">
                <a:solidFill>
                  <a:srgbClr val="000066"/>
                </a:solidFill>
                <a:latin typeface="Arial"/>
              </a:rPr>
              <a:t>E. coli</a:t>
            </a:r>
            <a:br>
              <a:rPr sz="4000"/>
            </a:br>
            <a:r>
              <a:rPr b="1" i="1" lang="es-CL" sz="2400" spc="-1" strike="noStrike">
                <a:solidFill>
                  <a:srgbClr val="000066"/>
                </a:solidFill>
                <a:latin typeface="Arial"/>
              </a:rPr>
              <a:t>contiene genes de enzimas que degradan el dímero lact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6782040" cy="4152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9A21-AADE-4263-95A5-016123B06EB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57200" y="1085760"/>
            <a:ext cx="7696080" cy="57722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609480" y="1522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CESO DE EXPRESIÓN GÉNICA: DIFERENCIAS ENTRE PROCARIONTES Y EUCARIO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C70F-3F39-435B-B836-8FCA13F1D23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8120" y="2743200"/>
            <a:ext cx="2438280" cy="152388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312408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"/>
              </a:rPr>
              <a:t>Ingeniería gené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6172200" y="2971800"/>
            <a:ext cx="380880" cy="990720"/>
          </a:xfrm>
          <a:prstGeom prst="downArrow">
            <a:avLst>
              <a:gd name="adj1" fmla="val 50000"/>
              <a:gd name="adj2" fmla="val 65028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2981000">
            <a:off x="5257440" y="1752480"/>
            <a:ext cx="380880" cy="990720"/>
          </a:xfrm>
          <a:prstGeom prst="downArrow">
            <a:avLst>
              <a:gd name="adj1" fmla="val 50000"/>
              <a:gd name="adj2" fmla="val 65028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9194000">
            <a:off x="5409720" y="4495320"/>
            <a:ext cx="381240" cy="990720"/>
          </a:xfrm>
          <a:prstGeom prst="downArrow">
            <a:avLst>
              <a:gd name="adj1" fmla="val 50000"/>
              <a:gd name="adj2" fmla="val 64967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481400">
            <a:off x="3200040" y="4572000"/>
            <a:ext cx="380880" cy="990720"/>
          </a:xfrm>
          <a:prstGeom prst="downArrow">
            <a:avLst>
              <a:gd name="adj1" fmla="val 50000"/>
              <a:gd name="adj2" fmla="val 65028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5539200">
            <a:off x="2245680" y="2855520"/>
            <a:ext cx="382680" cy="1065240"/>
          </a:xfrm>
          <a:prstGeom prst="downArrow">
            <a:avLst>
              <a:gd name="adj1" fmla="val 50000"/>
              <a:gd name="adj2" fmla="val 69591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1143000"/>
            <a:ext cx="2209680" cy="914400"/>
          </a:xfrm>
          <a:prstGeom prst="ellipse">
            <a:avLst/>
          </a:prstGeom>
          <a:solidFill>
            <a:srgbClr val="ff99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91320" y="12952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Proteínas recombin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2590920"/>
            <a:ext cx="1828800" cy="1523880"/>
          </a:xfrm>
          <a:prstGeom prst="ellipse">
            <a:avLst/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10280" y="2819520"/>
            <a:ext cx="19051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Modificación genética de vías metabólicas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2514600"/>
            <a:ext cx="1600200" cy="152388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9718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Terapia gé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5334120"/>
            <a:ext cx="2133360" cy="1218960"/>
          </a:xfrm>
          <a:prstGeom prst="ellipse">
            <a:avLst/>
          </a:prstGeom>
          <a:solidFill>
            <a:srgbClr val="cc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5486400"/>
            <a:ext cx="1981080" cy="1219320"/>
          </a:xfrm>
          <a:prstGeom prst="ellipse">
            <a:avLst/>
          </a:prstGeom>
          <a:solidFill>
            <a:srgbClr val="99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55627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Animales y plantas transgé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5715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vacu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"/>
              </a:rPr>
              <a:t>Aplicaciones de Ingeniería genética para biotecn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9942-B1EB-4627-AD61-340D1CAB40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Arial"/>
              </a:rPr>
              <a:t>Temario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ses moleculares de la genética (Prof Oriana Salaza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écnicas de Ingeniería Genética (Prof. Paola Barb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plicaciones de Ing. Genética (Prof. Oriana Salaz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3657600"/>
            <a:ext cx="7772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  <a:ea typeface="Osaka"/>
              </a:rPr>
              <a:t>En esta cla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¿Qué son los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gene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 y dónde está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¿Qué es el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ADN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 (o DNA)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¿Cómo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funcionan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 los gen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AB2F-98D5-4CEE-BC33-1D4D5F6B75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990720" y="457200"/>
          <a:ext cx="756108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57200"/>
                    <a:ext cx="75610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838080" y="3124080"/>
          <a:ext cx="1752840" cy="284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124080"/>
                    <a:ext cx="175284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743200" y="2895480"/>
          <a:ext cx="1628640" cy="308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2895480"/>
                    <a:ext cx="162864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419720" y="2895480"/>
          <a:ext cx="1628640" cy="308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2895480"/>
                    <a:ext cx="162864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6248520" y="3048120"/>
          <a:ext cx="1752480" cy="284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48520" y="3048120"/>
                    <a:ext cx="175248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486400" y="5715000"/>
          <a:ext cx="3114720" cy="542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5715000"/>
                    <a:ext cx="31147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066680" y="8380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Osaka"/>
              </a:rPr>
              <a:t>Streptococcus pneumoni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1337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Osaka"/>
              </a:rPr>
              <a:t>causan neumo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20574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Osaka"/>
              </a:rPr>
              <a:t>No causan neumo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BA39-02DA-4310-86A1-B07E139DF5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352680" y="1828800"/>
            <a:ext cx="472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Osaka"/>
              </a:rPr>
              <a:t>Definición de un </a:t>
            </a:r>
            <a:r>
              <a:rPr b="1" lang="es-ES_tradnl" sz="3600" spc="-1" strike="noStrike">
                <a:solidFill>
                  <a:srgbClr val="cc0000"/>
                </a:solidFill>
                <a:latin typeface="Arial"/>
                <a:ea typeface="Osaka"/>
              </a:rPr>
              <a:t>“principio transformante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  <a:ea typeface="Osak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8195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Osaka"/>
              </a:rPr>
              <a:t>Griff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266688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133720" y="3962520"/>
            <a:ext cx="5715000" cy="1371600"/>
            <a:chOff x="2133720" y="3962520"/>
            <a:chExt cx="5715000" cy="1371600"/>
          </a:xfrm>
        </p:grpSpPr>
        <p:sp>
          <p:nvSpPr>
            <p:cNvPr id="132" name=""/>
            <p:cNvSpPr/>
            <p:nvPr/>
          </p:nvSpPr>
          <p:spPr>
            <a:xfrm>
              <a:off x="2133720" y="41148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Osaka"/>
                </a:rPr>
                <a:t>neumococos 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62720" y="41148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Osaka"/>
                </a:rPr>
                <a:t>neumococos 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95680" y="3962520"/>
              <a:ext cx="914400" cy="76176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514600" y="5029200"/>
              <a:ext cx="762120" cy="304920"/>
              <a:chOff x="2514600" y="5029200"/>
              <a:chExt cx="762120" cy="304920"/>
            </a:xfrm>
          </p:grpSpPr>
          <p:sp>
            <p:nvSpPr>
              <p:cNvPr id="136" name=""/>
              <p:cNvSpPr/>
              <p:nvPr/>
            </p:nvSpPr>
            <p:spPr>
              <a:xfrm>
                <a:off x="2514600" y="5029200"/>
                <a:ext cx="380880" cy="304920"/>
              </a:xfrm>
              <a:prstGeom prst="ellipse">
                <a:avLst/>
              </a:prstGeom>
              <a:solidFill>
                <a:srgbClr val="ff66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895480" y="5029200"/>
                <a:ext cx="381240" cy="304920"/>
              </a:xfrm>
              <a:prstGeom prst="ellipse">
                <a:avLst/>
              </a:prstGeom>
              <a:solidFill>
                <a:srgbClr val="ff66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5943600" y="4876920"/>
              <a:ext cx="762120" cy="304560"/>
              <a:chOff x="5943600" y="4876920"/>
              <a:chExt cx="762120" cy="304560"/>
            </a:xfrm>
          </p:grpSpPr>
          <p:sp>
            <p:nvSpPr>
              <p:cNvPr id="139" name=""/>
              <p:cNvSpPr/>
              <p:nvPr/>
            </p:nvSpPr>
            <p:spPr>
              <a:xfrm>
                <a:off x="5943600" y="4876920"/>
                <a:ext cx="380880" cy="304560"/>
              </a:xfrm>
              <a:prstGeom prst="ellipse">
                <a:avLst/>
              </a:prstGeom>
              <a:solidFill>
                <a:srgbClr val="008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324480" y="4876920"/>
                <a:ext cx="381240" cy="304560"/>
              </a:xfrm>
              <a:prstGeom prst="ellipse">
                <a:avLst/>
              </a:prstGeom>
              <a:solidFill>
                <a:srgbClr val="008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5791320" y="4724280"/>
              <a:ext cx="1218960" cy="609840"/>
            </a:xfrm>
            <a:prstGeom prst="ellipse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8BAF-F83A-4E5C-AEA9-7DF2CDFC5D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990720" y="228600"/>
          <a:ext cx="7665840" cy="30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"/>
                    <a:ext cx="766584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6334200" y="3276720"/>
          <a:ext cx="2809800" cy="32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34200" y="3276720"/>
                    <a:ext cx="280980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4114800" y="5943600"/>
          <a:ext cx="239076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5943600"/>
                    <a:ext cx="23907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505320" y="3200400"/>
          <a:ext cx="3352680" cy="2346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3200400"/>
                    <a:ext cx="335268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57200" y="3200400"/>
          <a:ext cx="3048120" cy="2370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200400"/>
                    <a:ext cx="3048120" cy="23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F257-8A2F-40D9-90CF-F9835CDCCA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"/>
              </a:rPr>
              <a:t>DEFINIENDO AL 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6002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as de una definició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66"/>
                </a:solidFill>
                <a:latin typeface="Arial"/>
              </a:rPr>
              <a:t>Definición clásica</a:t>
            </a:r>
            <a:r>
              <a:rPr b="0" lang="es-ES_tradnl" sz="3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s-ES_tradnl" sz="3000" spc="-1" strike="noStrike">
                <a:solidFill>
                  <a:srgbClr val="ff0066"/>
                </a:solidFill>
                <a:latin typeface="Arial"/>
              </a:rPr>
              <a:t>(Mende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finición molecular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n gen es a un segmento lineal de ADN que contiene la información para sintetizar una molécula funcional, ya sea una proteína o un R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281952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6095880"/>
            <a:ext cx="739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0000"/>
                </a:solidFill>
                <a:latin typeface="Arial"/>
              </a:rPr>
              <a:t>Los genes están contenidos en el AD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52480" y="533520"/>
            <a:ext cx="5791320" cy="91440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010280" y="838080"/>
            <a:ext cx="1774800" cy="2743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2057400" cy="1646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514600" y="39625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0033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07FF-76A7-48F3-860D-1FCC9A110D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858000" cy="55134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99"/>
                </a:solidFill>
                <a:latin typeface="Arial"/>
              </a:rPr>
              <a:t>Elementos de la estructura de un 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17524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14600" y="1980000"/>
            <a:ext cx="2819520" cy="72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0" rIns="1098000" tIns="180000" bIns="180000" anchor="ctr" anchorCtr="1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Osaka"/>
              </a:rPr>
              <a:t>IN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38680" y="1980000"/>
            <a:ext cx="3124440" cy="72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0" rIns="1098000" tIns="180000" bIns="180000" anchor="ctr" anchorCtr="1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Osaka"/>
              </a:rPr>
              <a:t>TER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9880" y="3657600"/>
            <a:ext cx="266724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52680" y="3200400"/>
            <a:ext cx="762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72200" y="3200400"/>
            <a:ext cx="762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2057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Promoto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96080" y="2133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Termin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A519-BEE9-48D0-B2BB-2C06B39EE5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5T17:47:27Z</dcterms:created>
  <dc:creator>Oriana Salazar</dc:creator>
  <dc:description/>
  <dc:language>en-US</dc:language>
  <cp:lastModifiedBy>Ing Quimica</cp:lastModifiedBy>
  <dcterms:modified xsi:type="dcterms:W3CDTF">2009-01-13T13:25:19Z</dcterms:modified>
  <cp:revision>339</cp:revision>
  <dc:subject/>
  <dc:title>Genes: Qué son y dónde están?</dc:title>
</cp:coreProperties>
</file>