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2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01A-3A53-464E-89A1-0CF63942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DC0-4DE2-4A1A-A28D-73F2FF63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E1A-AFCA-4847-8A3E-F4B74DC4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7B6-B8DD-428E-8832-C3D09A20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32A4-AB44-484F-838E-2F03AF18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1667-EE02-4792-9F1C-7A40CA7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4559-230E-4327-89D1-79C1A205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5C62-3FF0-446D-BD54-ECDCA14F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BFED-DD46-4464-B564-47F3BE64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3B96-2699-40A0-A044-019CC13A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90BA-E78D-4707-B945-C4E39F89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CCC-A183-47AA-A637-F45E5212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F324-06C5-4DEF-A7CD-14EBF20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C4F7-5801-4F46-B26E-B5C30A0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3CF8-E353-4DA8-97A3-2B95765E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433F-0FDA-4E2A-AD88-89350E22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2D5-A7B0-46AC-9F1B-B8D05BDE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7E5-6E45-4B59-A572-021842EA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C6F-B23E-47A1-A011-DA2B0757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AED-446D-4B5D-BC3A-9EED9C6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50C-BE22-4BD2-9451-3DE989F6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5F2-8B8D-431C-BAC1-4B544AB3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ED0-7B42-4741-A25C-49972052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6FA-5F36-4463-8365-63861AB8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D9A1-AD5E-4F84-92F2-B9D2BCABE1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Rectangle 8"/>
            <p:cNvSpPr/>
            <p:nvPr/>
          </p:nvSpPr>
          <p:spPr>
            <a:xfrm>
              <a:off x="264960" y="592200"/>
              <a:ext cx="633600" cy="84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Picture 9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EB6-799B-4AA9-8430-D64E380017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9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4A01-C1F5-4C21-845E-5BC9D1A807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3580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Paola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barba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oratorio de Biotecnología de pla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itu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Investigaciones Agropecuarias INIA – La Pl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A2C8-2BB3-41C6-83EA-D13EAED17C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1 Título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clo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6 Imagen" descr="invitrogen cloning.JPG"/>
          <p:cNvPicPr/>
          <p:nvPr/>
        </p:nvPicPr>
        <p:blipFill>
          <a:blip r:embed="rId1"/>
          <a:stretch/>
        </p:blipFill>
        <p:spPr>
          <a:xfrm>
            <a:off x="685800" y="1676520"/>
            <a:ext cx="541008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72200" y="1981080"/>
            <a:ext cx="2743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muchos vectores comerciales para clonar usando productos de PCR. Ej. TOPO o pGEM-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identificación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VN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6 Marcador de contenido" descr="VPNR.JPG"/>
          <p:cNvPicPr/>
          <p:nvPr/>
        </p:nvPicPr>
        <p:blipFill>
          <a:blip r:embed="rId1"/>
          <a:stretch/>
        </p:blipFill>
        <p:spPr>
          <a:xfrm>
            <a:off x="1828800" y="1284120"/>
            <a:ext cx="5791320" cy="5573880"/>
          </a:xfrm>
          <a:prstGeom prst="rect">
            <a:avLst/>
          </a:prstGeom>
          <a:ln w="0">
            <a:noFill/>
          </a:ln>
        </p:spPr>
      </p:pic>
      <p:sp>
        <p:nvSpPr>
          <p:cNvPr id="13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4376-F075-47DA-9323-92C1274611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4 Marcador de contenido" descr="vntr.JPG"/>
          <p:cNvPicPr/>
          <p:nvPr/>
        </p:nvPicPr>
        <p:blipFill>
          <a:blip r:embed="rId1"/>
          <a:stretch/>
        </p:blipFill>
        <p:spPr>
          <a:xfrm>
            <a:off x="1114560" y="2133720"/>
            <a:ext cx="2771640" cy="3838320"/>
          </a:xfrm>
          <a:prstGeom prst="rect">
            <a:avLst/>
          </a:prstGeom>
          <a:ln w="0">
            <a:noFill/>
          </a:ln>
        </p:spPr>
      </p:pic>
      <p:sp>
        <p:nvSpPr>
          <p:cNvPr id="13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7CD-AD4D-4375-A8E9-AC15C63081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identificación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VN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6 Rectángulo"/>
          <p:cNvSpPr/>
          <p:nvPr/>
        </p:nvSpPr>
        <p:spPr>
          <a:xfrm>
            <a:off x="1724040" y="2895480"/>
            <a:ext cx="228600" cy="2667240"/>
          </a:xfrm>
          <a:prstGeom prst="rect">
            <a:avLst/>
          </a:prstGeom>
          <a:noFill/>
          <a:ln cap="sq"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7 Rectángulo"/>
          <p:cNvSpPr/>
          <p:nvPr/>
        </p:nvSpPr>
        <p:spPr>
          <a:xfrm>
            <a:off x="2562120" y="2895480"/>
            <a:ext cx="228600" cy="2667240"/>
          </a:xfrm>
          <a:prstGeom prst="rect">
            <a:avLst/>
          </a:prstGeom>
          <a:noFill/>
          <a:ln cap="sq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9 Conector recto de flecha"/>
          <p:cNvCxnSpPr/>
          <p:nvPr/>
        </p:nvCxnSpPr>
        <p:spPr>
          <a:xfrm>
            <a:off x="1037880" y="4114800"/>
            <a:ext cx="305640" cy="2160"/>
          </a:xfrm>
          <a:prstGeom prst="straightConnector1">
            <a:avLst/>
          </a:prstGeom>
          <a:ln cap="sq" w="1260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40" name="10 Conector recto de flecha"/>
          <p:cNvCxnSpPr/>
          <p:nvPr/>
        </p:nvCxnSpPr>
        <p:spPr>
          <a:xfrm>
            <a:off x="1037880" y="5257800"/>
            <a:ext cx="305640" cy="2160"/>
          </a:xfrm>
          <a:prstGeom prst="straightConnector1">
            <a:avLst/>
          </a:prstGeom>
          <a:ln cap="sq" w="1260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41" name="Picture 2" descr="Image783"/>
          <p:cNvPicPr/>
          <p:nvPr/>
        </p:nvPicPr>
        <p:blipFill>
          <a:blip r:embed="rId2"/>
          <a:stretch/>
        </p:blipFill>
        <p:spPr>
          <a:xfrm>
            <a:off x="5181480" y="2057400"/>
            <a:ext cx="25495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ción del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un fragmento de DNA determinado ¿cómo podemos determinar la secuencia de las moléculas que lo conform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6EB-1706-454C-B378-5D73452B37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la reacción de síntesis de DNA por una DNA polimerasa en presencia de un partidor ma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síntesis se incorpora desoxinucleótidos (dNTP) y didesoxinucleótidos (ddNT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60DD-8C02-45B2-8505-4816A6C8BF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4 Imagen" descr="ddNTP-dNTP.gif"/>
          <p:cNvPicPr/>
          <p:nvPr/>
        </p:nvPicPr>
        <p:blipFill>
          <a:blip r:embed="rId1"/>
          <a:stretch/>
        </p:blipFill>
        <p:spPr>
          <a:xfrm>
            <a:off x="1447920" y="4343400"/>
            <a:ext cx="554508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1 Título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ción del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6 CuadroTexto"/>
          <p:cNvSpPr/>
          <p:nvPr/>
        </p:nvSpPr>
        <p:spPr>
          <a:xfrm>
            <a:off x="304920" y="6172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permite la incorporación de más nucleó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7 Flecha arriba"/>
          <p:cNvSpPr/>
          <p:nvPr/>
        </p:nvSpPr>
        <p:spPr>
          <a:xfrm>
            <a:off x="2971800" y="5562720"/>
            <a:ext cx="122400" cy="609480"/>
          </a:xfrm>
          <a:prstGeom prst="upArrow">
            <a:avLst>
              <a:gd name="adj1" fmla="val 50000"/>
              <a:gd name="adj2" fmla="val 4979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Marcador de contenido"/>
          <p:cNvSpPr/>
          <p:nvPr/>
        </p:nvSpPr>
        <p:spPr>
          <a:xfrm>
            <a:off x="5410080" y="4191120"/>
            <a:ext cx="3429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ducto de cada tubo se carga en un carril del g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fragmentos se separarán por tam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FF99-5101-4CBD-9B47-CD8B67D8DD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1 Título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ción del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5 Imagen" descr="Sequencing.gif"/>
          <p:cNvPicPr/>
          <p:nvPr/>
        </p:nvPicPr>
        <p:blipFill>
          <a:blip r:embed="rId1"/>
          <a:stretch/>
        </p:blipFill>
        <p:spPr>
          <a:xfrm>
            <a:off x="609480" y="1752480"/>
            <a:ext cx="4724640" cy="4724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819520" y="1904760"/>
            <a:ext cx="5867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gregan ddGTP, ddATP, ddCTP, ddTTP en cada uno de los tubos que contienen el DNA que quiero secuenc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olimeriza la secuencia complementaria a partir del oligonucleótido marcado. Cuando incorpora un ddNTP se detiene la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D42-EF37-41DD-8469-C9648D7100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qué?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Mejoramiento de las propiedades de una enzima (actividad enzimática, p. ej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Identificación de relaciones estructura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?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Mutagénesis sitio dirig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Mutagénesi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joramiento de enzimas industriales por ingeniería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C64F-4584-41CD-9B62-AD91B6E636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aumentar la termoestabilidad de una enzima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 Pa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mentar la eficiencia cata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 Para 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biar la especificidad de sustrato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Para modificar la 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tructura de la proteína y facilitar la pur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. Para eliminar la regulación alostéric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6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1D40-63DC-4DFC-8DA1-CEB43FA0F6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1365120" y="1981080"/>
          <a:ext cx="6102360" cy="45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5120" y="1981080"/>
                    <a:ext cx="610236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geniería de la lisozima para aumentar la resistencia  a la temp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F4BB-09FE-4FE7-A463-5ADDE646BB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657600" y="2214720"/>
            <a:ext cx="5486400" cy="43862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52280" y="3056040"/>
            <a:ext cx="3200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Lisozima del fago T4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rompe la pared de bacterias, para permitir la entrada del 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m =42º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pósito de la Ingeniería de proteínas es la estabilización por introducción de puentes disulfuro (S-S) en aa cis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evo Tm= 59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28954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onación usando un bacterióf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4 Marcador de contenido" descr="phage.gif"/>
          <p:cNvPicPr/>
          <p:nvPr/>
        </p:nvPicPr>
        <p:blipFill>
          <a:blip r:embed="rId1"/>
          <a:stretch/>
        </p:blipFill>
        <p:spPr>
          <a:xfrm>
            <a:off x="1447920" y="1909800"/>
            <a:ext cx="5867280" cy="4552920"/>
          </a:xfrm>
          <a:prstGeom prst="rect">
            <a:avLst/>
          </a:prstGeom>
          <a:ln w="0">
            <a:noFill/>
          </a:ln>
        </p:spPr>
      </p:pic>
      <p:sp>
        <p:nvSpPr>
          <p:cNvPr id="9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804E-8132-481E-A88C-27A7AFDE77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5 Flecha izquierda"/>
          <p:cNvSpPr/>
          <p:nvPr/>
        </p:nvSpPr>
        <p:spPr>
          <a:xfrm>
            <a:off x="7162920" y="4572000"/>
            <a:ext cx="11430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cap="sq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2362320"/>
            <a:ext cx="3429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fecto de la introducción de cisteínas en la secuencia de proteí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6B3E-DC45-4EFE-B4AF-C05E503E2A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038480" y="209520"/>
            <a:ext cx="4529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olución dirigida de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CC2C-0345-4B07-BD75-19C070A270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046160" y="1905120"/>
          <a:ext cx="703116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1905120"/>
                    <a:ext cx="70311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DB37-9992-4854-AA99-92D9F20EFF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201680" y="3735360"/>
            <a:ext cx="3727440" cy="2478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5859360" y="3367080"/>
            <a:ext cx="2903760" cy="32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Object 2"/>
          <p:cNvGraphicFramePr/>
          <p:nvPr/>
        </p:nvGraphicFramePr>
        <p:xfrm>
          <a:off x="135000" y="154080"/>
          <a:ext cx="8610480" cy="320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5000" y="154080"/>
                    <a:ext cx="861048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9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646E-A5C0-4E7F-9DDC-6726648E0D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1214280" y="673200"/>
          <a:ext cx="7409160" cy="613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673200"/>
                    <a:ext cx="740916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2"/>
          <p:cNvSpPr/>
          <p:nvPr/>
        </p:nvSpPr>
        <p:spPr>
          <a:xfrm>
            <a:off x="927000" y="76320"/>
            <a:ext cx="806472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utagénesis al azar y selección de proteínas mutadas mas activas a &gt; T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 Marcador de contenido" descr="phage 2.gif"/>
          <p:cNvPicPr/>
          <p:nvPr/>
        </p:nvPicPr>
        <p:blipFill>
          <a:blip r:embed="rId1"/>
          <a:stretch/>
        </p:blipFill>
        <p:spPr>
          <a:xfrm>
            <a:off x="2971800" y="380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9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F06E-EF8B-43A4-8683-04EED38FC8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empaquetamiento del DNA recombinante en la proteína del fago depende de secuencias específicas ubicadas en los extremos d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CR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cción de polimerización en cadena – Técnica que nos permite obtener muchas copias de un fragmento específico d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uenci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 que nos permite obtener la secuencia de un fragmento de DNA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obtener proteínas con características mejo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tagénesis sitio dirig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tagénesis al 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 Título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s a tra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… recordatorio de l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sumanasinc.com/webcontent/animations/content/pc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specífico para la secuencia de los oligonucleótidos us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plifica miles de veces el fragmento de DNA comprendido entre los oligonucleót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 nos permite identificar y manipular dichos frag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AA91-0B97-4DF7-8ABF-DAEB441BFD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: 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agnóstico de patógenos en muestras biológicas, GM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plificación de fragmentos para clo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dentificación de individu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ter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amiento ge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8EA7-3E46-4504-A40E-9556512382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en diagnó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tógen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écnicas tr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DF73-808D-429A-9AF0-3AF86AAFB7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4 Imagen" descr="salmonella.JPG"/>
          <p:cNvPicPr/>
          <p:nvPr/>
        </p:nvPicPr>
        <p:blipFill>
          <a:blip r:embed="rId1"/>
          <a:stretch/>
        </p:blipFill>
        <p:spPr>
          <a:xfrm>
            <a:off x="533520" y="2590920"/>
            <a:ext cx="3749400" cy="3890880"/>
          </a:xfrm>
          <a:prstGeom prst="rect">
            <a:avLst/>
          </a:prstGeom>
          <a:ln w="0">
            <a:noFill/>
          </a:ln>
        </p:spPr>
      </p:pic>
      <p:sp>
        <p:nvSpPr>
          <p:cNvPr id="107" name="2 Marcador de contenido"/>
          <p:cNvSpPr/>
          <p:nvPr/>
        </p:nvSpPr>
        <p:spPr>
          <a:xfrm>
            <a:off x="3505320" y="2514600"/>
            <a:ext cx="533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Toma de mu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Cultivo y sub-cultivos bacter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Identificación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6 Flecha abajo"/>
          <p:cNvSpPr/>
          <p:nvPr/>
        </p:nvSpPr>
        <p:spPr>
          <a:xfrm>
            <a:off x="6248520" y="3048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7 Flecha abajo"/>
          <p:cNvSpPr/>
          <p:nvPr/>
        </p:nvSpPr>
        <p:spPr>
          <a:xfrm>
            <a:off x="6248520" y="44956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8 Flecha curvada hacia arriba"/>
          <p:cNvSpPr/>
          <p:nvPr/>
        </p:nvSpPr>
        <p:spPr>
          <a:xfrm rot="16400400">
            <a:off x="7746840" y="4270320"/>
            <a:ext cx="1309680" cy="572760"/>
          </a:xfrm>
          <a:custGeom>
            <a:avLst/>
            <a:gdLst>
              <a:gd name="textAreaLeft" fmla="*/ 273600 w 1309680"/>
              <a:gd name="textAreaRight" fmla="*/ 964440 w 1309680"/>
              <a:gd name="textAreaTop" fmla="*/ 76680 h 572760"/>
              <a:gd name="textAreaBottom" fmla="*/ 496080 h 57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28" hR="21600" stAng="10800000" swAng="-5400000"/>
                <a:lnTo>
                  <a:pt x="11391" y="21600"/>
                </a:lnTo>
                <a:arcTo wR="9028" hR="21600" stAng="5400000" swAng="-3497559"/>
                <a:lnTo>
                  <a:pt x="21313" y="5400"/>
                </a:lnTo>
                <a:lnTo>
                  <a:pt x="19237" y="0"/>
                </a:lnTo>
                <a:lnTo>
                  <a:pt x="16586" y="5400"/>
                </a:lnTo>
                <a:lnTo>
                  <a:pt x="17768" y="5400"/>
                </a:lnTo>
                <a:arcTo wR="9028" hR="21600" stAng="1902441" swAng="3308079"/>
                <a:lnTo>
                  <a:pt x="10209" y="21414"/>
                </a:lnTo>
                <a:arcTo wR="9028" hR="21600" stAng="5589481" swAng="5210519"/>
                <a:close/>
              </a:path>
              <a:path fill="darkenLess" w="21600" h="21600">
                <a:moveTo>
                  <a:pt x="0" y="0"/>
                </a:moveTo>
                <a:arcTo wR="9028" hR="21600" stAng="10800000" swAng="-5400000"/>
                <a:lnTo>
                  <a:pt x="11391" y="21600"/>
                </a:lnTo>
                <a:arcTo wR="9028" hR="21600" stAng="5400000" swAng="189481"/>
                <a:lnTo>
                  <a:pt x="10209" y="21414"/>
                </a:lnTo>
                <a:arcTo wR="9028" hR="21600" stAng="5589481" swAng="5210519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9 CuadroTexto"/>
          <p:cNvSpPr/>
          <p:nvPr/>
        </p:nvSpPr>
        <p:spPr>
          <a:xfrm rot="19774800">
            <a:off x="4452480" y="43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10 CuadroTexto"/>
          <p:cNvSpPr/>
          <p:nvPr/>
        </p:nvSpPr>
        <p:spPr>
          <a:xfrm rot="19774800">
            <a:off x="4332600" y="5351400"/>
            <a:ext cx="20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UCHOS 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11 CuadroTexto"/>
          <p:cNvSpPr/>
          <p:nvPr/>
        </p:nvSpPr>
        <p:spPr>
          <a:xfrm rot="19774800">
            <a:off x="6465960" y="546912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TRASA  EL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A1BA-2A05-4103-9A68-74D7499184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 Título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en diagnós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2 Marcador de contenido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tógen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762120" y="251460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Toma de mu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Extracción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Osaka"/>
              </a:rPr>
              <a:t>Análisis resultados (Electroforesis o Tiempo Re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7 Flecha abajo"/>
          <p:cNvSpPr/>
          <p:nvPr/>
        </p:nvSpPr>
        <p:spPr>
          <a:xfrm>
            <a:off x="4876920" y="3048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8 Flecha abajo"/>
          <p:cNvSpPr/>
          <p:nvPr/>
        </p:nvSpPr>
        <p:spPr>
          <a:xfrm>
            <a:off x="4876920" y="40384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9 Flecha abajo"/>
          <p:cNvSpPr/>
          <p:nvPr/>
        </p:nvSpPr>
        <p:spPr>
          <a:xfrm>
            <a:off x="4876920" y="502920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10 CuadroTexto"/>
          <p:cNvSpPr/>
          <p:nvPr/>
        </p:nvSpPr>
        <p:spPr>
          <a:xfrm rot="19774800">
            <a:off x="1902600" y="36068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11 CuadroTexto"/>
          <p:cNvSpPr/>
          <p:nvPr/>
        </p:nvSpPr>
        <p:spPr>
          <a:xfrm rot="21061800">
            <a:off x="2412720" y="47559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12 CuadroTexto"/>
          <p:cNvSpPr/>
          <p:nvPr/>
        </p:nvSpPr>
        <p:spPr>
          <a:xfrm rot="450600">
            <a:off x="6419880" y="450216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CR para clo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 Marcador de contenido" descr="cloning by pcr.JPG"/>
          <p:cNvPicPr/>
          <p:nvPr/>
        </p:nvPicPr>
        <p:blipFill>
          <a:blip r:embed="rId1"/>
          <a:stretch/>
        </p:blipFill>
        <p:spPr>
          <a:xfrm>
            <a:off x="839880" y="2057400"/>
            <a:ext cx="7326360" cy="4038480"/>
          </a:xfrm>
          <a:prstGeom prst="rect">
            <a:avLst/>
          </a:prstGeom>
          <a:ln w="0">
            <a:noFill/>
          </a:ln>
        </p:spPr>
      </p:pic>
      <p:sp>
        <p:nvSpPr>
          <p:cNvPr id="12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873F-7FEE-4156-8B5E-519180FA4A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dell</cp:lastModifiedBy>
  <dcterms:modified xsi:type="dcterms:W3CDTF">2009-01-21T07:59:35Z</dcterms:modified>
  <cp:revision>376</cp:revision>
  <dc:subject/>
  <dc:title>Genes: Qué son y dónde están?</dc:title>
</cp:coreProperties>
</file>