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2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66B-9917-46E4-973D-9863A729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D6CF-38C3-461F-A21F-80E2D84B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7C05-7EE0-4FB9-9D62-54C3F36A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3D6-E7E7-49F1-8D02-153148F9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DCA8-5854-48BE-9792-73E985AF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E751-7108-4019-97E2-D991A39A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996C-2FDD-49A7-8DE0-4AE79132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C5E2-9EA7-4F64-86FF-0A761CBA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CD8B-52CA-4680-B7DE-8CC5AD0F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F5E6-2A6D-47F7-A5C6-C7EA5A9E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7F3B-D52B-4749-8406-CFB019B6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9E3A-1EFA-44A9-9F2D-0FC957D9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39AD-06DE-4B7E-B10A-FE9083E8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5489-0984-47FB-8199-F479598A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C919-8799-493A-B6D4-1DDC8E86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C834-2B4A-4D82-8E98-50684630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43DE-0951-4400-AE89-42AF664D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B16-BCD2-4534-AD9F-7346CD59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CE4-B015-4037-B381-048B7833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A91-4911-4E9E-8C76-943DA322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385-84D9-488B-9EBD-3BD94C94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920E-CF00-4D8B-AD94-DC98FE50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87A-4C39-4ACC-9875-12C440CD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B5F-D43E-440A-A6C0-4C7E8F4F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4D60-64ED-4472-9AE8-4794F6A6056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28600" y="0"/>
            <a:ext cx="677880" cy="1523880"/>
            <a:chOff x="228600" y="0"/>
            <a:chExt cx="677880" cy="1523880"/>
          </a:xfrm>
        </p:grpSpPr>
        <p:sp>
          <p:nvSpPr>
            <p:cNvPr id="6" name="Rectangle 8"/>
            <p:cNvSpPr/>
            <p:nvPr/>
          </p:nvSpPr>
          <p:spPr>
            <a:xfrm>
              <a:off x="264960" y="592200"/>
              <a:ext cx="633600" cy="84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Picture 9" descr=""/>
            <p:cNvPicPr/>
            <p:nvPr/>
          </p:nvPicPr>
          <p:blipFill>
            <a:blip r:embed="rId2"/>
            <a:srcRect l="6136" t="0" r="7364" b="0"/>
            <a:stretch/>
          </p:blipFill>
          <p:spPr>
            <a:xfrm>
              <a:off x="228600" y="0"/>
              <a:ext cx="6778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B3D9-CBBC-4844-BFCF-E90E145298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IOTECNOLOGÍ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2009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E01C-92F2-401F-84A1-98C3FCBC94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3580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f. Paola Ba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barba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oratorio de Biotecnología de pla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stitu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Investigaciones Agropecuarias INIA – La Pl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58B1-230D-4EDA-A50E-181FAA5538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1 Título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para clon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6 Imagen" descr="invitrogen cloning.JPG"/>
          <p:cNvPicPr/>
          <p:nvPr/>
        </p:nvPicPr>
        <p:blipFill>
          <a:blip r:embed="rId1"/>
          <a:stretch/>
        </p:blipFill>
        <p:spPr>
          <a:xfrm>
            <a:off x="685800" y="1676520"/>
            <a:ext cx="5410080" cy="4971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172200" y="1981080"/>
            <a:ext cx="2743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n muchos vectores comerciales para clonar usando productos de PCR. Ej. TOPO o pGEM-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para identificación</a:t>
            </a:r>
            <a:br>
              <a:rPr sz="44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ndo VN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6 Marcador de contenido" descr="VPNR.JPG"/>
          <p:cNvPicPr/>
          <p:nvPr/>
        </p:nvPicPr>
        <p:blipFill>
          <a:blip r:embed="rId1"/>
          <a:stretch/>
        </p:blipFill>
        <p:spPr>
          <a:xfrm>
            <a:off x="1828800" y="1284120"/>
            <a:ext cx="5791320" cy="5573880"/>
          </a:xfrm>
          <a:prstGeom prst="rect">
            <a:avLst/>
          </a:prstGeom>
          <a:ln w="0">
            <a:noFill/>
          </a:ln>
        </p:spPr>
      </p:pic>
      <p:sp>
        <p:nvSpPr>
          <p:cNvPr id="13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95AF-0317-4C5F-B7DD-4C601BB05EB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4 Marcador de contenido" descr="vntr.JPG"/>
          <p:cNvPicPr/>
          <p:nvPr/>
        </p:nvPicPr>
        <p:blipFill>
          <a:blip r:embed="rId1"/>
          <a:stretch/>
        </p:blipFill>
        <p:spPr>
          <a:xfrm>
            <a:off x="1114560" y="2133720"/>
            <a:ext cx="2771640" cy="3838320"/>
          </a:xfrm>
          <a:prstGeom prst="rect">
            <a:avLst/>
          </a:prstGeom>
          <a:ln w="0">
            <a:noFill/>
          </a:ln>
        </p:spPr>
      </p:pic>
      <p:sp>
        <p:nvSpPr>
          <p:cNvPr id="135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C57B-9DD1-4C7A-B5A4-6C19534669A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1 Título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para identificación</a:t>
            </a:r>
            <a:br>
              <a:rPr sz="44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ndo VN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6 Rectángulo"/>
          <p:cNvSpPr/>
          <p:nvPr/>
        </p:nvSpPr>
        <p:spPr>
          <a:xfrm>
            <a:off x="1724040" y="2895480"/>
            <a:ext cx="228600" cy="2667240"/>
          </a:xfrm>
          <a:prstGeom prst="rect">
            <a:avLst/>
          </a:prstGeom>
          <a:noFill/>
          <a:ln cap="sq"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7 Rectángulo"/>
          <p:cNvSpPr/>
          <p:nvPr/>
        </p:nvSpPr>
        <p:spPr>
          <a:xfrm>
            <a:off x="2562120" y="2895480"/>
            <a:ext cx="228600" cy="2667240"/>
          </a:xfrm>
          <a:prstGeom prst="rect">
            <a:avLst/>
          </a:prstGeom>
          <a:noFill/>
          <a:ln cap="sq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9 Conector recto de flecha"/>
          <p:cNvCxnSpPr/>
          <p:nvPr/>
        </p:nvCxnSpPr>
        <p:spPr>
          <a:xfrm>
            <a:off x="1037880" y="4114800"/>
            <a:ext cx="305640" cy="2160"/>
          </a:xfrm>
          <a:prstGeom prst="straightConnector1">
            <a:avLst/>
          </a:prstGeom>
          <a:ln cap="sq" w="1260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140" name="10 Conector recto de flecha"/>
          <p:cNvCxnSpPr/>
          <p:nvPr/>
        </p:nvCxnSpPr>
        <p:spPr>
          <a:xfrm>
            <a:off x="1037880" y="5257800"/>
            <a:ext cx="305640" cy="2160"/>
          </a:xfrm>
          <a:prstGeom prst="straightConnector1">
            <a:avLst/>
          </a:prstGeom>
          <a:ln cap="sq" w="1260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41" name="Picture 2" descr="Image783"/>
          <p:cNvPicPr/>
          <p:nvPr/>
        </p:nvPicPr>
        <p:blipFill>
          <a:blip r:embed="rId2"/>
          <a:stretch/>
        </p:blipFill>
        <p:spPr>
          <a:xfrm>
            <a:off x="5181480" y="2057400"/>
            <a:ext cx="25495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cuenciación del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un fragmento de DNA determinado ¿cómo podemos determinar la secuencia de las moléculas que lo conform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2BC0-864B-463B-BC60-D71C9AE6C29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la reacción de síntesis de DNA por una DNA polimerasa en presencia de un partidor ma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la síntesis se incorpora desoxinucleótidos (dNTP) y didesoxinucleótidos (ddNT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E9B5-CEE7-4D71-BD3E-396DAE05E7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4 Imagen" descr="ddNTP-dNTP.gif"/>
          <p:cNvPicPr/>
          <p:nvPr/>
        </p:nvPicPr>
        <p:blipFill>
          <a:blip r:embed="rId1"/>
          <a:stretch/>
        </p:blipFill>
        <p:spPr>
          <a:xfrm>
            <a:off x="1447920" y="4343400"/>
            <a:ext cx="554508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1 Título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cuenciación del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6 CuadroTexto"/>
          <p:cNvSpPr/>
          <p:nvPr/>
        </p:nvSpPr>
        <p:spPr>
          <a:xfrm>
            <a:off x="304920" y="6172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permite la incorporación de más nucleó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7 Flecha arriba"/>
          <p:cNvSpPr/>
          <p:nvPr/>
        </p:nvSpPr>
        <p:spPr>
          <a:xfrm>
            <a:off x="2971800" y="5562720"/>
            <a:ext cx="122400" cy="609480"/>
          </a:xfrm>
          <a:prstGeom prst="upArrow">
            <a:avLst>
              <a:gd name="adj1" fmla="val 50000"/>
              <a:gd name="adj2" fmla="val 49794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6 Marcador de contenido"/>
          <p:cNvSpPr/>
          <p:nvPr/>
        </p:nvSpPr>
        <p:spPr>
          <a:xfrm>
            <a:off x="5410080" y="4191120"/>
            <a:ext cx="34290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roducto de cada tubo se carga en un carril del g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fragmentos se separarán por tama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1537-8ABA-4968-984A-25E1C41DA4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1 Título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cuenciación del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5 Imagen" descr="Sequencing.gif"/>
          <p:cNvPicPr/>
          <p:nvPr/>
        </p:nvPicPr>
        <p:blipFill>
          <a:blip r:embed="rId1"/>
          <a:stretch/>
        </p:blipFill>
        <p:spPr>
          <a:xfrm>
            <a:off x="609480" y="1752480"/>
            <a:ext cx="4724640" cy="4724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819520" y="1904760"/>
            <a:ext cx="5867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gregan ddGTP, ddATP, ddCTP, ddTTP en cada uno de los tubos que contienen el DNA que quiero secuenci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olimeriza la secuencia complementaria a partir del oligonucleótido marcado. Cuando incorpora un ddNTP se detiene la re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geniería de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29E2-FD11-4211-9F6E-3541528189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qué?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Mejoramiento de las propiedades de una enzima (actividad enzimática, p. ej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Identificación de relaciones estructura fu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?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Mutagénesis sitio dirig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Mutagénesi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joramiento de enzimas industriales por ingeniería de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DB47-644A-4AB6-9B49-288C452D18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aumentar la termoestabilidad de una enzima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 Par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mentar la eficiencia catal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 Para c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biar la especificidad de sustrato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 Para modificar la 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tructura de la proteína y facilitar la purif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Para eliminar la regulación alostérica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utagénesis sitio dirig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6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1FCF-0D73-4703-BA9B-EB136DF81A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1365120" y="1981080"/>
          <a:ext cx="6102360" cy="45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65120" y="1981080"/>
                    <a:ext cx="610236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geniería de la lisozima para aumentar la resistencia  a la temp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852C-D17D-4823-BB27-ADD3DBC532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3657600" y="2214720"/>
            <a:ext cx="5486400" cy="43862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52280" y="3056040"/>
            <a:ext cx="32004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imes New Roman"/>
              </a:rPr>
              <a:t>Lisozima del fago T4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rompe la pared de bacterias, para permitir la entrada del vi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m =42º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pósito de la Ingeniería de proteínas es la estabilización por introducción de puentes disulfuro (S-S) en aa cisteí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uevo Tm= 59º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289548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onación usando un bacterióf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4 Marcador de contenido" descr="phage.gif"/>
          <p:cNvPicPr/>
          <p:nvPr/>
        </p:nvPicPr>
        <p:blipFill>
          <a:blip r:embed="rId1"/>
          <a:stretch/>
        </p:blipFill>
        <p:spPr>
          <a:xfrm>
            <a:off x="1447920" y="1909800"/>
            <a:ext cx="5867280" cy="4552920"/>
          </a:xfrm>
          <a:prstGeom prst="rect">
            <a:avLst/>
          </a:prstGeom>
          <a:ln w="0">
            <a:noFill/>
          </a:ln>
        </p:spPr>
      </p:pic>
      <p:sp>
        <p:nvSpPr>
          <p:cNvPr id="9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6895-A50B-4AF8-9EDC-0E3B4F21728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5 Flecha izquierda"/>
          <p:cNvSpPr/>
          <p:nvPr/>
        </p:nvSpPr>
        <p:spPr>
          <a:xfrm>
            <a:off x="7162920" y="4572000"/>
            <a:ext cx="1143000" cy="304920"/>
          </a:xfrm>
          <a:prstGeom prst="leftArrow">
            <a:avLst>
              <a:gd name="adj1" fmla="val 50000"/>
              <a:gd name="adj2" fmla="val 49980"/>
            </a:avLst>
          </a:prstGeom>
          <a:solidFill>
            <a:srgbClr val="ffc000"/>
          </a:solidFill>
          <a:ln cap="sq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2362320"/>
            <a:ext cx="3429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fecto de la introducción de cisteínas en la secuencia de proteí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0ED2-52B5-49BC-9054-3099670879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4038480" y="209520"/>
            <a:ext cx="452916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volución dirigida de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8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02F8-C974-47DB-AAA7-96497DB648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046160" y="1905120"/>
          <a:ext cx="7031160" cy="49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6160" y="1905120"/>
                    <a:ext cx="70311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8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B030-10CA-49F3-8DB6-DFACE2DE6BF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201680" y="3735360"/>
            <a:ext cx="3727440" cy="2478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3"/>
          <a:stretch/>
        </p:blipFill>
        <p:spPr>
          <a:xfrm>
            <a:off x="5859360" y="3367080"/>
            <a:ext cx="2903760" cy="32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Object 2"/>
          <p:cNvGraphicFramePr/>
          <p:nvPr/>
        </p:nvGraphicFramePr>
        <p:xfrm>
          <a:off x="135000" y="154080"/>
          <a:ext cx="8610480" cy="3209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5000" y="154080"/>
                    <a:ext cx="861048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9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7641-8B01-4164-B975-910C26529AE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1214280" y="673200"/>
          <a:ext cx="7409160" cy="613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673200"/>
                    <a:ext cx="7409160" cy="61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2"/>
          <p:cNvSpPr/>
          <p:nvPr/>
        </p:nvSpPr>
        <p:spPr>
          <a:xfrm>
            <a:off x="927000" y="76320"/>
            <a:ext cx="8064720" cy="10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Mutagénesis al azar y selección de proteínas mutadas mas activas a &gt; T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4 Marcador de contenido" descr="phage 2.gif"/>
          <p:cNvPicPr/>
          <p:nvPr/>
        </p:nvPicPr>
        <p:blipFill>
          <a:blip r:embed="rId1"/>
          <a:stretch/>
        </p:blipFill>
        <p:spPr>
          <a:xfrm>
            <a:off x="2971800" y="380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9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98F5-6450-4200-B0C1-3B542AD5C6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45720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empaquetamiento del DNA recombinante en la proteína del fago depende de secuencias específicas ubicadas en los extremos d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CR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cción de polimerización en cadena – Técnica que nos permite obtener muchas copias de un fragmento específico de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cuenci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écnica que nos permite obtener la secuencia de un fragmento de DNA 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geniería de proteín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obtener proteínas con características mejo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tagénesis sitio dirig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tagénesis al a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 Título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mas a tra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… recordatorio de l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sumanasinc.com/webcontent/animations/content/pc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específico para la secuencia de los oligonucleótidos us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plifica miles de veces el fragmento de DNA comprendido entre los oligonucleót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o nos permite identificar y manipular dichos frag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CD3E-6BB5-4273-9526-51E46B57D3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: 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agnóstico de patógenos en muestras biológicas, GMO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plificación de fragmentos para clon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dentificación de individu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ter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joramiento gen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FE1F-D053-4932-9EB4-A3894473B5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en diagnó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tógen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écnicas tradi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BEFE-569C-4029-A33A-089961D652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4 Imagen" descr="salmonella.JPG"/>
          <p:cNvPicPr/>
          <p:nvPr/>
        </p:nvPicPr>
        <p:blipFill>
          <a:blip r:embed="rId1"/>
          <a:stretch/>
        </p:blipFill>
        <p:spPr>
          <a:xfrm>
            <a:off x="533520" y="2590920"/>
            <a:ext cx="3749400" cy="3890880"/>
          </a:xfrm>
          <a:prstGeom prst="rect">
            <a:avLst/>
          </a:prstGeom>
          <a:ln w="0">
            <a:noFill/>
          </a:ln>
        </p:spPr>
      </p:pic>
      <p:sp>
        <p:nvSpPr>
          <p:cNvPr id="107" name="2 Marcador de contenido"/>
          <p:cNvSpPr/>
          <p:nvPr/>
        </p:nvSpPr>
        <p:spPr>
          <a:xfrm>
            <a:off x="3505320" y="2514600"/>
            <a:ext cx="5333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Toma de mues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Cultivo y sub-cultivos bacteri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Identificación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6 Flecha abajo"/>
          <p:cNvSpPr/>
          <p:nvPr/>
        </p:nvSpPr>
        <p:spPr>
          <a:xfrm>
            <a:off x="6248520" y="3048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7 Flecha abajo"/>
          <p:cNvSpPr/>
          <p:nvPr/>
        </p:nvSpPr>
        <p:spPr>
          <a:xfrm>
            <a:off x="6248520" y="4495680"/>
            <a:ext cx="228600" cy="53352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8 Flecha curvada hacia arriba"/>
          <p:cNvSpPr/>
          <p:nvPr/>
        </p:nvSpPr>
        <p:spPr>
          <a:xfrm rot="16400400">
            <a:off x="7746840" y="4270320"/>
            <a:ext cx="1309680" cy="572760"/>
          </a:xfrm>
          <a:custGeom>
            <a:avLst/>
            <a:gdLst>
              <a:gd name="textAreaLeft" fmla="*/ 273600 w 1309680"/>
              <a:gd name="textAreaRight" fmla="*/ 964440 w 1309680"/>
              <a:gd name="textAreaTop" fmla="*/ 76680 h 572760"/>
              <a:gd name="textAreaBottom" fmla="*/ 496080 h 57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28" hR="21600" stAng="10800000" swAng="-5400000"/>
                <a:lnTo>
                  <a:pt x="11391" y="21600"/>
                </a:lnTo>
                <a:arcTo wR="9028" hR="21600" stAng="5400000" swAng="-3497559"/>
                <a:lnTo>
                  <a:pt x="21313" y="5400"/>
                </a:lnTo>
                <a:lnTo>
                  <a:pt x="19237" y="0"/>
                </a:lnTo>
                <a:lnTo>
                  <a:pt x="16586" y="5400"/>
                </a:lnTo>
                <a:lnTo>
                  <a:pt x="17768" y="5400"/>
                </a:lnTo>
                <a:arcTo wR="9028" hR="21600" stAng="1902441" swAng="3308079"/>
                <a:lnTo>
                  <a:pt x="10209" y="21414"/>
                </a:lnTo>
                <a:arcTo wR="9028" hR="21600" stAng="5589481" swAng="5210519"/>
                <a:close/>
              </a:path>
              <a:path fill="darkenLess" w="21600" h="21600">
                <a:moveTo>
                  <a:pt x="0" y="0"/>
                </a:moveTo>
                <a:arcTo wR="9028" hR="21600" stAng="10800000" swAng="-5400000"/>
                <a:lnTo>
                  <a:pt x="11391" y="21600"/>
                </a:lnTo>
                <a:arcTo wR="9028" hR="21600" stAng="5400000" swAng="189481"/>
                <a:lnTo>
                  <a:pt x="10209" y="21414"/>
                </a:lnTo>
                <a:arcTo wR="9028" hR="21600" stAng="5589481" swAng="5210519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9 CuadroTexto"/>
          <p:cNvSpPr/>
          <p:nvPr/>
        </p:nvSpPr>
        <p:spPr>
          <a:xfrm rot="19774800">
            <a:off x="4452480" y="4314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L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10 CuadroTexto"/>
          <p:cNvSpPr/>
          <p:nvPr/>
        </p:nvSpPr>
        <p:spPr>
          <a:xfrm rot="19774800">
            <a:off x="4332600" y="5351400"/>
            <a:ext cx="20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MUCHOS RE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11 CuadroTexto"/>
          <p:cNvSpPr/>
          <p:nvPr/>
        </p:nvSpPr>
        <p:spPr>
          <a:xfrm rot="19774800">
            <a:off x="6465960" y="546912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TRASA  EL TRA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1AA0-E0D9-4F5C-B343-164DE233A45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1 Título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en diagnós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2 Marcador de contenido"/>
          <p:cNvSpPr/>
          <p:nvPr/>
        </p:nvSpPr>
        <p:spPr>
          <a:xfrm>
            <a:off x="685800" y="1981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tógen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2 Marcador de contenido"/>
          <p:cNvSpPr/>
          <p:nvPr/>
        </p:nvSpPr>
        <p:spPr>
          <a:xfrm>
            <a:off x="762120" y="251460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Toma de mues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Extracción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P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Análisis resultados (Electroforesis o Tiempo Re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7 Flecha abajo"/>
          <p:cNvSpPr/>
          <p:nvPr/>
        </p:nvSpPr>
        <p:spPr>
          <a:xfrm>
            <a:off x="4876920" y="3048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8 Flecha abajo"/>
          <p:cNvSpPr/>
          <p:nvPr/>
        </p:nvSpPr>
        <p:spPr>
          <a:xfrm>
            <a:off x="4876920" y="4038480"/>
            <a:ext cx="228600" cy="53352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9 Flecha abajo"/>
          <p:cNvSpPr/>
          <p:nvPr/>
        </p:nvSpPr>
        <p:spPr>
          <a:xfrm>
            <a:off x="4876920" y="5029200"/>
            <a:ext cx="228600" cy="53352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10 CuadroTexto"/>
          <p:cNvSpPr/>
          <p:nvPr/>
        </p:nvSpPr>
        <p:spPr>
          <a:xfrm rot="19774800">
            <a:off x="1902600" y="360684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11 CuadroTexto"/>
          <p:cNvSpPr/>
          <p:nvPr/>
        </p:nvSpPr>
        <p:spPr>
          <a:xfrm rot="21061800">
            <a:off x="2412720" y="475596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12 CuadroTexto"/>
          <p:cNvSpPr/>
          <p:nvPr/>
        </p:nvSpPr>
        <p:spPr>
          <a:xfrm rot="450600">
            <a:off x="6419880" y="450216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para clo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4 Marcador de contenido" descr="cloning by pcr.JPG"/>
          <p:cNvPicPr/>
          <p:nvPr/>
        </p:nvPicPr>
        <p:blipFill>
          <a:blip r:embed="rId1"/>
          <a:stretch/>
        </p:blipFill>
        <p:spPr>
          <a:xfrm>
            <a:off x="839880" y="2057400"/>
            <a:ext cx="7326360" cy="4038480"/>
          </a:xfrm>
          <a:prstGeom prst="rect">
            <a:avLst/>
          </a:prstGeom>
          <a:ln w="0">
            <a:noFill/>
          </a:ln>
        </p:spPr>
      </p:pic>
      <p:sp>
        <p:nvSpPr>
          <p:cNvPr id="12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38BF-8148-4530-B2F1-2AA685BB53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7:47:27Z</dcterms:created>
  <dc:creator>Oriana Salazar</dc:creator>
  <dc:description/>
  <dc:language>en-US</dc:language>
  <cp:lastModifiedBy>dell</cp:lastModifiedBy>
  <dcterms:modified xsi:type="dcterms:W3CDTF">2009-01-21T07:59:35Z</dcterms:modified>
  <cp:revision>376</cp:revision>
  <dc:subject/>
  <dc:title>Genes: Qué son y dónde están?</dc:title>
</cp:coreProperties>
</file>