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D48-435B-4A6A-A751-395E04F6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230-D598-49F0-AC30-FF6456E4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3D4-1BA4-4E46-B4DE-48D61AE6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A5D-587B-493B-BAD0-9F187C2A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31A-44D9-43F1-8031-38EBFD5F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FC6-5C14-4F1C-B1AC-849C2B51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73E-8E67-4026-92AF-0272D708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A3A-FA64-4E71-9824-BD780357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A47-3512-44E3-BA10-F0B00CDD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BE3-FBF4-418B-B0CC-42D67913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2F6-2B60-498F-9852-EC31ACA2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33D-4E15-44F4-94A7-DABBCE2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E990-F29A-49D2-BA31-4796CF698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Osaka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Osaka"/>
              </a:rPr>
              <a:t>2009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Osaka"/>
              </a:rPr>
              <a:t>Prof. Oriana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Centro de Ingeniería Bio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Dpto. de Ingeniería 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Fac. Ciencias Físicas y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0"/>
            <a:ext cx="895320" cy="2013120"/>
            <a:chOff x="228600" y="0"/>
            <a:chExt cx="895320" cy="2013120"/>
          </a:xfrm>
        </p:grpSpPr>
        <p:sp>
          <p:nvSpPr>
            <p:cNvPr id="44" name=""/>
            <p:cNvSpPr/>
            <p:nvPr/>
          </p:nvSpPr>
          <p:spPr>
            <a:xfrm>
              <a:off x="276120" y="781560"/>
              <a:ext cx="837720" cy="11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rcRect l="6136" t="0" r="7364" b="0"/>
            <a:stretch/>
          </p:blipFill>
          <p:spPr>
            <a:xfrm>
              <a:off x="228600" y="0"/>
              <a:ext cx="895320" cy="20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erapia gé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 tera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ca, genes sanos so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c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os a un individuo que tienen u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rd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 derivado de un gen defectuoso. La idea es que los genes sano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 a los genes defectuosos, permitiendo al cuerpo del paciente funcional mejor. Una estrategia común es usar u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ru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m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h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lo para transportar los nuevo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ne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tamente en las células del pacien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rapia gé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6910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del gen “remedi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2276640"/>
            <a:ext cx="8064360" cy="331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Gen debe ser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selectivo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para las células blanco dese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rancripcionalmente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competente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por el lapso de tiempo dese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isponible en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lta concentración y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munológicamente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 neutro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826920" y="1312920"/>
          <a:ext cx="7777440" cy="53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312920"/>
                    <a:ext cx="7777440" cy="53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étodos de introducción del DNA a las células enferm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Figure 4"/>
          <p:cNvPicPr/>
          <p:nvPr/>
        </p:nvPicPr>
        <p:blipFill>
          <a:blip r:embed="rId1"/>
          <a:stretch/>
        </p:blipFill>
        <p:spPr>
          <a:xfrm>
            <a:off x="684360" y="1125360"/>
            <a:ext cx="1512720" cy="1430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195640" y="404640"/>
            <a:ext cx="3382920" cy="2378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4067280" cy="304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476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lipos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3068640"/>
            <a:ext cx="5327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denovirus como ve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ara terapia gé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6360" y="1989000"/>
            <a:ext cx="25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rovirus como vectores para terapia gé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362480" y="3213000"/>
          <a:ext cx="4781520" cy="302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62480" y="3213000"/>
                    <a:ext cx="47815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476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erapia génica In-v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63640" y="1341360"/>
          <a:ext cx="523872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41360"/>
                    <a:ext cx="523872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erapia génica Ex–v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00000" y="2065320"/>
          <a:ext cx="784872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65320"/>
                    <a:ext cx="78487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50920" y="812880"/>
          <a:ext cx="8353440" cy="60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12880"/>
                    <a:ext cx="8353440" cy="60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jemplos de enfermedad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ialmente tratables por terapia génic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287280"/>
            <a:ext cx="8763120" cy="656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3520" y="3808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rapia génica para la Deficiencia de Adenina desam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erapia génica para tratar la diabe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Unfortunately we are unable to provide accessible alternative text for this. If you require assistance to access this image, please contact help@nature.com or the author"/>
          <p:cNvPicPr/>
          <p:nvPr/>
        </p:nvPicPr>
        <p:blipFill>
          <a:blip r:embed="rId1"/>
          <a:stretch/>
        </p:blipFill>
        <p:spPr>
          <a:xfrm>
            <a:off x="1332000" y="2149560"/>
            <a:ext cx="7056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82960" y="0"/>
            <a:ext cx="52610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533520"/>
            <a:ext cx="327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Un animal transgén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uno que ha sido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é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nte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lt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o para cambiarle o agregarle algunas características específicas, que de otra manera no tendría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, transg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esi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ignific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ransf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ncia de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N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 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imal 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lt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ión del DNA previamente present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19200" y="4175280"/>
          <a:ext cx="2151000" cy="18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9200" y="4175280"/>
                    <a:ext cx="21510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886200" y="22860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étodo del pronúc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mitaciones y 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algunos casos el tratamiento puede ser de efecto temp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pacientes pueden desarrollar una respuesta inmune al vir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entualmente se puede gatillar genes que causen cá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terapia debe estar dirigida a células blanco 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eneralmente no se puede revertir el daño ya causado en a la salud del enferm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 se autoriza la terapia g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énica en h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uman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9890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razones éticas, de seguridad y técnicas, todos los protocolos están dirigidos a la corrección defecto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ticos de célula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m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áticas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células de la línea germinal (ovocitos, espermatozoid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rapia génica suici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266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pecialmente relevante para enfermedades como cáncer, donde se trata de erradicar las células malig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a estrategia es basada en la liberación de un gen citotóxico en la células cancerígen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uego de una etapa de activación, resulta en la producción de un componente tóxico que que causa la muerte celula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en suicida debe ser expresado sólo en las células cancero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55436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042920" y="907920"/>
          <a:ext cx="6697800" cy="568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07920"/>
                    <a:ext cx="6697800" cy="56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42920" y="260280"/>
            <a:ext cx="5832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erapia contra el cá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4640" y="990720"/>
            <a:ext cx="3429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Anticuerpos monocl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46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5640" y="1085760"/>
          <a:ext cx="770400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085760"/>
                    <a:ext cx="77040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étodo del células madres embrionaria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ra hacer Animales transgé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Inserción del transgen en el genoma hués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68360" y="1322280"/>
            <a:ext cx="8675640" cy="5246640"/>
            <a:chOff x="468360" y="1322280"/>
            <a:chExt cx="8675640" cy="5246640"/>
          </a:xfrm>
        </p:grpSpPr>
        <p:graphicFrame>
          <p:nvGraphicFramePr>
            <p:cNvPr id="56" name=""/>
            <p:cNvGraphicFramePr/>
            <p:nvPr/>
          </p:nvGraphicFramePr>
          <p:xfrm>
            <a:off x="611280" y="1322280"/>
            <a:ext cx="8532720" cy="524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280" y="1322280"/>
                      <a:ext cx="8532720" cy="52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468360" y="1341360"/>
              <a:ext cx="338292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5640" y="1341360"/>
              <a:ext cx="13683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68360" y="1916280"/>
            <a:ext cx="35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serción al a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Inserción del transgen en el genoma hués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4200" y="1197000"/>
          <a:ext cx="8929800" cy="49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197000"/>
                    <a:ext cx="892980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1197000"/>
            <a:ext cx="3708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serción dirig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7080" y="1197000"/>
            <a:ext cx="13669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Peces transgénicos con genes de la hormona del cre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8672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2856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Arial"/>
              </a:rPr>
              <a:t>Cabras transgénicas que producen T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466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5335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Los animales transgénicos son utilizados para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1523880"/>
            <a:ext cx="72392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yudar en el estudio de l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isiología y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normal en animales de laborato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udia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ferme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ayudar en el desarrollo de tratamientos de e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s biológ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ut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rgan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puedan ser utilizados en transpl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a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cantidad y cal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animales de granja y sus deriv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1:50:25Z</dcterms:created>
  <dc:creator>Oriana</dc:creator>
  <dc:description/>
  <dc:language>en-US</dc:language>
  <cp:lastModifiedBy>Oriana</cp:lastModifiedBy>
  <dcterms:modified xsi:type="dcterms:W3CDTF">2009-01-23T01:56:10Z</dcterms:modified>
  <cp:revision>4</cp:revision>
  <dc:subject/>
  <dc:title>Diapositiva 1</dc:title>
</cp:coreProperties>
</file>