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23.png" ContentType="image/png"/>
  <Override PartName="/ppt/media/image6.png" ContentType="image/png"/>
  <Override PartName="/ppt/media/image22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A998-6FE8-4253-B83E-AC6B8E513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9FF4-B714-431F-BAB0-0EB99207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838-75B1-4EEB-B0C1-D70370E7F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B864-8182-41C5-AC8F-259D989FA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52E19-F182-4E29-B5AB-BECE9253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43EB-6C5B-41D7-B6FF-B394B7786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6775B-5390-4A7E-9936-9246622C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E499-17B4-444F-8773-9A8134365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20BD-A173-4DBB-BC10-B21B05A33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CABD-B9AF-4E57-B96B-0B05812DB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A946D-C742-4B99-A939-7986D222C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317E-EE91-486F-B72C-F75E4280B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9D1B0-093A-45BB-A7BB-071D4AF9FD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Osaka"/>
              </a:rPr>
              <a:t>BIOTECNOLOGÍ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  <a:ea typeface="Osaka"/>
              </a:rPr>
              <a:t>2009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  <a:ea typeface="Osaka"/>
              </a:rPr>
              <a:t>Prof. Oriana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Centro de Ingeniería Bio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Dpto. de Ingeniería 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Fac. Ciencias Físicas y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228600" y="0"/>
            <a:ext cx="895320" cy="2013120"/>
            <a:chOff x="228600" y="0"/>
            <a:chExt cx="895320" cy="2013120"/>
          </a:xfrm>
        </p:grpSpPr>
        <p:sp>
          <p:nvSpPr>
            <p:cNvPr id="44" name=""/>
            <p:cNvSpPr/>
            <p:nvPr/>
          </p:nvSpPr>
          <p:spPr>
            <a:xfrm>
              <a:off x="276120" y="781560"/>
              <a:ext cx="837720" cy="11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" name="" descr=""/>
            <p:cNvPicPr/>
            <p:nvPr/>
          </p:nvPicPr>
          <p:blipFill>
            <a:blip r:embed="rId1"/>
            <a:srcRect l="6136" t="0" r="7364" b="0"/>
            <a:stretch/>
          </p:blipFill>
          <p:spPr>
            <a:xfrm>
              <a:off x="228600" y="0"/>
              <a:ext cx="895320" cy="20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erapia gé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 terap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a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é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ca, genes sanos so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ct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dos a un individuo que tienen u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ord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 derivado de un gen defectuoso. La idea es que los genes sano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lace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n a los genes defectuosos, permitiendo al cuerpo del paciente funcional mejor. Una estrategia común es usar un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irus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como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eh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í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lo para transportar los nuevos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genes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irectamente en las células del pacient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Terapia gén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627280" y="1989000"/>
            <a:ext cx="369108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Características del gen “remedio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4360" y="2276640"/>
            <a:ext cx="8064360" cy="331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Gen debe ser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selectivo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para las células blanco dese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Trancripcionalmente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competente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por el lapso de tiempo dese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Disponible en 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alta concentración y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Inmunológicamente</a:t>
            </a:r>
            <a:r>
              <a:rPr b="1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 neutro</a:t>
            </a:r>
            <a:r>
              <a:rPr b="1" lang="es-CL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826920" y="1312920"/>
          <a:ext cx="7777440" cy="537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312920"/>
                    <a:ext cx="7777440" cy="537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étodos de introducción del DNA a las células enferm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Figure 4"/>
          <p:cNvPicPr/>
          <p:nvPr/>
        </p:nvPicPr>
        <p:blipFill>
          <a:blip r:embed="rId1"/>
          <a:stretch/>
        </p:blipFill>
        <p:spPr>
          <a:xfrm>
            <a:off x="684360" y="1125360"/>
            <a:ext cx="1512720" cy="14306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2195640" y="404640"/>
            <a:ext cx="3382920" cy="2378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3809880"/>
            <a:ext cx="4067280" cy="30481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50920" y="476280"/>
            <a:ext cx="187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66"/>
                </a:solidFill>
                <a:latin typeface="Arial"/>
              </a:rPr>
              <a:t>liposo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3068640"/>
            <a:ext cx="5327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Adenovirus como ve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66"/>
                </a:solidFill>
                <a:latin typeface="Arial"/>
              </a:rPr>
              <a:t>para terapia gé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56360" y="1989000"/>
            <a:ext cx="2521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Retrovirus como vectores para terapia gé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362480" y="3213000"/>
          <a:ext cx="4781520" cy="302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362480" y="3213000"/>
                    <a:ext cx="4781520" cy="30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900000" y="476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Aft>
                <a:spcPts val="1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erapia génica In-v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63640" y="1341360"/>
          <a:ext cx="5238720" cy="5295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1341360"/>
                    <a:ext cx="5238720" cy="529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spcAft>
                <a:spcPts val="1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erapia génica Ex–v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900000" y="2065320"/>
          <a:ext cx="7848720" cy="406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065320"/>
                    <a:ext cx="7848720" cy="406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250920" y="812880"/>
          <a:ext cx="8353440" cy="604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12880"/>
                    <a:ext cx="8353440" cy="60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jemplos de enfermedades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otencialmente tratables por terapia génic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287280"/>
            <a:ext cx="8763120" cy="65692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533520" y="3808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erapia génica para la Deficiencia de Adenina desamina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erapia génica para tratar la diabe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Unfortunately we are unable to provide accessible alternative text for this. If you require assistance to access this image, please contact help@nature.com or the author"/>
          <p:cNvPicPr/>
          <p:nvPr/>
        </p:nvPicPr>
        <p:blipFill>
          <a:blip r:embed="rId1"/>
          <a:stretch/>
        </p:blipFill>
        <p:spPr>
          <a:xfrm>
            <a:off x="1332000" y="2149560"/>
            <a:ext cx="705636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82960" y="0"/>
            <a:ext cx="526104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28600" y="533520"/>
            <a:ext cx="327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Times New Roman"/>
              </a:rPr>
              <a:t>Un animal transgénic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es uno que ha sido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gen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ét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ente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lte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do para cambiarle o agregarle algunas características específicas, que de otra manera no tendría.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n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nim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, transg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esi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significa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ransfe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ncia de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NA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l a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nimal o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lter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ión del DNA previamente presente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619200" y="4175280"/>
          <a:ext cx="2151000" cy="1842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9200" y="4175280"/>
                    <a:ext cx="21510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886200" y="228600"/>
            <a:ext cx="48006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Método del pronúcl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mitaciones y 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4360" y="1844640"/>
            <a:ext cx="7772400" cy="4114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n algunos casos el tratamiento puede ser de efecto tempo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os pacientes pueden desarrollar una respuesta inmune al vir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ventualmente se puede gatillar genes que causen cán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La terapia debe estar dirigida a células blanco específ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Generalmente no se puede revertir el daño ya causado en a la salud del enferm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No se autoriza la terapia g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énica en h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uman</a:t>
            </a: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4360" y="1989000"/>
            <a:ext cx="8001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r razones éticas, de seguridad y técnicas, todos los protocolos están dirigidos a la corrección defectos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éticos de células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m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áticas,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en células de la línea germinal (ovocitos, espermatozoide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erapia génica suicid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50560" y="1844640"/>
            <a:ext cx="266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pecialmente relevante para enfermedades como cáncer, donde se trata de erradicar las células malig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Esta estrategia es basada en la liberación de un gen citotóxico en la células cancerígen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Luego de una etapa de activación, resulta en la producción de un componente tóxico que que causa la muerte celular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Gen suicida debe ser expresado sólo en las células canceros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03640" y="1052640"/>
            <a:ext cx="554364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1042920" y="907920"/>
          <a:ext cx="6697800" cy="568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907920"/>
                    <a:ext cx="6697800" cy="568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842920" y="260280"/>
            <a:ext cx="58323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Terapia contra el cán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14640" y="990720"/>
            <a:ext cx="34290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Arial"/>
              </a:rPr>
              <a:t>Anticuerpos monoclona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546552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755640" y="1085760"/>
          <a:ext cx="7704000" cy="577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085760"/>
                    <a:ext cx="7704000" cy="577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Método del células madres embrionarias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ara hacer Animales transgé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Inserción del transgen en el genoma hués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468360" y="1322280"/>
            <a:ext cx="8675640" cy="5246640"/>
            <a:chOff x="468360" y="1322280"/>
            <a:chExt cx="8675640" cy="5246640"/>
          </a:xfrm>
        </p:grpSpPr>
        <p:graphicFrame>
          <p:nvGraphicFramePr>
            <p:cNvPr id="56" name=""/>
            <p:cNvGraphicFramePr/>
            <p:nvPr/>
          </p:nvGraphicFramePr>
          <p:xfrm>
            <a:off x="611280" y="1322280"/>
            <a:ext cx="8532720" cy="5246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1280" y="1322280"/>
                      <a:ext cx="8532720" cy="524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8" name=""/>
            <p:cNvSpPr/>
            <p:nvPr/>
          </p:nvSpPr>
          <p:spPr>
            <a:xfrm>
              <a:off x="468360" y="1341360"/>
              <a:ext cx="3382920" cy="647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775640" y="1341360"/>
              <a:ext cx="1368360" cy="719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468360" y="1916280"/>
            <a:ext cx="3527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serción al az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00"/>
                </a:solidFill>
                <a:latin typeface="Arial"/>
              </a:rPr>
              <a:t>Inserción del transgen en el genoma huésp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14200" y="1197000"/>
          <a:ext cx="8929800" cy="49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4200" y="1197000"/>
                    <a:ext cx="8929800" cy="49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0" y="1197000"/>
            <a:ext cx="3708360" cy="865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serción dirigi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777080" y="1197000"/>
            <a:ext cx="136692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ff"/>
                </a:solidFill>
                <a:latin typeface="Arial"/>
              </a:rPr>
              <a:t>Peces transgénicos con genes de la hormona del creci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5867280" cy="37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285640"/>
            <a:ext cx="3352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ff"/>
                </a:solidFill>
                <a:latin typeface="Arial"/>
              </a:rPr>
              <a:t>Cabras transgénicas que producen T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429000" y="0"/>
            <a:ext cx="4662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447920" y="533520"/>
            <a:ext cx="71625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ff"/>
                </a:solidFill>
                <a:latin typeface="Times New Roman"/>
              </a:rPr>
              <a:t>Los animales transgénicos son utilizados para: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38080" y="1523880"/>
            <a:ext cx="72392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yudar en el estudio de la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isiología y desarroll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normal en animales de laboratori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tudia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nferme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y ayudar en el desarrollo de tratamientos de el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Genera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ductos biológic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ut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vee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órgano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que puedan ser utilizados en transpla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umentar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la cantidad y calidad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de animales de granja y sus deriv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101520"/>
            <a:ext cx="9144000" cy="609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1:50:25Z</dcterms:created>
  <dc:creator>Oriana</dc:creator>
  <dc:description/>
  <dc:language>en-US</dc:language>
  <cp:lastModifiedBy>Oriana</cp:lastModifiedBy>
  <dcterms:modified xsi:type="dcterms:W3CDTF">2009-01-23T01:56:10Z</dcterms:modified>
  <cp:revision>4</cp:revision>
  <dc:subject/>
  <dc:title>Diapositiva 1</dc:title>
</cp:coreProperties>
</file>