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ct" ContentType="image/x-pict"/>
  <Override PartName="/ppt/media/image21.png" ContentType="image/png"/>
  <Override PartName="/ppt/media/image19.png" ContentType="image/png"/>
  <Override PartName="/ppt/media/image17.png" ContentType="image/png"/>
  <Override PartName="/ppt/media/image28.jpeg" ContentType="image/jpeg"/>
  <Override PartName="/ppt/media/image18.png" ContentType="image/png"/>
  <Override PartName="/ppt/media/image7.jpeg" ContentType="image/jpeg"/>
  <Override PartName="/ppt/media/image9.pct" ContentType="image/x-pict"/>
  <Override PartName="/ppt/media/image11.png" ContentType="image/png"/>
  <Override PartName="/ppt/media/image31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5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6.pct" ContentType="image/x-pict"/>
  <Override PartName="/ppt/media/image22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854D-6E87-4F0C-9CB6-842C86C2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585-B58E-4DE1-8B70-03792595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C24B-7106-49A7-8BF3-4473176B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85E-973B-4B1E-8DC1-E0FBE918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ADA-69E0-4A61-9A2B-81A3F4F3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BC6B-9985-4A2A-A8AA-AE3819A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257E-495F-45BE-AF49-304CD2FD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1C5-6E6C-4B95-AFDE-E180C725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7712-B614-4F07-98F0-A2012A3B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42D-2867-4AB8-B62E-EAC26537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6F2-57EC-4DF5-B27B-02BE6C1B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A627-570A-4CDE-9C04-EF58C5A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B323-2D55-442C-B6D6-484E81715475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3560" y="3108240"/>
            <a:ext cx="5647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vención en la bi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enesis y disrup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52560" y="76320"/>
            <a:ext cx="5083200" cy="891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93640" y="1371600"/>
          <a:ext cx="5807160" cy="4648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1371600"/>
                    <a:ext cx="58071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41520" y="3467160"/>
            <a:ext cx="3786120" cy="6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Times New Roman"/>
              </a:rPr>
              <a:t>Promotor</a:t>
            </a:r>
            <a:r>
              <a:rPr b="0" lang="es-ES" sz="1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1800" spc="-1" strike="noStrike">
                <a:solidFill>
                  <a:srgbClr val="333399"/>
                </a:solidFill>
                <a:latin typeface="Times New Roman"/>
              </a:rPr>
              <a:t>Transgen-  cDNA del gen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14440" y="1763640"/>
            <a:ext cx="4292640" cy="785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ON DE DNA EXOGEN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523404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</a:rPr>
              <a:t>La construcción linearizada es inyectada en el pronúcleo mascu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9160" y="4572000"/>
            <a:ext cx="1514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507960"/>
            <a:ext cx="4648320" cy="802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5840" y="1371600"/>
            <a:ext cx="6143400" cy="6553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4480" y="441360"/>
            <a:ext cx="56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génicos del g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D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human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8600" y="1905120"/>
            <a:ext cx="6400800" cy="4800600"/>
            <a:chOff x="228600" y="1905120"/>
            <a:chExt cx="6400800" cy="4800600"/>
          </a:xfrm>
        </p:grpSpPr>
        <p:graphicFrame>
          <p:nvGraphicFramePr>
            <p:cNvPr id="63" name=""/>
            <p:cNvGraphicFramePr/>
            <p:nvPr/>
          </p:nvGraphicFramePr>
          <p:xfrm>
            <a:off x="228600" y="1905120"/>
            <a:ext cx="6400800" cy="480060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6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905120"/>
                      <a:ext cx="6400800" cy="480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"/>
            <p:cNvSpPr/>
            <p:nvPr/>
          </p:nvSpPr>
          <p:spPr>
            <a:xfrm>
              <a:off x="916560" y="4234680"/>
              <a:ext cx="68832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17800" y="4164120"/>
              <a:ext cx="1238760" cy="21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48680" y="6282000"/>
              <a:ext cx="481680" cy="14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6858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58640" y="1214280"/>
            <a:ext cx="6551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Integración muy temprana en el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Antes de la división de la primera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élula del cigo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Antes de que la población de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germinales segrega de las célula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máticas primordi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Integración estable en las celulas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omáticas y germi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Transmición Mendeliana del 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transgé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31400" y="34452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roncales (Stem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48680" y="1568520"/>
            <a:ext cx="689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otipotentes (huevo fertiliz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pluripo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troncales embrionarias (ES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germinales embrionarios (EG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embrionarias carcinogé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élulas multipot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25360" y="5122800"/>
            <a:ext cx="475308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4360" y="2484360"/>
            <a:ext cx="6453360" cy="38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0760" y="324000"/>
            <a:ext cx="68058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47640" y="1660680"/>
            <a:ext cx="5531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imales y pla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én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Qué es un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gén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¿Qué utilidad le prest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 hombre estos anim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57909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elulas troncales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mbrion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3200400"/>
            <a:ext cx="5257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mantener en cultivo en los laboratorios de todo el m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pueden transfectar como cualquier cél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ida en cul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42847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080" y="685800"/>
            <a:ext cx="628164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5440" y="990720"/>
            <a:ext cx="58579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60240" y="1600200"/>
            <a:ext cx="5686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654280"/>
            <a:ext cx="65530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3810240" cy="63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087720"/>
            <a:ext cx="685800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16840" y="3336840"/>
            <a:ext cx="524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ción de animales  “Nock 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udio de la función de un gen med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dida de funció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440" y="990720"/>
            <a:ext cx="5857920" cy="69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040" y="3335400"/>
            <a:ext cx="669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animal transgénico es uno que p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gen que ha sido deliberadamente ins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 su genoma. El gen extraño es construído 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ado utilizando metodología de D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b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17000" y="3581280"/>
            <a:ext cx="47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binación homólog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terólo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04920" y="2136600"/>
            <a:ext cx="6172200" cy="547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590840"/>
            <a:ext cx="640080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71360" y="3537000"/>
            <a:ext cx="668664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457200" y="3048120"/>
            <a:ext cx="6251760" cy="2212200"/>
            <a:chOff x="457200" y="3048120"/>
            <a:chExt cx="6251760" cy="2212200"/>
          </a:xfrm>
        </p:grpSpPr>
        <p:sp>
          <p:nvSpPr>
            <p:cNvPr id="91" name=""/>
            <p:cNvSpPr/>
            <p:nvPr/>
          </p:nvSpPr>
          <p:spPr>
            <a:xfrm>
              <a:off x="459000" y="335124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imidi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3972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29800" y="30481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8680" y="33368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M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73440" y="35053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01680" y="326088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íntesis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4800600"/>
              <a:ext cx="162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nciclov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1840" y="50450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6480" y="4495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50120" y="4800600"/>
              <a:ext cx="295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oquea Síntesis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069920" y="468360"/>
            <a:ext cx="5076000" cy="8136000"/>
            <a:chOff x="1069920" y="468360"/>
            <a:chExt cx="5076000" cy="8136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1557360" y="468360"/>
              <a:ext cx="2825640" cy="29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573360" y="363528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2"/>
            <a:stretch/>
          </p:blipFill>
          <p:spPr>
            <a:xfrm>
              <a:off x="1069920" y="5219640"/>
              <a:ext cx="310032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3986640" y="221616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34640" y="62485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  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69200" y="387180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imidina quin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676520" y="838080"/>
            <a:ext cx="3429000" cy="7375320"/>
            <a:chOff x="1676520" y="838080"/>
            <a:chExt cx="3429000" cy="7375320"/>
          </a:xfrm>
        </p:grpSpPr>
        <p:sp>
          <p:nvSpPr>
            <p:cNvPr id="109" name=""/>
            <p:cNvSpPr/>
            <p:nvPr/>
          </p:nvSpPr>
          <p:spPr>
            <a:xfrm>
              <a:off x="2130120" y="7692840"/>
              <a:ext cx="193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gancyclov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1836720" y="4483080"/>
              <a:ext cx="2646360" cy="30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2"/>
            <a:stretch/>
          </p:blipFill>
          <p:spPr>
            <a:xfrm>
              <a:off x="1676520" y="838080"/>
              <a:ext cx="342900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044440" y="3849480"/>
              <a:ext cx="293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-desoxiguanos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0240" y="1600200"/>
            <a:ext cx="5686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2641680"/>
            <a:ext cx="685800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68580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0" y="2819520"/>
            <a:ext cx="6755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emás del gen propiamene tal, el DNA a 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do debe incluir otras secuencias q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 capacitan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er incorpordo en el genoma del hosped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er expresado correctamente por las célu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 hosped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060720"/>
            <a:ext cx="685800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2039760"/>
            <a:ext cx="6248520" cy="4943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23360" y="1050840"/>
            <a:ext cx="22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ck out de W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228600" y="1886040"/>
          <a:ext cx="6094440" cy="4740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86040"/>
                    <a:ext cx="6094440" cy="47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17560" y="6781680"/>
            <a:ext cx="55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gen OB codifica para lep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81200"/>
            <a:ext cx="6858000" cy="5137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90200" y="1189080"/>
            <a:ext cx="16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119160" y="746280"/>
            <a:ext cx="6618240" cy="5686200"/>
            <a:chOff x="119160" y="746280"/>
            <a:chExt cx="6618240" cy="56862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9160" y="2711520"/>
              <a:ext cx="6618240" cy="37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1445400" y="746280"/>
              <a:ext cx="41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étodo de transferencia nucl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19160" y="152280"/>
            <a:ext cx="6618240" cy="8077320"/>
            <a:chOff x="119160" y="152280"/>
            <a:chExt cx="6618240" cy="807732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119160" y="912960"/>
              <a:ext cx="6618240" cy="73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856960" y="15228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l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19160" y="304920"/>
            <a:ext cx="6618240" cy="5854680"/>
            <a:chOff x="119160" y="304920"/>
            <a:chExt cx="6618240" cy="585468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119160" y="2438280"/>
              <a:ext cx="6618240" cy="37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64880" y="304920"/>
              <a:ext cx="652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imales transgénicos producidos por trans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cle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676520"/>
              <a:ext cx="1600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2362320"/>
              <a:ext cx="0" cy="7617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119160" y="380880"/>
            <a:ext cx="6618240" cy="7848720"/>
            <a:chOff x="119160" y="380880"/>
            <a:chExt cx="6618240" cy="784872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19160" y="912960"/>
              <a:ext cx="6618240" cy="73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152280" y="380880"/>
              <a:ext cx="1600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914400"/>
              <a:ext cx="0" cy="7621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055680" y="5029200"/>
              <a:ext cx="52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284040" y="1660680"/>
            <a:ext cx="6413760" cy="5120640"/>
            <a:chOff x="284040" y="1660680"/>
            <a:chExt cx="6413760" cy="5120640"/>
          </a:xfrm>
        </p:grpSpPr>
        <p:sp>
          <p:nvSpPr>
            <p:cNvPr id="141" name=""/>
            <p:cNvSpPr/>
            <p:nvPr/>
          </p:nvSpPr>
          <p:spPr>
            <a:xfrm>
              <a:off x="1861920" y="1660680"/>
              <a:ext cx="365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génicos de lactoferr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bovi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040" y="2955600"/>
              <a:ext cx="64137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tilizar la leche del ganado bovino como “reactor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ara generar grandes cantidades de una proteí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mana de interés biológic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és global de la industria alimenti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génicos de lactoferrina hum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ma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04920" y="6476760"/>
              <a:ext cx="6247800" cy="304560"/>
              <a:chOff x="304920" y="6476760"/>
              <a:chExt cx="624780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609480" y="6628680"/>
                <a:ext cx="594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998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057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85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905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95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00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5049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335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38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670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71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8002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146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04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333760" y="6476760"/>
                <a:ext cx="7596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1814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952880" y="6476760"/>
                <a:ext cx="75600" cy="304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4920" y="6476760"/>
                <a:ext cx="121896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3300"/>
                    </a:solidFill>
                    <a:latin typeface="Times New Roman"/>
                  </a:rPr>
                  <a:t>Promotor de casei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80880" y="898560"/>
            <a:ext cx="6201360" cy="5413320"/>
            <a:chOff x="380880" y="898560"/>
            <a:chExt cx="6201360" cy="541332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80880" y="4014720"/>
              <a:ext cx="586764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13720" y="898560"/>
              <a:ext cx="562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vinos transgénicos que expresan elev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iveles de caseina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y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3520" y="457200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33760" y="53341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2880" y="1876320"/>
            <a:ext cx="608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éxito de esta nueva tecnología ha permi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 ejemplo producir ratones, ovejas, cabras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vinos que pueden expresar proteínas hum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la leche (biotecnolog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 embargo esta tecnologí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ha constituído en una poder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ramienta para estudiar la función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s en l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228600" y="649440"/>
            <a:ext cx="6095880" cy="6608520"/>
            <a:chOff x="228600" y="649440"/>
            <a:chExt cx="6095880" cy="66085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228600" y="2139840"/>
              <a:ext cx="6095880" cy="511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01440" y="649440"/>
              <a:ext cx="497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ector de expresión en eucarion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23840" y="0"/>
            <a:ext cx="48103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84200" y="0"/>
            <a:ext cx="4284720" cy="87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27200" y="272880"/>
            <a:ext cx="3605040" cy="85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23:14:33Z</dcterms:created>
  <dc:creator>Juan Antonelli</dc:creator>
  <dc:description/>
  <dc:language>en-US</dc:language>
  <cp:lastModifiedBy>Juan Antonelli</cp:lastModifiedBy>
  <dcterms:modified xsi:type="dcterms:W3CDTF">2009-01-14T21:21:42Z</dcterms:modified>
  <cp:revision>10</cp:revision>
  <dc:subject/>
  <dc:title>Presentación de PowerPoint</dc:title>
</cp:coreProperties>
</file>