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ct" ContentType="image/x-pict"/>
  <Override PartName="/ppt/media/image21.png" ContentType="image/png"/>
  <Override PartName="/ppt/media/image19.png" ContentType="image/png"/>
  <Override PartName="/ppt/media/image17.png" ContentType="image/png"/>
  <Override PartName="/ppt/media/image28.jpeg" ContentType="image/jpeg"/>
  <Override PartName="/ppt/media/image18.png" ContentType="image/png"/>
  <Override PartName="/ppt/media/image7.jpeg" ContentType="image/jpeg"/>
  <Override PartName="/ppt/media/image9.pct" ContentType="image/x-pict"/>
  <Override PartName="/ppt/media/image11.png" ContentType="image/png"/>
  <Override PartName="/ppt/media/image31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5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6.pct" ContentType="image/x-pict"/>
  <Override PartName="/ppt/media/image22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93EC-657C-4CBF-ABA6-6B4D6AF1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81C7-05AB-451A-96AA-9229FEEA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990-E87B-4FAE-909F-1534E35F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14E-7DED-49A5-99B7-CEE58901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B609-8E31-4D89-9141-6217FEC2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0729-A547-41EB-B8E4-60695421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87DA-18BC-42B5-9F37-6912FAE3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8220-A8D8-4FAE-9AF4-60C5765F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DCA-94AF-4934-AA63-ADF7F1A3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49D2-0256-4A1F-A5C3-C0C658D1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B943-9695-41C3-9438-35E5A571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A3C3-A28F-4101-8C74-BB4A12E3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6D4E-7A33-4053-9B87-63F110EFF981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ct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3560" y="3108240"/>
            <a:ext cx="564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vención en la biolo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ima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genesis y disrup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g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52560" y="76320"/>
            <a:ext cx="5083200" cy="891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93640" y="1371600"/>
          <a:ext cx="5807160" cy="4648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1371600"/>
                    <a:ext cx="58071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541520" y="3467160"/>
            <a:ext cx="378612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Times New Roman"/>
              </a:rPr>
              <a:t>Promotor</a:t>
            </a:r>
            <a:r>
              <a:rPr b="0" lang="es-ES" sz="18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333399"/>
                </a:solidFill>
                <a:latin typeface="Times New Roman"/>
              </a:rPr>
              <a:t>Transgen-  cDNA del gen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14440" y="1763640"/>
            <a:ext cx="4292640" cy="78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XPRESION DE DNA EXOGEN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5234040"/>
            <a:ext cx="321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</a:rPr>
              <a:t>La construcción linearizada es inyectada en el pronúcleo mascul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19160" y="4572000"/>
            <a:ext cx="1514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507960"/>
            <a:ext cx="4648320" cy="802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5840" y="1371600"/>
            <a:ext cx="6143400" cy="6553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44480" y="441360"/>
            <a:ext cx="56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génicos del g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D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huma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8600" y="1905120"/>
            <a:ext cx="6400800" cy="4800600"/>
            <a:chOff x="228600" y="1905120"/>
            <a:chExt cx="6400800" cy="4800600"/>
          </a:xfrm>
        </p:grpSpPr>
        <p:graphicFrame>
          <p:nvGraphicFramePr>
            <p:cNvPr id="63" name=""/>
            <p:cNvGraphicFramePr/>
            <p:nvPr/>
          </p:nvGraphicFramePr>
          <p:xfrm>
            <a:off x="228600" y="1905120"/>
            <a:ext cx="6400800" cy="4800600"/>
          </p:xfrm>
          <a:graphic>
            <a:graphicData uri="http://schemas.openxmlformats.org/presentationml/2006/ole">
              <p:oleObj progId="PowerPoint.Show.12" r:id="rId1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905120"/>
                      <a:ext cx="6400800" cy="480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" name=""/>
            <p:cNvSpPr/>
            <p:nvPr/>
          </p:nvSpPr>
          <p:spPr>
            <a:xfrm>
              <a:off x="916560" y="4234680"/>
              <a:ext cx="688320" cy="21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17800" y="4164120"/>
              <a:ext cx="1238760" cy="21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48680" y="6282000"/>
              <a:ext cx="481680" cy="14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087720"/>
            <a:ext cx="68580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458640" y="1214280"/>
            <a:ext cx="6551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clus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Integración muy temprana en el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arro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Antes de la división de la primera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élula del cigo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Antes de que la población de cél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germinales segrega de las células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omáticas primord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Integración estable en las celulas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omáticas y germi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Transmición Mendeliana del 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ransgén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31400" y="34452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élulas Troncales (Stem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148680" y="1568520"/>
            <a:ext cx="689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élulas totipotentes (huevo fertiliz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élulas pluripo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élulas troncales embrionarias (ES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élulas germinales embrionarios (EG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élulas embrionarias carcinogé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élulas multipo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25360" y="5122800"/>
            <a:ext cx="475308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360" y="2484360"/>
            <a:ext cx="6453360" cy="38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0760" y="324000"/>
            <a:ext cx="68058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47640" y="1660680"/>
            <a:ext cx="55314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imales y plan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gén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¿Qué es un 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gén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¿Qué utilidad le prest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 hombre estos anim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elulas troncale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mbriona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320" y="3200400"/>
            <a:ext cx="5257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pueden mantener en cultivo en los laboratorios de todo el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pueden transfectar como cualquier cél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ida en cul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84200" y="0"/>
            <a:ext cx="4284720" cy="87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5080" y="685800"/>
            <a:ext cx="628164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95440" y="990720"/>
            <a:ext cx="5857920" cy="69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60240" y="1600200"/>
            <a:ext cx="5686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654280"/>
            <a:ext cx="655308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38102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3087720"/>
            <a:ext cx="68580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16840" y="3336840"/>
            <a:ext cx="524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ción de animales  “Nock ou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udio de la función de un gen me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dida de fun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440" y="990720"/>
            <a:ext cx="5857920" cy="69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7040" y="3335400"/>
            <a:ext cx="6694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animal transgénico es uno que po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gen que ha sido deliberadamente inser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su genoma. El gen extraño es construído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ado utilizando metodología de D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bin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17000" y="3581280"/>
            <a:ext cx="478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binación homólog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erólo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2136600"/>
            <a:ext cx="6172200" cy="54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" y="1590840"/>
            <a:ext cx="640080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1360" y="3537000"/>
            <a:ext cx="668664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457200" y="3048120"/>
            <a:ext cx="6251760" cy="2212200"/>
            <a:chOff x="457200" y="3048120"/>
            <a:chExt cx="6251760" cy="2212200"/>
          </a:xfrm>
        </p:grpSpPr>
        <p:sp>
          <p:nvSpPr>
            <p:cNvPr id="91" name=""/>
            <p:cNvSpPr/>
            <p:nvPr/>
          </p:nvSpPr>
          <p:spPr>
            <a:xfrm>
              <a:off x="459000" y="335124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imid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39720" y="3505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29800" y="3048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8680" y="333684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M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73440" y="3505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01680" y="3260880"/>
              <a:ext cx="186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íntesis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480060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anciclov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01840" y="50450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96480" y="4495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50120" y="480060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oquea Síntesis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069920" y="468360"/>
            <a:ext cx="5076000" cy="8136000"/>
            <a:chOff x="1069920" y="468360"/>
            <a:chExt cx="5076000" cy="813600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1557360" y="468360"/>
              <a:ext cx="2825640" cy="29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573360" y="3635280"/>
              <a:ext cx="0" cy="115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1069920" y="5219640"/>
              <a:ext cx="310032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986640" y="221616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 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34640" y="62485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69200" y="3871800"/>
              <a:ext cx="23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imidina quin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676520" y="838080"/>
            <a:ext cx="3429000" cy="7375320"/>
            <a:chOff x="1676520" y="838080"/>
            <a:chExt cx="3429000" cy="7375320"/>
          </a:xfrm>
        </p:grpSpPr>
        <p:sp>
          <p:nvSpPr>
            <p:cNvPr id="109" name=""/>
            <p:cNvSpPr/>
            <p:nvPr/>
          </p:nvSpPr>
          <p:spPr>
            <a:xfrm>
              <a:off x="2130120" y="7692840"/>
              <a:ext cx="193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gancyclovi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836720" y="4483080"/>
              <a:ext cx="2646360" cy="30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1676520" y="838080"/>
              <a:ext cx="342900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044440" y="3849480"/>
              <a:ext cx="293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-desoxiguanos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0240" y="1600200"/>
            <a:ext cx="5686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2641680"/>
            <a:ext cx="68580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2451240"/>
            <a:ext cx="68580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2000" y="2819520"/>
            <a:ext cx="6755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más del gen propiamene tal, el DNA a 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rporado debe incluir otras secuencias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 capacitan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er incorpordo en el genoma del hosped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er expresado correctamente por las cél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 hosped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060720"/>
            <a:ext cx="685800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0880" y="2039760"/>
            <a:ext cx="6248520" cy="4943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23360" y="105084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ck out de W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228600" y="1886040"/>
          <a:ext cx="6094440" cy="4740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86040"/>
                    <a:ext cx="6094440" cy="47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17560" y="6781680"/>
            <a:ext cx="55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gen OB codifica para lep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2581200"/>
            <a:ext cx="6858000" cy="5137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90200" y="118908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19160" y="746280"/>
            <a:ext cx="6618240" cy="5686200"/>
            <a:chOff x="119160" y="746280"/>
            <a:chExt cx="6618240" cy="568620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119160" y="2711520"/>
              <a:ext cx="6618240" cy="37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445400" y="746280"/>
              <a:ext cx="412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étodo de transferencia nucle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119160" y="152280"/>
            <a:ext cx="6618240" cy="8077320"/>
            <a:chOff x="119160" y="152280"/>
            <a:chExt cx="6618240" cy="807732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119160" y="912960"/>
              <a:ext cx="6618240" cy="73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856960" y="1522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l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19160" y="304920"/>
            <a:ext cx="6618240" cy="5854680"/>
            <a:chOff x="119160" y="304920"/>
            <a:chExt cx="6618240" cy="585468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119160" y="2438280"/>
              <a:ext cx="6618240" cy="372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64880" y="304920"/>
              <a:ext cx="652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imales transgénicos producidos por transfer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ucle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" y="1676520"/>
              <a:ext cx="1600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120" y="2362320"/>
              <a:ext cx="0" cy="761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119160" y="380880"/>
            <a:ext cx="6618240" cy="7848720"/>
            <a:chOff x="119160" y="380880"/>
            <a:chExt cx="6618240" cy="784872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19160" y="912960"/>
              <a:ext cx="6618240" cy="73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52280" y="380880"/>
              <a:ext cx="16002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120" y="914400"/>
              <a:ext cx="0" cy="762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55680" y="5029200"/>
              <a:ext cx="52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284040" y="1660680"/>
            <a:ext cx="6413760" cy="5120640"/>
            <a:chOff x="284040" y="1660680"/>
            <a:chExt cx="6413760" cy="5120640"/>
          </a:xfrm>
        </p:grpSpPr>
        <p:sp>
          <p:nvSpPr>
            <p:cNvPr id="141" name=""/>
            <p:cNvSpPr/>
            <p:nvPr/>
          </p:nvSpPr>
          <p:spPr>
            <a:xfrm>
              <a:off x="1861920" y="1660680"/>
              <a:ext cx="365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génicos de lactoferr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 bovi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4040" y="2955600"/>
              <a:ext cx="641376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tilizar la leche del ganado bovino como “reactor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a generar grandes cantidades de una proteí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umana de interés biológ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és global de la industria alimenti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génicos de lactoferrina huma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uma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304920" y="6476760"/>
              <a:ext cx="6247800" cy="304560"/>
              <a:chOff x="304920" y="6476760"/>
              <a:chExt cx="6247800" cy="304560"/>
            </a:xfrm>
          </p:grpSpPr>
          <p:sp>
            <p:nvSpPr>
              <p:cNvPr id="144" name=""/>
              <p:cNvSpPr/>
              <p:nvPr/>
            </p:nvSpPr>
            <p:spPr>
              <a:xfrm>
                <a:off x="609480" y="6628680"/>
                <a:ext cx="594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599840" y="6476760"/>
                <a:ext cx="7596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57040" y="6476760"/>
                <a:ext cx="7596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85640" y="6476760"/>
                <a:ext cx="7596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590560" y="6476760"/>
                <a:ext cx="7596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895480" y="6476760"/>
                <a:ext cx="7560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200040" y="6476760"/>
                <a:ext cx="7596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504960" y="6476760"/>
                <a:ext cx="7596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33560" y="6476760"/>
                <a:ext cx="7596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38480" y="6476760"/>
                <a:ext cx="7560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267080" y="6476760"/>
                <a:ext cx="7560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71640" y="6476760"/>
                <a:ext cx="7596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800240" y="6476760"/>
                <a:ext cx="7596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714640" y="6476760"/>
                <a:ext cx="7596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040" y="6476760"/>
                <a:ext cx="7596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333760" y="6476760"/>
                <a:ext cx="7596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181480" y="6476760"/>
                <a:ext cx="7560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952880" y="6476760"/>
                <a:ext cx="7560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4920" y="6476760"/>
                <a:ext cx="12189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3300"/>
                    </a:solidFill>
                    <a:latin typeface="Times New Roman"/>
                  </a:rPr>
                  <a:t>Promotor de case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80880" y="898560"/>
            <a:ext cx="6201360" cy="5413320"/>
            <a:chOff x="380880" y="898560"/>
            <a:chExt cx="6201360" cy="541332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380880" y="4014720"/>
              <a:ext cx="586764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13720" y="898560"/>
              <a:ext cx="562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vinos transgénicos que expresan elev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iveles de caseina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y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03520" y="45720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33760" y="5334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2880" y="1876320"/>
            <a:ext cx="608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éxito de esta nueva tecnología ha permit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 ejemplo producir ratones, ovejas, cabras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vinos que pueden expresar proteínas hum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la leche (biotecnolog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 embargo esta tecnologí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ha constituído en una poder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ramienta para estudiar la función d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s en la cél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228600" y="649440"/>
            <a:ext cx="6095880" cy="6608520"/>
            <a:chOff x="228600" y="649440"/>
            <a:chExt cx="6095880" cy="660852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228600" y="2139840"/>
              <a:ext cx="6095880" cy="51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901440" y="649440"/>
              <a:ext cx="497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Vector de expresión en eucarion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23840" y="0"/>
            <a:ext cx="48103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84200" y="0"/>
            <a:ext cx="4284720" cy="87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27200" y="272880"/>
            <a:ext cx="3605040" cy="85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23:14:33Z</dcterms:created>
  <dc:creator>Juan Antonelli</dc:creator>
  <dc:description/>
  <dc:language>en-US</dc:language>
  <cp:lastModifiedBy>Juan Antonelli</cp:lastModifiedBy>
  <dcterms:modified xsi:type="dcterms:W3CDTF">2009-01-14T21:21:42Z</dcterms:modified>
  <cp:revision>10</cp:revision>
  <dc:subject/>
  <dc:title>Presentación de PowerPoint</dc:title>
</cp:coreProperties>
</file>