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9.pct" ContentType="image/x-pict"/>
  <Override PartName="/ppt/media/image11.png" ContentType="image/png"/>
  <Override PartName="/ppt/media/image19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.pct" ContentType="image/x-pict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ct" ContentType="image/x-pict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150-D292-4627-9431-7B399EEF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FE1-53CA-47EC-89F1-15DB55B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5AE-E0DE-4B64-805C-F1342F08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5F7-AFEE-4F57-BB3A-133B7B5D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607-1C32-4D25-B098-CEDC9FEA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F42-3AB5-4ACA-B589-FE3F83A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068-275D-4637-ADC5-13270F1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65F-779E-43F7-B9F2-02360518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6E0-12D8-46AB-B61F-609ACC9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8DC-F977-42E7-B03A-DA58E6E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6B3-362F-46FC-9816-B72C5D6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B8C-746A-43AE-BEF5-7A20D60E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9B0-B2C0-4907-89CF-04EF5DB8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83059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</a:rPr>
              <a:t>DNA RECOMBINANTE E INGIENIER</a:t>
            </a: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GENÉ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1560" y="2476440"/>
            <a:ext cx="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828800"/>
          <a:ext cx="247680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247680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3880" y="4191120"/>
            <a:ext cx="39625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533520"/>
            <a:ext cx="6782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IGESTION DEL DNA POR ENDONUCLEASAS DE RESTRICC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136600"/>
            <a:ext cx="7086600" cy="3803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73" name=""/>
          <p:cNvSpPr/>
          <p:nvPr/>
        </p:nvSpPr>
        <p:spPr>
          <a:xfrm>
            <a:off x="190512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63868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itio de cor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6386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33440" y="817560"/>
              <a:ext cx="6475320" cy="5221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79" name=""/>
          <p:cNvSpPr/>
          <p:nvPr/>
        </p:nvSpPr>
        <p:spPr>
          <a:xfrm>
            <a:off x="1447920" y="1066680"/>
            <a:ext cx="5715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66440" y="1052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ZIMAS de RESTRICC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6280" y="109044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tio de corte de enzimas de restri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066680"/>
            <a:ext cx="617220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ios de corte de endonucleasas de restri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Times New Roman"/>
              </a:rPr>
              <a:t>Las flechas indican los enlaces fosfodiester sobre los que actúa cada enzi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8380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086600" cy="4544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élulas hués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609480"/>
            <a:ext cx="746784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228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80880"/>
            <a:ext cx="73911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aracterísticas básicas de  un vector 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lonami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rigen de replicación autó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en marcador de sele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tios únicos de restricción </a:t>
            </a: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4724280"/>
            <a:ext cx="1447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3640" y="45252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mponentes básicos de un vector de clonamiento plasmidi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que puede replicar en una célula de  E.col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666880"/>
            <a:ext cx="1447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191120"/>
            <a:ext cx="1676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2860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6560" cy="52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00600" y="56386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ja de clonaje m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tipl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440" y="2590920"/>
            <a:ext cx="13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codifica proteí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de resistencia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ampicilina</a:t>
            </a:r>
            <a:r>
              <a:rPr b="0" lang="es-E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2280" y="5029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Origen de repl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2925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Región de inserción de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Exógen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062000"/>
            <a:ext cx="7010280" cy="536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43400" y="2819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1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962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2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34308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¿PORQUE EL USO DE UN VECTOR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143000"/>
            <a:ext cx="678168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143000"/>
            <a:ext cx="3886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IPOS DE VECTORES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kpb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nsert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lasmidios                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teriofagos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S                        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YACS                    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4191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943600"/>
            <a:ext cx="502920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NA lig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12760" y="0"/>
            <a:ext cx="8931240" cy="6886440"/>
            <a:chOff x="212760" y="0"/>
            <a:chExt cx="8931240" cy="6886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18184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362320" y="6477120"/>
              <a:ext cx="137160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67057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6553080"/>
              <a:ext cx="12952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760" y="152280"/>
              <a:ext cx="484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Unión de frag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e restricció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que poseen extrem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cohesiv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477120"/>
              <a:ext cx="5334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152280"/>
              <a:ext cx="21333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ragmentos de DNA genóm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2514600"/>
              <a:ext cx="1295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352680"/>
              <a:ext cx="17524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+    </a:t>
              </a: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c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9000" y="685800"/>
            <a:ext cx="44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GENIERÍA GE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191916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MANIPULACIÓN DEL DNA DE LOS ORGANISMOS V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1)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VESTIGACIÓN BÁSICA (ESTUDIO DE LA ORGANIZACIÓN, EXPRESIÓN Y FUNCIÓN DE GENES EN LOS ORGANISMOS VIV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PLICACIÓN DE ESTE CONOCIMIENTO EN LA MANIPULACIÓN CONSCIENTE DE LOS GENES EN SALUD, EN LA INDUSTRIA DE ALIMENTOS, EN LA AGRICULTUR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114480"/>
            <a:ext cx="8382240" cy="6248160"/>
            <a:chOff x="380880" y="114480"/>
            <a:chExt cx="8382240" cy="6248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4114800" cy="590544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419720" y="457200"/>
              <a:ext cx="4343400" cy="586728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4648320" y="5791320"/>
              <a:ext cx="41148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3962520"/>
              <a:ext cx="15228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10280" y="457200"/>
              <a:ext cx="1371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152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960" y="114480"/>
              <a:ext cx="771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s-ES" sz="2000" spc="-1" strike="noStrike">
                  <a:solidFill>
                    <a:srgbClr val="cc3300"/>
                  </a:solidFill>
                  <a:latin typeface="Times New Roman"/>
                </a:rPr>
                <a:t>PROPAGACION EN CELULA HUESP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1828800"/>
              <a:ext cx="838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3733920"/>
              <a:ext cx="3045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3962520"/>
              <a:ext cx="3049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6880" y="388620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762120" y="343080"/>
            <a:ext cx="5790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UMEN DE CL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9240" y="1719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Enzimas de restricción</a:t>
            </a: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90240" y="26049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DNA Lig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6560" y="298620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Ve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7000" y="35193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Célula hués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828800"/>
            <a:ext cx="228600" cy="15228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7432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1240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65760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5040" y="343080"/>
            <a:ext cx="7712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ONES que contienen diferentes fragmentos del genoma =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61520" y="2438280"/>
            <a:ext cx="631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ONSTRUCCIÓN DE LIBRER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Í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S DE c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Y DE DNA GE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USO DE VE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PLASMI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DNAs DE F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TROS (BACs, COSMIDIOS, YACs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1920" y="85248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GENOTECAS O LIBRE</a:t>
            </a:r>
            <a:r>
              <a:rPr b="0" lang="es-ES_tradnl" sz="28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1298520"/>
            <a:ext cx="7010640" cy="490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3600" spc="-1" strike="noStrike">
                <a:solidFill>
                  <a:srgbClr val="ff6600"/>
                </a:solidFill>
                <a:latin typeface="Times New Roman"/>
              </a:rPr>
              <a:t>Genoteca de c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cDNA obtenido m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diant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ranscripción reversa de mRNA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8120" y="81000"/>
            <a:ext cx="3124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42080" y="76212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EDRAS ANGULARES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IENIERÍA GE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41776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CONSTRUCCIÓN DE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cDNA Y GE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EINTO DE LAS ENDONUCLEASAS DE RESTRICCIÓN (ENZIMAS DE REST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IENTO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POLIMERIZACIÓN DE CADENA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PCR (POLYMERASE CHAIN REAC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30280" y="1619280"/>
            <a:ext cx="448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30280" y="1758960"/>
            <a:ext cx="44834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295280" y="380880"/>
            <a:ext cx="7305120" cy="6007320"/>
            <a:chOff x="1295280" y="380880"/>
            <a:chExt cx="7305120" cy="600732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579132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057400" y="4114800"/>
              <a:ext cx="447048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300080" y="1042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ec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23720" y="3481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320" y="1523880"/>
              <a:ext cx="609480" cy="34290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0600" y="30621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ig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57800" y="58672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4800" y="56912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transform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533520"/>
            <a:ext cx="64008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520"/>
            <a:ext cx="8001000" cy="57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ff6600"/>
                </a:solidFill>
                <a:latin typeface="Arial"/>
              </a:rPr>
              <a:t>Genoteca de DNA genó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ragmentación de todo el genoma mediante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zimas de restricción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2.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fragmentos en v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42973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mo aislar un fragmento de DN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interé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80720" y="33526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islamiento de un c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Uso de sondas radia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2286000"/>
            <a:ext cx="684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Identificación de un fragmento de DNA específico en las colonias transform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medi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HIBRIDIZACION CON SONDAS MARC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38080" y="1294920"/>
            <a:ext cx="46483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486400"/>
            <a:ext cx="419076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onamiento por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9200" y="2087640"/>
            <a:ext cx="6879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écnicas de DNA Recombin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binac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 transcripción reversa con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T-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1179360"/>
            <a:ext cx="777240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136880" y="685800"/>
            <a:ext cx="7347960" cy="4863240"/>
            <a:chOff x="1136880" y="685800"/>
            <a:chExt cx="7347960" cy="4863240"/>
          </a:xfrm>
        </p:grpSpPr>
        <p:sp>
          <p:nvSpPr>
            <p:cNvPr id="238" name=""/>
            <p:cNvSpPr/>
            <p:nvPr/>
          </p:nvSpPr>
          <p:spPr>
            <a:xfrm>
              <a:off x="2969280" y="685800"/>
              <a:ext cx="26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loning by RT-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9240" y="2133360"/>
              <a:ext cx="380988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5800" y="188892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TTTTT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36640" y="1904760"/>
              <a:ext cx="38124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2400" y="1904760"/>
              <a:ext cx="45720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6000" y="1888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94000" y="23619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0120" y="35208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0120" y="37494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4040" y="34290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6720" y="41907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36880" y="5089320"/>
              <a:ext cx="73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orte con enzimas de restricci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ＭＳ Ｐゴシック"/>
                </a:rPr>
                <a:t>ón y ligación a un plasmi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371600"/>
            <a:ext cx="46479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91120" y="4800600"/>
            <a:ext cx="41907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9440" y="2514600"/>
            <a:ext cx="72550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SECUENCIACION DEL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914400"/>
            <a:ext cx="74674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04156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Estudio de la funci</a:t>
            </a:r>
            <a:r>
              <a:rPr b="0" lang="es-ES_tradnl" sz="4000" spc="-1" strike="noStrike">
                <a:solidFill>
                  <a:srgbClr val="0066ff"/>
                </a:solidFill>
                <a:latin typeface="Times New Roman"/>
                <a:ea typeface="ＭＳ Ｐゴシック"/>
              </a:rPr>
              <a:t>ón de un 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Vectores de expr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54356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1692360" y="189000"/>
            <a:ext cx="58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 de expresión en bacterias</a:t>
            </a:r>
            <a:r>
              <a:rPr b="1" lang="es-ES_tradnl" sz="28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44720" y="152280"/>
            <a:ext cx="30988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6078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32760" y="90360"/>
            <a:ext cx="52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ctores de expre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en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0720" y="762120"/>
            <a:ext cx="3657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2952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16000" y="1143000"/>
            <a:ext cx="6769080" cy="483552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FUNCIÓN DE UN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erramientas de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álisis computacional en banco de datos: homología de secuencia con un gen de otro organismo cuya función se cono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imales transgénicos y knock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0680" y="2457360"/>
            <a:ext cx="642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l problema: ¿Qué material genético v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a manipular y cómo lo vamos a manipul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533520"/>
            <a:ext cx="8610480" cy="58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islar secuencias de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Obtener múltiples copias de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imes New Roman"/>
              </a:rPr>
              <a:t>                                     </a:t>
            </a:r>
            <a:r>
              <a:rPr b="1" lang="es-ES" sz="2000" spc="-1" strike="noStrike">
                <a:solidFill>
                  <a:srgbClr val="cc3300"/>
                </a:solidFill>
                <a:latin typeface="Times New Roman"/>
              </a:rPr>
              <a:t>TE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lonamiento Mole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CR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reacción en cadena de la polimerasa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5334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8480" y="6324480"/>
            <a:ext cx="449604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89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380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ANALISIS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9528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es-ES" sz="1800" spc="-1" strike="noStrike">
                <a:solidFill>
                  <a:srgbClr val="cc3300"/>
                </a:solidFill>
                <a:latin typeface="Times New Roman"/>
              </a:rPr>
              <a:t>Se requi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143000"/>
            <a:ext cx="7772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447920"/>
            <a:ext cx="7696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nzimas de restri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9936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4240" y="2862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65640" y="28195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343080"/>
            <a:ext cx="5678640" cy="6267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04920" y="1589040"/>
            <a:ext cx="2781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zimas  de Restri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18:46:18Z</dcterms:created>
  <dc:creator>tm</dc:creator>
  <dc:description/>
  <dc:language>en-US</dc:language>
  <cp:lastModifiedBy>Juan Antonelli</cp:lastModifiedBy>
  <dcterms:modified xsi:type="dcterms:W3CDTF">2009-01-15T14:40:49Z</dcterms:modified>
  <cp:revision>290</cp:revision>
  <dc:subject/>
  <dc:title>No Slide Title</dc:title>
</cp:coreProperties>
</file>