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png" ContentType="image/png"/>
  <Override PartName="/ppt/media/image8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9.pct" ContentType="image/x-pict"/>
  <Override PartName="/ppt/media/image11.png" ContentType="image/png"/>
  <Override PartName="/ppt/media/image19.jpeg" ContentType="image/jpeg"/>
  <Override PartName="/ppt/media/image4.jpeg" ContentType="image/jpeg"/>
  <Override PartName="/ppt/media/image25.png" ContentType="image/png"/>
  <Override PartName="/ppt/media/image24.jpeg" ContentType="image/jpeg"/>
  <Override PartName="/ppt/media/image2.pct" ContentType="image/x-pict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pct" ContentType="image/x-pict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20E-45A6-41F9-BDBA-18322132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204-4E7B-4002-85D3-7DCDDA4E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44B-F3A6-40AA-8EB6-1ADF053A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E51-9851-4639-A1C2-9D0A2C5A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B80-0671-449E-A219-2946224F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473-938A-4BCE-8AB6-788FB05E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D5B6-F50E-4B45-B6DD-F3049403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AA6-C49E-4A49-9837-09FA0BE3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A53-17D0-47D2-9354-41890C4E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F70-9F65-45A5-A437-3E6B748C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DF5-4F47-494C-92D8-1767D4D5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4B0-AC4B-43EC-AE8D-D221657F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4268-5859-41C7-8780-CBBCB0707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01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838080"/>
            <a:ext cx="830592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Impact"/>
              </a:rPr>
              <a:t>DNA RECOMBINANTE E INGIENIER</a:t>
            </a:r>
            <a:r>
              <a:rPr b="0" lang="es-ES_tradnl" sz="4000" spc="-1" strike="noStrike">
                <a:solidFill>
                  <a:srgbClr val="3333cc"/>
                </a:solidFill>
                <a:latin typeface="Impact"/>
                <a:ea typeface="ＭＳ Ｐゴシック"/>
              </a:rPr>
              <a:t>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Impact"/>
                <a:ea typeface="ＭＳ Ｐゴシック"/>
              </a:rPr>
              <a:t>GENÉ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51560" y="2476440"/>
            <a:ext cx="29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38080" y="1828800"/>
          <a:ext cx="2476800" cy="21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2476800" cy="21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15000" y="2057400"/>
            <a:ext cx="3124080" cy="214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3880" y="4191120"/>
            <a:ext cx="39625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66680" y="533520"/>
            <a:ext cx="6782040" cy="838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DIGESTION DEL DNA POR ENDONUCLEASAS DE RESTRICC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2136600"/>
            <a:ext cx="7086600" cy="38037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73" name=""/>
          <p:cNvSpPr/>
          <p:nvPr/>
        </p:nvSpPr>
        <p:spPr>
          <a:xfrm>
            <a:off x="1905120" y="5715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638680"/>
            <a:ext cx="1752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itio de cort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638680"/>
            <a:ext cx="3733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333440" y="817560"/>
              <a:ext cx="6475320" cy="5221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79" name=""/>
          <p:cNvSpPr/>
          <p:nvPr/>
        </p:nvSpPr>
        <p:spPr>
          <a:xfrm>
            <a:off x="1447920" y="1066680"/>
            <a:ext cx="5715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66440" y="1052640"/>
            <a:ext cx="27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ZIMAS de RESTRICC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6280" y="109044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tio de corte de enzimas de restri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066680"/>
            <a:ext cx="617220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tios de corte de endonucleasas de restri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334120"/>
            <a:ext cx="6400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a50021"/>
                </a:solidFill>
                <a:latin typeface="Times New Roman"/>
              </a:rPr>
              <a:t>Las flechas indican los enlaces fosfodiester sobre los que actúa cada enzi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838080"/>
            <a:ext cx="777240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086600" cy="45446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ect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DNA lig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élulas huésp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609480"/>
            <a:ext cx="7467840" cy="525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5228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80880"/>
            <a:ext cx="739116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Características básicas de  un vector d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clonami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Origen de replicación autón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Gen marcador de sele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tios únicos de restricción </a:t>
            </a: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33720" y="4724280"/>
            <a:ext cx="14475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3640" y="45252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omponentes básicos de un vector de clonamiento plasmidi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que puede replicar en una célula de  E.col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2666880"/>
            <a:ext cx="14479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4191120"/>
            <a:ext cx="16765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327672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22860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5416560" cy="521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800600" y="563868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aja de clonaje m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ltiple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440" y="2590920"/>
            <a:ext cx="131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codifica proteí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de resistencia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ampicilina</a:t>
            </a:r>
            <a:r>
              <a:rPr b="0" lang="es-ES" sz="1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12280" y="502920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3399"/>
                </a:solidFill>
                <a:latin typeface="Times New Roman"/>
              </a:rPr>
              <a:t>Origen de repl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29256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Times New Roman"/>
              </a:rPr>
              <a:t>Región de inserción de 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Times New Roman"/>
              </a:rPr>
              <a:t>Exógeno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1062000"/>
            <a:ext cx="7010280" cy="536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343400" y="2819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Times New Roman"/>
              </a:rPr>
              <a:t>1ª división celula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962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3300"/>
                </a:solidFill>
                <a:latin typeface="Times New Roman"/>
              </a:rPr>
              <a:t>2ª división celula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08040" y="343080"/>
            <a:ext cx="634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¿PORQUE EL USO DE UN VECTOR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1143000"/>
            <a:ext cx="678168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1143000"/>
            <a:ext cx="38862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Times New Roman"/>
              </a:rPr>
              <a:t>TIPOS DE VECTORES</a:t>
            </a: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              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kpb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inserto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lasmidios                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cteriofagos 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CS                         3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YACS                      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57200"/>
            <a:ext cx="41911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943600"/>
            <a:ext cx="502920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5560" y="71280"/>
            <a:ext cx="8661240" cy="6205680"/>
            <a:chOff x="25560" y="71280"/>
            <a:chExt cx="8661240" cy="62056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600200" y="838080"/>
              <a:ext cx="6095880" cy="53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5560" y="71280"/>
              <a:ext cx="866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3300"/>
                  </a:solidFill>
                  <a:latin typeface="Times New Roman"/>
                </a:rPr>
                <a:t>CLONAMIENTO EN PLASMIDIO</a:t>
              </a:r>
              <a:r>
                <a:rPr b="0" lang="es-ES" sz="2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9680" y="4267080"/>
              <a:ext cx="1219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14800" y="1905120"/>
              <a:ext cx="9144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Eco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24480" y="1905120"/>
              <a:ext cx="7621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Pvu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4360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90080" y="5910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33920" y="914400"/>
              <a:ext cx="6858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11360" y="804960"/>
              <a:ext cx="12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r>
                <a:rPr b="0" lang="es-ES" sz="1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72200" y="83808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48320" y="838080"/>
              <a:ext cx="1143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4080" y="2895480"/>
              <a:ext cx="914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2819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cohesiv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2895480"/>
              <a:ext cx="990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rom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95280" y="49528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Vector plasmidial 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426708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42670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95680"/>
              <a:ext cx="228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672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1676520"/>
              <a:ext cx="152280" cy="358128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149040 h 3581280"/>
                <a:gd name="textAreaBottom" fmla="*/ 34322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1371600"/>
              <a:ext cx="16761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1447920"/>
              <a:ext cx="1523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DNA cromosoma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1447920"/>
            <a:ext cx="70866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NA lig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Células huésp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12760" y="0"/>
            <a:ext cx="8931240" cy="6886440"/>
            <a:chOff x="212760" y="0"/>
            <a:chExt cx="8931240" cy="68864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581280" y="0"/>
              <a:ext cx="5181840" cy="68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362320" y="6477120"/>
              <a:ext cx="137160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48320" y="67057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2320" y="6553080"/>
              <a:ext cx="129528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2760" y="152280"/>
              <a:ext cx="4840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Unión de frag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de restricció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que poseen extrem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3333cc"/>
                  </a:solidFill>
                  <a:latin typeface="Times New Roman"/>
                </a:rPr>
                <a:t>cohesiv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477120"/>
              <a:ext cx="53341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05720" y="152280"/>
              <a:ext cx="21333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Fragmentos de DNA genómic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3080" y="2514600"/>
              <a:ext cx="12956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6600" y="3352680"/>
              <a:ext cx="175248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+    </a:t>
              </a:r>
              <a:r>
                <a:rPr b="1" lang="es-ES" sz="1800" spc="-1" strike="noStrike">
                  <a:solidFill>
                    <a:srgbClr val="3333cc"/>
                  </a:solidFill>
                  <a:latin typeface="Times New Roman"/>
                </a:rPr>
                <a:t>c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9000" y="685800"/>
            <a:ext cx="44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GENIERÍA GE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00120" y="1919160"/>
            <a:ext cx="612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MANIPULACIÓN DEL DNA DE LOS ORGANISMOS V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1) 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INVESTIGACIÓN BÁSICA (ESTUDIO DE LA ORGANIZACIÓN, EXPRESIÓN Y FUNCIÓN DE GENES EN LOS ORGANISMOS VIV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Arial"/>
              </a:rPr>
              <a:t>APLICACIÓN DE ESTE CONOCIMIENTO EN LA MANIPULACIÓN CONSCIENTE DE LOS GENES EN SALUD, EN LA INDUSTRIA DE ALIMENTOS, EN LA AGRICULTURA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5560" y="71280"/>
            <a:ext cx="8661240" cy="6205680"/>
            <a:chOff x="25560" y="71280"/>
            <a:chExt cx="8661240" cy="62056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600200" y="838080"/>
              <a:ext cx="6095880" cy="530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5560" y="71280"/>
              <a:ext cx="866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3300"/>
                  </a:solidFill>
                  <a:latin typeface="Times New Roman"/>
                </a:rPr>
                <a:t>CLONAMIENTO EN PLASMIDIO</a:t>
              </a:r>
              <a:r>
                <a:rPr b="0" lang="es-ES" sz="2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4267080"/>
              <a:ext cx="1219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4800" y="1905120"/>
              <a:ext cx="9144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Eco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24480" y="1905120"/>
              <a:ext cx="7621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200" spc="-1" strike="noStrike">
                  <a:solidFill>
                    <a:srgbClr val="000000"/>
                  </a:solidFill>
                  <a:latin typeface="Times New Roman"/>
                </a:rPr>
                <a:t>Pvu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92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3600" y="1447920"/>
              <a:ext cx="685800" cy="22860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90080" y="5910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33920" y="914400"/>
              <a:ext cx="6858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11360" y="804960"/>
              <a:ext cx="12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r>
                <a:rPr b="0" lang="es-ES" sz="18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172200" y="83808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Sitio de c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8320" y="838080"/>
              <a:ext cx="1143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24080" y="2895480"/>
              <a:ext cx="9144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3200" y="28195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cohesiv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48520" y="2895480"/>
              <a:ext cx="9903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99"/>
                  </a:solidFill>
                  <a:latin typeface="Times New Roman"/>
                </a:rPr>
                <a:t>Extremos romos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95280" y="49528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Vector plasmidial 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09680" y="426708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000" y="4267080"/>
              <a:ext cx="8380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4080" y="4495680"/>
              <a:ext cx="2286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6720" y="4724280"/>
              <a:ext cx="22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43000" y="1676520"/>
              <a:ext cx="152280" cy="358128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149040 h 3581280"/>
                <a:gd name="textAreaBottom" fmla="*/ 3432240 h 358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47920" y="1371600"/>
              <a:ext cx="16761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71600" y="1447920"/>
              <a:ext cx="15238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DNA cromosomal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3300"/>
                  </a:solidFill>
                  <a:latin typeface="Times New Roman"/>
                </a:rPr>
                <a:t>cortado con EcoR1 y PvuII</a:t>
              </a:r>
              <a:r>
                <a:rPr b="0" lang="es-ES" sz="1400" spc="-1" strike="noStrike">
                  <a:solidFill>
                    <a:srgbClr val="cc33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62120" y="1066680"/>
            <a:ext cx="77724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447920"/>
            <a:ext cx="708660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Enzimas de restri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DNA lig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Células huésp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80880" y="114480"/>
            <a:ext cx="8382240" cy="6248160"/>
            <a:chOff x="380880" y="114480"/>
            <a:chExt cx="8382240" cy="624816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80880" y="457200"/>
              <a:ext cx="4114800" cy="590544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4419720" y="457200"/>
              <a:ext cx="4343400" cy="586728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p:sp>
          <p:nvSpPr>
            <p:cNvPr id="174" name=""/>
            <p:cNvSpPr/>
            <p:nvPr/>
          </p:nvSpPr>
          <p:spPr>
            <a:xfrm>
              <a:off x="4648320" y="5791320"/>
              <a:ext cx="4114800" cy="53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3962520"/>
              <a:ext cx="152280" cy="236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10280" y="457200"/>
              <a:ext cx="1371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152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960" y="114480"/>
              <a:ext cx="771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</a:t>
              </a:r>
              <a:r>
                <a:rPr b="1" lang="es-ES" sz="2000" spc="-1" strike="noStrike">
                  <a:solidFill>
                    <a:srgbClr val="cc3300"/>
                  </a:solidFill>
                  <a:latin typeface="Times New Roman"/>
                </a:rPr>
                <a:t>PROPAGACION EN CELULA HUESP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1828800"/>
              <a:ext cx="83844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62520" y="3733920"/>
              <a:ext cx="3045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6880" y="3962520"/>
              <a:ext cx="304920" cy="7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66880" y="3886200"/>
              <a:ext cx="38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2616120" y="711360"/>
              <a:ext cx="3911760" cy="54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762120" y="343080"/>
            <a:ext cx="5790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UMEN DE CL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3505320"/>
            <a:ext cx="1218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09240" y="17193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Enzimas de restricción</a:t>
            </a:r>
            <a:r>
              <a:rPr b="0" lang="es-ES" sz="1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90240" y="260496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DNA Lig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66560" y="298620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Vec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7000" y="351936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Célula hués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00800" y="1828800"/>
            <a:ext cx="228600" cy="15228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2743200"/>
            <a:ext cx="609480" cy="152280"/>
          </a:xfrm>
          <a:prstGeom prst="leftArrow">
            <a:avLst>
              <a:gd name="adj1" fmla="val 50000"/>
              <a:gd name="adj2" fmla="val 100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3124080"/>
            <a:ext cx="457200" cy="15264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657600"/>
            <a:ext cx="685800" cy="76320"/>
          </a:xfrm>
          <a:prstGeom prst="leftArrow">
            <a:avLst>
              <a:gd name="adj1" fmla="val 50000"/>
              <a:gd name="adj2" fmla="val 224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2616120" y="711360"/>
              <a:ext cx="3911760" cy="54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"/>
          <p:cNvSpPr/>
          <p:nvPr/>
        </p:nvSpPr>
        <p:spPr>
          <a:xfrm>
            <a:off x="365040" y="343080"/>
            <a:ext cx="7712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LONES que contienen diferentes fragmentos del genoma = GENOTE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3505320"/>
            <a:ext cx="1218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361520" y="2438280"/>
            <a:ext cx="631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ONSTRUCCIÓN DE LIBRER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ＭＳ Ｐゴシック"/>
              </a:rPr>
              <a:t>Í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AS DE c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Y DE DNA GE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USO DE VECT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PLASMI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DNAs DE FA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-OTROS (BACs, COSMIDIOS, YACs, ET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1920" y="852480"/>
            <a:ext cx="45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imes New Roman"/>
              </a:rPr>
              <a:t>GENOTECAS O LIBRE</a:t>
            </a:r>
            <a:r>
              <a:rPr b="0" lang="es-ES_tradnl" sz="2800" spc="-1" strike="noStrike">
                <a:solidFill>
                  <a:srgbClr val="ff6600"/>
                </a:solidFill>
                <a:latin typeface="Times New Roman"/>
                <a:ea typeface="ＭＳ Ｐゴシック"/>
              </a:rPr>
              <a:t>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3120" y="874800"/>
            <a:ext cx="85359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66680" y="1298520"/>
            <a:ext cx="7010640" cy="490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3600" spc="-1" strike="noStrike">
                <a:solidFill>
                  <a:srgbClr val="ff6600"/>
                </a:solidFill>
                <a:latin typeface="Times New Roman"/>
              </a:rPr>
              <a:t>Genoteca de c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Obten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lonamiento de cDNA obtenido m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diant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transcripción reversa de mRNA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8120" y="81000"/>
            <a:ext cx="312408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91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42080" y="76212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PIEDRAS ANGULARES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INGIENIERÍA GEN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417760"/>
            <a:ext cx="685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CONSTRUCCIÓN DE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 cDNA Y GE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SCUBRIMEINTO DE LAS ENDONUCLEASAS DE RESTRICCIÓN (ENZIMAS DE RESTRI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SCUBRIMIENTO DE LA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DE POLIMERIZACIÓN DE CADENA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PCR (POLYMERASE CHAIN REACC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330280" y="1619280"/>
            <a:ext cx="448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330280" y="1758960"/>
            <a:ext cx="44834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1295280" y="380880"/>
            <a:ext cx="7305120" cy="6007320"/>
            <a:chOff x="1295280" y="380880"/>
            <a:chExt cx="7305120" cy="600732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579132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2057400" y="4114800"/>
              <a:ext cx="447048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300080" y="104292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vect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23720" y="3481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34320" y="1523880"/>
              <a:ext cx="609480" cy="34290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89280 h 3429000"/>
                <a:gd name="textAreaBottom" fmla="*/ 3339720 h 342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80600" y="3062160"/>
              <a:ext cx="91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iga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57800" y="5867280"/>
              <a:ext cx="160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94800" y="569124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transforma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533520"/>
            <a:ext cx="6400800" cy="6019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33520"/>
            <a:ext cx="8001000" cy="57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_tradnl" sz="3600" spc="-1" strike="noStrike">
                <a:solidFill>
                  <a:srgbClr val="ff6600"/>
                </a:solidFill>
                <a:latin typeface="Arial"/>
              </a:rPr>
              <a:t>Genoteca de DNA genóm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3333cc"/>
                </a:solidFill>
                <a:latin typeface="Arial"/>
              </a:rPr>
              <a:t>Obten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s-ES_tradnl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Fragmentación de todo el genoma mediante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    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nzimas de restricción</a:t>
            </a: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66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2.   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lonamiento de fragmentos en ve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666880" y="76320"/>
            <a:ext cx="42973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mo aislar un fragmento de DN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 interé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980720" y="33526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islamiento de un c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Uso de sondas radia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P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2286000"/>
            <a:ext cx="6845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Identificación de un fragmento de DNA específico en las colonias transform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media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HIBRIDIZACION CON SONDAS MARC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94240" y="8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38080" y="1294920"/>
            <a:ext cx="46483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5486400"/>
            <a:ext cx="419076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onamiento por PC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7631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972040" cy="6097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410080" y="3048120"/>
            <a:ext cx="35816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CLONAMIENTO DE UN PRODUCTO DE   PCR</a:t>
            </a:r>
            <a:r>
              <a:rPr b="1" lang="es-E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13720" y="357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9200" y="2087640"/>
            <a:ext cx="687996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_tradnl" sz="40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écnicas de DNA Recombin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binaci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 transcripción reversa con PC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T-PC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33520" y="1179360"/>
            <a:ext cx="777240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136880" y="685800"/>
            <a:ext cx="7347960" cy="4863240"/>
            <a:chOff x="1136880" y="685800"/>
            <a:chExt cx="7347960" cy="4863240"/>
          </a:xfrm>
        </p:grpSpPr>
        <p:sp>
          <p:nvSpPr>
            <p:cNvPr id="238" name=""/>
            <p:cNvSpPr/>
            <p:nvPr/>
          </p:nvSpPr>
          <p:spPr>
            <a:xfrm>
              <a:off x="2969280" y="685800"/>
              <a:ext cx="26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Cloning by RT-P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9240" y="2133360"/>
              <a:ext cx="380988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5800" y="188892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TTTTT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436640" y="1904760"/>
              <a:ext cx="38124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2400" y="1904760"/>
              <a:ext cx="45720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6000" y="188892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PC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94000" y="2361960"/>
              <a:ext cx="0" cy="685800"/>
            </a:xfrm>
            <a:prstGeom prst="line">
              <a:avLst/>
            </a:prstGeom>
            <a:ln w="381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70120" y="3520800"/>
              <a:ext cx="304812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70120" y="3749400"/>
              <a:ext cx="3048120" cy="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14040" y="342900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33"/>
                  </a:solidFill>
                  <a:latin typeface="Times New Roman"/>
                </a:rPr>
                <a:t>cD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76720" y="4190760"/>
              <a:ext cx="0" cy="685800"/>
            </a:xfrm>
            <a:prstGeom prst="line">
              <a:avLst/>
            </a:prstGeom>
            <a:ln w="38160">
              <a:solidFill>
                <a:srgbClr val="cc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36880" y="5089320"/>
              <a:ext cx="73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Corte con enzimas de restricci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  <a:ea typeface="ＭＳ Ｐゴシック"/>
                </a:rPr>
                <a:t>ón y ligación a un plasmi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972040" cy="60973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410080" y="3048120"/>
            <a:ext cx="35816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ff"/>
                </a:solidFill>
                <a:latin typeface="Times New Roman"/>
              </a:rPr>
              <a:t>CLONAMIENTO DE UN PRODUCTO DE   PCR</a:t>
            </a:r>
            <a:r>
              <a:rPr b="1" lang="es-ES" sz="1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13720" y="35712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ibr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94240" y="800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371600"/>
            <a:ext cx="4647960" cy="76320"/>
          </a:xfrm>
          <a:prstGeom prst="rect">
            <a:avLst/>
          </a:prstGeom>
          <a:solidFill>
            <a:srgbClr val="3333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191120" y="4800600"/>
            <a:ext cx="4190760" cy="76320"/>
          </a:xfrm>
          <a:prstGeom prst="rect">
            <a:avLst/>
          </a:prstGeom>
          <a:solidFill>
            <a:srgbClr val="3333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79440" y="2514600"/>
            <a:ext cx="725508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33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s-CL" sz="3600" spc="-1" strike="noStrike">
                <a:solidFill>
                  <a:srgbClr val="3366ff"/>
                </a:solidFill>
                <a:latin typeface="Arial"/>
              </a:rPr>
              <a:t>SECUENCIACION DEL 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66ff"/>
                </a:solidFill>
                <a:latin typeface="Arial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914400"/>
            <a:ext cx="74674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204156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Times New Roman"/>
              </a:rPr>
              <a:t>Estudio de la funci</a:t>
            </a:r>
            <a:r>
              <a:rPr b="0" lang="es-ES_tradnl" sz="4000" spc="-1" strike="noStrike">
                <a:solidFill>
                  <a:srgbClr val="0066ff"/>
                </a:solidFill>
                <a:latin typeface="Times New Roman"/>
                <a:ea typeface="ＭＳ Ｐゴシック"/>
              </a:rPr>
              <a:t>ón de un 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6ff"/>
                </a:solidFill>
                <a:latin typeface="Times New Roman"/>
              </a:rPr>
              <a:t>Vectores de expres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715000" cy="543564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261" name=""/>
          <p:cNvSpPr/>
          <p:nvPr/>
        </p:nvSpPr>
        <p:spPr>
          <a:xfrm>
            <a:off x="1692360" y="189000"/>
            <a:ext cx="58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Vector de expresión en bacterias</a:t>
            </a:r>
            <a:r>
              <a:rPr b="1" lang="es-ES_tradnl" sz="2800" spc="-1" strike="noStrike" u="sng">
                <a:solidFill>
                  <a:srgbClr val="cc00ff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844720" y="152280"/>
            <a:ext cx="309888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90720" y="762120"/>
            <a:ext cx="7238880" cy="60782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32760" y="90360"/>
            <a:ext cx="52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ctores de expre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en eucari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90720" y="762120"/>
            <a:ext cx="36576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2952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16000" y="1143000"/>
            <a:ext cx="6769080" cy="483552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FUNCIÓN DE UN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Herramientas de Estud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66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Times New Roman"/>
              </a:rPr>
              <a:t>Análisis computacional en banco de datos: homología de secuencia con un gen de otro organismo cuya función se cono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6666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Times New Roman"/>
              </a:rPr>
              <a:t>Animales transgénicos y knock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00680" y="2457360"/>
            <a:ext cx="642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El problema: ¿Qué material genético v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a manipular y cómo lo vamos a manipul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3120" y="874800"/>
            <a:ext cx="853596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533520"/>
            <a:ext cx="8610480" cy="58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islar secuencias de D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Obtener múltiples copias de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Times New Roman"/>
              </a:rPr>
              <a:t>                                     </a:t>
            </a:r>
            <a:r>
              <a:rPr b="1" lang="es-ES" sz="2000" spc="-1" strike="noStrike">
                <a:solidFill>
                  <a:srgbClr val="cc3300"/>
                </a:solidFill>
                <a:latin typeface="Times New Roman"/>
              </a:rPr>
              <a:t>TE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Clonamiento Mole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PCR 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reacción en cadena de la polimerasa</a:t>
            </a:r>
            <a:r>
              <a:rPr b="1" lang="es-E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28600"/>
            <a:ext cx="5334120" cy="7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038480" y="6324480"/>
            <a:ext cx="449604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8954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895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040" y="3808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Times New Roman"/>
              </a:rPr>
              <a:t>               </a:t>
            </a:r>
            <a:r>
              <a:rPr b="1" lang="es-ES" sz="3600" spc="-1" strike="noStrike">
                <a:solidFill>
                  <a:srgbClr val="cc3300"/>
                </a:solidFill>
                <a:latin typeface="Times New Roman"/>
              </a:rPr>
              <a:t>ANALISIS DE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95280"/>
            <a:ext cx="6324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676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lang="es-ES" sz="1800" spc="-1" strike="noStrike">
                <a:solidFill>
                  <a:srgbClr val="cc3300"/>
                </a:solidFill>
                <a:latin typeface="Times New Roman"/>
              </a:rPr>
              <a:t>Se requi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1143000"/>
            <a:ext cx="77724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447920"/>
            <a:ext cx="7696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50021"/>
                </a:solidFill>
                <a:latin typeface="Times New Roman"/>
              </a:rPr>
              <a:t>CLONAMIENTO MOLECULAR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                      </a:t>
            </a:r>
            <a:r>
              <a:rPr b="1" lang="es-ES_tradnl" sz="2400" spc="-1" strike="noStrike">
                <a:solidFill>
                  <a:srgbClr val="a50021"/>
                </a:solidFill>
                <a:latin typeface="Times New Roman"/>
              </a:rPr>
              <a:t>HERRAMIENTAS BA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nzimas de restri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Vect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DNA lig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0" lang="es-ES_tradnl" sz="2000" spc="-1" strike="noStrike">
                <a:solidFill>
                  <a:srgbClr val="cc3300"/>
                </a:solidFill>
                <a:latin typeface="Times New Roman"/>
              </a:rPr>
              <a:t>Células huésp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9936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4240" y="2862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65640" y="281952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3399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343080"/>
            <a:ext cx="5678640" cy="62672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304920" y="1589040"/>
            <a:ext cx="2781360" cy="1752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zimas  de Restri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18:46:18Z</dcterms:created>
  <dc:creator>tm</dc:creator>
  <dc:description/>
  <dc:language>en-US</dc:language>
  <cp:lastModifiedBy>Juan Antonelli</cp:lastModifiedBy>
  <dcterms:modified xsi:type="dcterms:W3CDTF">2009-01-15T14:40:49Z</dcterms:modified>
  <cp:revision>290</cp:revision>
  <dc:subject/>
  <dc:title>No Slide Title</dc:title>
</cp:coreProperties>
</file>