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2.png" ContentType="image/png"/>
  <Override PartName="/ppt/media/image8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9.pct" ContentType="image/x-pict"/>
  <Override PartName="/ppt/media/image11.png" ContentType="image/png"/>
  <Override PartName="/ppt/media/image19.jpeg" ContentType="image/jpeg"/>
  <Override PartName="/ppt/media/image4.jpeg" ContentType="image/jpeg"/>
  <Override PartName="/ppt/media/image25.png" ContentType="image/png"/>
  <Override PartName="/ppt/media/image24.jpeg" ContentType="image/jpeg"/>
  <Override PartName="/ppt/media/image2.pct" ContentType="image/x-pict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pct" ContentType="image/x-pict"/>
  <Override PartName="/ppt/media/image7.jpeg" ContentType="image/jpe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AF7D-8789-4B6B-9D5A-BBC22870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9B49-3A75-42A4-9511-9D165838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E04C-4948-43AE-8585-74C5DC8CA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83FC-FF98-48E1-9ED4-AB58314D6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5050-7EC5-469A-9FBB-4C0333E0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6805-8307-4A29-9557-E1F309BA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69DD-9350-4F02-BFEB-2C214D8D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15E4-3B25-4EF8-8F4D-77CD53D0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EC1D-6B4C-4896-8582-760423B8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C832-00AC-4466-BC9C-5C13E516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E42A-8397-4563-86F1-0DDC5529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B5D3-B553-4B03-A219-4F4BB9D8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8694-2524-43BD-B5C9-9B57AC0D0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ct"/><Relationship Id="rId4" Type="http://schemas.openxmlformats.org/officeDocument/2006/relationships/image" Target="../media/image3.pct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701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838080"/>
            <a:ext cx="830592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Impact"/>
              </a:rPr>
              <a:t>DNA RECOMBINANTE E INGIENIER</a:t>
            </a:r>
            <a:r>
              <a:rPr b="0" lang="es-ES_tradnl" sz="4000" spc="-1" strike="noStrike">
                <a:solidFill>
                  <a:srgbClr val="3333cc"/>
                </a:solidFill>
                <a:latin typeface="Impact"/>
                <a:ea typeface="ＭＳ Ｐゴシック"/>
              </a:rPr>
              <a:t>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Impact"/>
                <a:ea typeface="ＭＳ Ｐゴシック"/>
              </a:rPr>
              <a:t>GENÉT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51560" y="2476440"/>
            <a:ext cx="29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838080" y="1828800"/>
          <a:ext cx="2476800" cy="210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2476800" cy="21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715000" y="2057400"/>
            <a:ext cx="3124080" cy="2146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523880" y="4191120"/>
            <a:ext cx="39625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066680" y="533520"/>
            <a:ext cx="6782040" cy="838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DIGESTION DEL DNA POR ENDONUCLEASAS DE RESTRICCIO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66680" y="2136600"/>
            <a:ext cx="7086600" cy="380376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sp>
        <p:nvSpPr>
          <p:cNvPr id="73" name=""/>
          <p:cNvSpPr/>
          <p:nvPr/>
        </p:nvSpPr>
        <p:spPr>
          <a:xfrm>
            <a:off x="1905120" y="571500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5638680"/>
            <a:ext cx="17524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Sitio de corte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76920" y="5638680"/>
            <a:ext cx="37335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1333440" y="817560"/>
              <a:ext cx="6475320" cy="52214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</p:grpSp>
      <p:sp>
        <p:nvSpPr>
          <p:cNvPr id="79" name=""/>
          <p:cNvSpPr/>
          <p:nvPr/>
        </p:nvSpPr>
        <p:spPr>
          <a:xfrm>
            <a:off x="1447920" y="1066680"/>
            <a:ext cx="57150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66440" y="1052640"/>
            <a:ext cx="275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NZIMAS de RESTRICC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76280" y="1090440"/>
            <a:ext cx="34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tio de corte de enzimas de restric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1066680"/>
            <a:ext cx="6172200" cy="3049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itios de corte de endonucleasas de restric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71600" y="5334120"/>
            <a:ext cx="6400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a50021"/>
                </a:solidFill>
                <a:latin typeface="Times New Roman"/>
              </a:rPr>
              <a:t>Las flechas indican los enlaces fosfodiester sobre los que actúa cada enzim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2120" y="838080"/>
            <a:ext cx="777240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1066680"/>
            <a:ext cx="7086600" cy="45446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CLONAMIENTO MOLECULAR</a:t>
            </a: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                      </a:t>
            </a: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HERRAMIENTAS BAS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Enzimas de restri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Vecto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          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DNA liga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Células huésp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38080" y="609480"/>
            <a:ext cx="7467840" cy="5257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15228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380880"/>
            <a:ext cx="739116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Times New Roman"/>
              </a:rPr>
              <a:t>Características básicas de  un vector de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cc3300"/>
                </a:solidFill>
                <a:latin typeface="Times New Roman"/>
              </a:rPr>
              <a:t>clonamiento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                        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Origen de replicación autón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                         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Gen marcador de selec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                         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Sitios únicos de restricción </a:t>
            </a: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33720" y="4724280"/>
            <a:ext cx="14475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3640" y="452520"/>
            <a:ext cx="82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Componentes básicos de un vector de clonamiento plasmidi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que puede replicar en una célula de  E.coli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2666880"/>
            <a:ext cx="144792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4191120"/>
            <a:ext cx="16765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3276720"/>
            <a:ext cx="838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228600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5416560" cy="5210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800600" y="563868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aja de clonaje m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ú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ltiple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440" y="2590920"/>
            <a:ext cx="131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Times New Roman"/>
              </a:rPr>
              <a:t>codifica proteí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Times New Roman"/>
              </a:rPr>
              <a:t>de resistencia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Times New Roman"/>
              </a:rPr>
              <a:t>ampicilina</a:t>
            </a:r>
            <a:r>
              <a:rPr b="0" lang="es-ES" sz="18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12280" y="5029200"/>
            <a:ext cx="22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99"/>
                </a:solidFill>
                <a:latin typeface="Times New Roman"/>
              </a:rPr>
              <a:t>Origen de replic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15000" y="329256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ff"/>
                </a:solidFill>
                <a:latin typeface="Times New Roman"/>
              </a:rPr>
              <a:t>Región de inserción de D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ff"/>
                </a:solidFill>
                <a:latin typeface="Times New Roman"/>
              </a:rPr>
              <a:t>Exógeno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00200" y="1062000"/>
            <a:ext cx="7010280" cy="5362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343400" y="28195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3300"/>
                </a:solidFill>
                <a:latin typeface="Times New Roman"/>
              </a:rPr>
              <a:t>1ª división celular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43400" y="39625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3300"/>
                </a:solidFill>
                <a:latin typeface="Times New Roman"/>
              </a:rPr>
              <a:t>2ª división celular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08040" y="343080"/>
            <a:ext cx="634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000" spc="-1" strike="noStrike">
                <a:solidFill>
                  <a:srgbClr val="ff3300"/>
                </a:solidFill>
                <a:latin typeface="Times New Roman"/>
              </a:rPr>
              <a:t>¿PORQUE EL USO DE UN VECTOR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1143000"/>
            <a:ext cx="6781680" cy="457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1143000"/>
            <a:ext cx="388620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imes New Roman"/>
              </a:rPr>
              <a:t>TIPOS DE VECTORES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                                   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kpb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                                        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inserto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lasmidios                  3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bacteriofagos 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BACS                         3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YACS                      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457200"/>
            <a:ext cx="4191120" cy="7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5943600"/>
            <a:ext cx="5029200" cy="7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25560" y="71280"/>
            <a:ext cx="8661240" cy="6205680"/>
            <a:chOff x="25560" y="71280"/>
            <a:chExt cx="8661240" cy="620568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1600200" y="838080"/>
              <a:ext cx="6095880" cy="530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5560" y="71280"/>
              <a:ext cx="866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cc3300"/>
                  </a:solidFill>
                  <a:latin typeface="Times New Roman"/>
                </a:rPr>
                <a:t>CLONAMIENTO EN PLASMIDIO</a:t>
              </a:r>
              <a:r>
                <a:rPr b="0" lang="es-ES" sz="28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09680" y="4267080"/>
              <a:ext cx="12193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14800" y="1905120"/>
              <a:ext cx="9144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200" spc="-1" strike="noStrike">
                  <a:solidFill>
                    <a:srgbClr val="000000"/>
                  </a:solidFill>
                  <a:latin typeface="Times New Roman"/>
                </a:rPr>
                <a:t>EcoR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24480" y="1905120"/>
              <a:ext cx="76212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200" spc="-1" strike="noStrike">
                  <a:solidFill>
                    <a:srgbClr val="000000"/>
                  </a:solidFill>
                  <a:latin typeface="Times New Roman"/>
                </a:rPr>
                <a:t>Pvu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33920" y="1447920"/>
              <a:ext cx="685800" cy="22860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43600" y="1447920"/>
              <a:ext cx="685800" cy="22860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290080" y="5910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33920" y="914400"/>
              <a:ext cx="6858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11360" y="804960"/>
              <a:ext cx="124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3300"/>
                  </a:solidFill>
                  <a:latin typeface="Times New Roman"/>
                </a:rPr>
                <a:t>Sitio de corte</a:t>
              </a:r>
              <a:r>
                <a:rPr b="0" lang="es-ES" sz="18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172200" y="838080"/>
              <a:ext cx="76212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3300"/>
                  </a:solidFill>
                  <a:latin typeface="Times New Roman"/>
                </a:rPr>
                <a:t>Sitio de cor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48320" y="838080"/>
              <a:ext cx="1143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4080" y="2895480"/>
              <a:ext cx="9144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43200" y="281952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3399"/>
                  </a:solidFill>
                  <a:latin typeface="Times New Roman"/>
                </a:rPr>
                <a:t>Extremos cohesivos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48520" y="2895480"/>
              <a:ext cx="9903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3399"/>
                  </a:solidFill>
                  <a:latin typeface="Times New Roman"/>
                </a:rPr>
                <a:t>Extremos romos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95280" y="4952880"/>
              <a:ext cx="221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3300"/>
                  </a:solidFill>
                  <a:latin typeface="Times New Roman"/>
                </a:rPr>
                <a:t>Vector plasmidial cortado con EcoR1 y PvuII</a:t>
              </a:r>
              <a:r>
                <a:rPr b="0" lang="es-ES" sz="14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09680" y="426708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0" y="4267080"/>
              <a:ext cx="8380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24080" y="4495680"/>
              <a:ext cx="2286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76720" y="4724280"/>
              <a:ext cx="2286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43000" y="1676520"/>
              <a:ext cx="152280" cy="358128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149040 h 3581280"/>
                <a:gd name="textAreaBottom" fmla="*/ 3432240 h 358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47920" y="1371600"/>
              <a:ext cx="167616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71600" y="1447920"/>
              <a:ext cx="15238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3300"/>
                  </a:solidFill>
                  <a:latin typeface="Times New Roman"/>
                </a:rPr>
                <a:t>DNA cromosomal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3300"/>
                  </a:solidFill>
                  <a:latin typeface="Times New Roman"/>
                </a:rPr>
                <a:t>cortado con EcoR1 y PvuII</a:t>
              </a:r>
              <a:r>
                <a:rPr b="0" lang="es-ES" sz="14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62120" y="1066680"/>
            <a:ext cx="77724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1447920"/>
            <a:ext cx="7086600" cy="38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CLONAMIENTO MOLECULAR</a:t>
            </a: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                      </a:t>
            </a: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HERRAMIENTAS BAS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cc3300"/>
                </a:solidFill>
                <a:latin typeface="Times New Roman"/>
              </a:rPr>
              <a:t>Enzimas de restri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_tradnl" sz="2000" spc="-1" strike="noStrike">
                <a:solidFill>
                  <a:srgbClr val="cc3300"/>
                </a:solidFill>
                <a:latin typeface="Times New Roman"/>
              </a:rPr>
              <a:t>Vecto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DNA lig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Times New Roman"/>
              </a:rPr>
              <a:t>           </a:t>
            </a:r>
            <a:r>
              <a:rPr b="0" lang="es-ES_tradnl" sz="2000" spc="-1" strike="noStrike">
                <a:solidFill>
                  <a:srgbClr val="cc3300"/>
                </a:solidFill>
                <a:latin typeface="Times New Roman"/>
              </a:rPr>
              <a:t>Células huésped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212760" y="0"/>
            <a:ext cx="8931240" cy="6886440"/>
            <a:chOff x="212760" y="0"/>
            <a:chExt cx="8931240" cy="688644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3581280" y="0"/>
              <a:ext cx="5181840" cy="68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362320" y="6477120"/>
              <a:ext cx="1371600" cy="7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48320" y="6705720"/>
              <a:ext cx="25146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62320" y="6553080"/>
              <a:ext cx="129528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2760" y="152280"/>
              <a:ext cx="4840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imes New Roman"/>
                </a:rPr>
                <a:t>Unión de fragmen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imes New Roman"/>
                </a:rPr>
                <a:t>de restricció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imes New Roman"/>
                </a:rPr>
                <a:t>que poseen extremo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imes New Roman"/>
                </a:rPr>
                <a:t>cohesivo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6477120"/>
              <a:ext cx="533412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705720" y="152280"/>
              <a:ext cx="21333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Fragmentos de DNA genómic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53080" y="2514600"/>
              <a:ext cx="129564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86600" y="3352680"/>
              <a:ext cx="1752480" cy="60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    +    </a:t>
              </a:r>
              <a:r>
                <a:rPr b="1" lang="es-ES" sz="1800" spc="-1" strike="noStrike">
                  <a:solidFill>
                    <a:srgbClr val="3333cc"/>
                  </a:solidFill>
                  <a:latin typeface="Times New Roman"/>
                </a:rPr>
                <a:t>c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59000" y="685800"/>
            <a:ext cx="442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NGENIERÍA GENÉ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00120" y="1919160"/>
            <a:ext cx="6120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MANIPULACIÓN DEL DNA DE LOS ORGANISMOS V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1) 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INVESTIGACIÓN BÁSICA (ESTUDIO DE LA ORGANIZACIÓN, EXPRESIÓN Y FUNCIÓN DE GENES EN LOS ORGANISMOS VIV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2)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APLICACIÓN DE ESTE CONOCIMIENTO EN LA MANIPULACIÓN CONSCIENTE DE LOS GENES EN SALUD, EN LA INDUSTRIA DE ALIMENTOS, EN LA AGRICULTURA, ET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25560" y="71280"/>
            <a:ext cx="8661240" cy="6205680"/>
            <a:chOff x="25560" y="71280"/>
            <a:chExt cx="8661240" cy="620568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1600200" y="838080"/>
              <a:ext cx="6095880" cy="530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5560" y="71280"/>
              <a:ext cx="866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cc3300"/>
                  </a:solidFill>
                  <a:latin typeface="Times New Roman"/>
                </a:rPr>
                <a:t>CLONAMIENTO EN PLASMIDIO</a:t>
              </a:r>
              <a:r>
                <a:rPr b="0" lang="es-ES" sz="28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4267080"/>
              <a:ext cx="12193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14800" y="1905120"/>
              <a:ext cx="9144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200" spc="-1" strike="noStrike">
                  <a:solidFill>
                    <a:srgbClr val="000000"/>
                  </a:solidFill>
                  <a:latin typeface="Times New Roman"/>
                </a:rPr>
                <a:t>EcoR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24480" y="1905120"/>
              <a:ext cx="76212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200" spc="-1" strike="noStrike">
                  <a:solidFill>
                    <a:srgbClr val="000000"/>
                  </a:solidFill>
                  <a:latin typeface="Times New Roman"/>
                </a:rPr>
                <a:t>Pvu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33920" y="1447920"/>
              <a:ext cx="685800" cy="22860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43600" y="1447920"/>
              <a:ext cx="685800" cy="22860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90080" y="5910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33920" y="914400"/>
              <a:ext cx="6858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411360" y="804960"/>
              <a:ext cx="124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3300"/>
                  </a:solidFill>
                  <a:latin typeface="Times New Roman"/>
                </a:rPr>
                <a:t>Sitio de corte</a:t>
              </a:r>
              <a:r>
                <a:rPr b="0" lang="es-ES" sz="18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72200" y="838080"/>
              <a:ext cx="76212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3300"/>
                  </a:solidFill>
                  <a:latin typeface="Times New Roman"/>
                </a:rPr>
                <a:t>Sitio de cor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48320" y="838080"/>
              <a:ext cx="1143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24080" y="2895480"/>
              <a:ext cx="9144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743200" y="281952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3399"/>
                  </a:solidFill>
                  <a:latin typeface="Times New Roman"/>
                </a:rPr>
                <a:t>Extremos cohesivos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48520" y="2895480"/>
              <a:ext cx="9903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3399"/>
                  </a:solidFill>
                  <a:latin typeface="Times New Roman"/>
                </a:rPr>
                <a:t>Extremos romos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95280" y="4952880"/>
              <a:ext cx="221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3300"/>
                  </a:solidFill>
                  <a:latin typeface="Times New Roman"/>
                </a:rPr>
                <a:t>Vector plasmidial cortado con EcoR1 y PvuII</a:t>
              </a:r>
              <a:r>
                <a:rPr b="0" lang="es-ES" sz="14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09680" y="426708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86000" y="4267080"/>
              <a:ext cx="8380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24080" y="4495680"/>
              <a:ext cx="2286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76720" y="4724280"/>
              <a:ext cx="2286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43000" y="1676520"/>
              <a:ext cx="152280" cy="358128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149040 h 3581280"/>
                <a:gd name="textAreaBottom" fmla="*/ 3432240 h 358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47920" y="1371600"/>
              <a:ext cx="167616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71600" y="1447920"/>
              <a:ext cx="15238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3300"/>
                  </a:solidFill>
                  <a:latin typeface="Times New Roman"/>
                </a:rPr>
                <a:t>DNA cromosomal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3300"/>
                  </a:solidFill>
                  <a:latin typeface="Times New Roman"/>
                </a:rPr>
                <a:t>cortado con EcoR1 y PvuII</a:t>
              </a:r>
              <a:r>
                <a:rPr b="0" lang="es-ES" sz="14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62120" y="1066680"/>
            <a:ext cx="77724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19320" y="1447920"/>
            <a:ext cx="7086600" cy="38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CLONAMIENTO MOLECULAR</a:t>
            </a: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                      </a:t>
            </a: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HERRAMIENTAS BAS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cc3300"/>
                </a:solidFill>
                <a:latin typeface="Times New Roman"/>
              </a:rPr>
              <a:t>Enzimas de restri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_tradnl" sz="2000" spc="-1" strike="noStrike">
                <a:solidFill>
                  <a:srgbClr val="cc3300"/>
                </a:solidFill>
                <a:latin typeface="Times New Roman"/>
              </a:rPr>
              <a:t>Vecto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Times New Roman"/>
              </a:rPr>
              <a:t>           </a:t>
            </a:r>
            <a:r>
              <a:rPr b="0" lang="es-ES_tradnl" sz="2000" spc="-1" strike="noStrike">
                <a:solidFill>
                  <a:srgbClr val="cc3300"/>
                </a:solidFill>
                <a:latin typeface="Times New Roman"/>
              </a:rPr>
              <a:t>DNA lig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Células huésped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380880" y="114480"/>
            <a:ext cx="8382240" cy="6248160"/>
            <a:chOff x="380880" y="114480"/>
            <a:chExt cx="8382240" cy="624816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380880" y="457200"/>
              <a:ext cx="4114800" cy="5905440"/>
            </a:xfrm>
            <a:prstGeom prst="rect">
              <a:avLst/>
            </a:prstGeom>
            <a:ln w="9360">
              <a:solidFill>
                <a:srgbClr val="3333cc"/>
              </a:solidFill>
              <a:miter/>
            </a:ln>
          </p:spPr>
        </p:pic>
        <p:pic>
          <p:nvPicPr>
            <p:cNvPr id="173" name="" descr=""/>
            <p:cNvPicPr/>
            <p:nvPr/>
          </p:nvPicPr>
          <p:blipFill>
            <a:blip r:embed="rId2"/>
            <a:stretch/>
          </p:blipFill>
          <p:spPr>
            <a:xfrm>
              <a:off x="4419720" y="457200"/>
              <a:ext cx="4343400" cy="5867280"/>
            </a:xfrm>
            <a:prstGeom prst="rect">
              <a:avLst/>
            </a:prstGeom>
            <a:ln w="9360">
              <a:solidFill>
                <a:srgbClr val="3333cc"/>
              </a:solidFill>
              <a:miter/>
            </a:ln>
          </p:spPr>
        </p:pic>
        <p:sp>
          <p:nvSpPr>
            <p:cNvPr id="174" name=""/>
            <p:cNvSpPr/>
            <p:nvPr/>
          </p:nvSpPr>
          <p:spPr>
            <a:xfrm>
              <a:off x="4648320" y="5791320"/>
              <a:ext cx="411480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19720" y="3962520"/>
              <a:ext cx="152280" cy="236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10280" y="457200"/>
              <a:ext cx="13716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95280" y="15228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9960" y="114480"/>
              <a:ext cx="771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                               </a:t>
              </a:r>
              <a:r>
                <a:rPr b="1" lang="es-ES" sz="2000" spc="-1" strike="noStrike">
                  <a:solidFill>
                    <a:srgbClr val="cc3300"/>
                  </a:solidFill>
                  <a:latin typeface="Times New Roman"/>
                </a:rPr>
                <a:t>PROPAGACION EN CELULA HUESPE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66880" y="1828800"/>
              <a:ext cx="83844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62520" y="3733920"/>
              <a:ext cx="30456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66880" y="3962520"/>
              <a:ext cx="304920" cy="7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666880" y="3886200"/>
              <a:ext cx="38124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>
              <a:off x="2616120" y="711360"/>
              <a:ext cx="3911760" cy="543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"/>
          <p:cNvSpPr/>
          <p:nvPr/>
        </p:nvSpPr>
        <p:spPr>
          <a:xfrm>
            <a:off x="762120" y="343080"/>
            <a:ext cx="57909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SUMEN DE CL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91120" y="3505320"/>
            <a:ext cx="12189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09240" y="171936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Enzimas de restricción</a:t>
            </a:r>
            <a:r>
              <a:rPr b="0" lang="es-ES" sz="18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90240" y="260496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DNA Liga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66560" y="2986200"/>
            <a:ext cx="71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Vect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87000" y="3519360"/>
            <a:ext cx="12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Célula huésp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00800" y="1828800"/>
            <a:ext cx="228600" cy="152280"/>
          </a:xfrm>
          <a:prstGeom prst="leftArrow">
            <a:avLst>
              <a:gd name="adj1" fmla="val 50000"/>
              <a:gd name="adj2" fmla="val 375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19920" y="2743200"/>
            <a:ext cx="609480" cy="152280"/>
          </a:xfrm>
          <a:prstGeom prst="leftArrow">
            <a:avLst>
              <a:gd name="adj1" fmla="val 50000"/>
              <a:gd name="adj2" fmla="val 1000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72200" y="3124080"/>
            <a:ext cx="457200" cy="152640"/>
          </a:xfrm>
          <a:prstGeom prst="leftArrow">
            <a:avLst>
              <a:gd name="adj1" fmla="val 50000"/>
              <a:gd name="adj2" fmla="val 7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3657600"/>
            <a:ext cx="685800" cy="76320"/>
          </a:xfrm>
          <a:prstGeom prst="leftArrow">
            <a:avLst>
              <a:gd name="adj1" fmla="val 50000"/>
              <a:gd name="adj2" fmla="val 2246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2616120" y="711360"/>
              <a:ext cx="3911760" cy="543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"/>
          <p:cNvSpPr/>
          <p:nvPr/>
        </p:nvSpPr>
        <p:spPr>
          <a:xfrm>
            <a:off x="365040" y="343080"/>
            <a:ext cx="77122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LONES que contienen diferentes fragmentos del genoma = GENOTE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3505320"/>
            <a:ext cx="12189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361520" y="2438280"/>
            <a:ext cx="631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CONSTRUCCIÓN DE LIBRER</a:t>
            </a:r>
            <a:r>
              <a:rPr b="1" lang="es-ES" sz="24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Í</a:t>
            </a: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AS DE cD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Y DE DNA GE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USO DE VECT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-PLASMI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-DNAs DE FA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-OTROS (BACs, COSMIDIOS, YACs, ET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1920" y="852480"/>
            <a:ext cx="45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6600"/>
                </a:solidFill>
                <a:latin typeface="Times New Roman"/>
              </a:rPr>
              <a:t>GENOTECAS O LIBRE</a:t>
            </a:r>
            <a:r>
              <a:rPr b="0" lang="es-ES_tradnl" sz="2800" spc="-1" strike="noStrike">
                <a:solidFill>
                  <a:srgbClr val="ff6600"/>
                </a:solidFill>
                <a:latin typeface="Times New Roman"/>
                <a:ea typeface="ＭＳ Ｐゴシック"/>
              </a:rPr>
              <a:t>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03120" y="874800"/>
            <a:ext cx="853596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066680" y="1298520"/>
            <a:ext cx="7010640" cy="4908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s-ES_tradnl" sz="3600" spc="-1" strike="noStrike">
                <a:solidFill>
                  <a:srgbClr val="ff6600"/>
                </a:solidFill>
                <a:latin typeface="Times New Roman"/>
              </a:rPr>
              <a:t>Genoteca de cD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Obtenció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Clonamiento de cDNA obtenido m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ediante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transcripción reversa de mRNA to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048120" y="81000"/>
            <a:ext cx="312408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1911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42080" y="762120"/>
            <a:ext cx="462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PIEDRAS ANGULARES DE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INGIENIERÍA GENÉ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2417760"/>
            <a:ext cx="685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CONSTRUCCIÓN DE LIBRER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DE cDNA Y GENÓ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DESCUBRIMEINTO DE LAS ENDONUCLEASAS DE RESTRICCIÓN (ENZIMAS DE RESTRI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DESCUBRIMIENTO DE LA RE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DE POLIMERIZACIÓN DE CADENA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PCR (POLYMERASE CHAIN REACCTI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330280" y="1619280"/>
            <a:ext cx="448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330280" y="1758960"/>
            <a:ext cx="448344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1295280" y="380880"/>
            <a:ext cx="7305120" cy="6007320"/>
            <a:chOff x="1295280" y="380880"/>
            <a:chExt cx="7305120" cy="6007320"/>
          </a:xfrm>
        </p:grpSpPr>
        <p:pic>
          <p:nvPicPr>
            <p:cNvPr id="210" name="" descr=""/>
            <p:cNvPicPr/>
            <p:nvPr/>
          </p:nvPicPr>
          <p:blipFill>
            <a:blip r:embed="rId1"/>
            <a:stretch/>
          </p:blipFill>
          <p:spPr>
            <a:xfrm>
              <a:off x="1295280" y="380880"/>
              <a:ext cx="5791320" cy="27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2"/>
            <a:stretch/>
          </p:blipFill>
          <p:spPr>
            <a:xfrm>
              <a:off x="2057400" y="4114800"/>
              <a:ext cx="4470480" cy="22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7300080" y="1042920"/>
              <a:ext cx="94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vect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023720" y="34815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34320" y="1523880"/>
              <a:ext cx="609480" cy="342900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89280 h 3429000"/>
                <a:gd name="textAreaBottom" fmla="*/ 3339720 h 342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80600" y="3062160"/>
              <a:ext cx="91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liga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257800" y="5867280"/>
              <a:ext cx="1600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94800" y="5691240"/>
              <a:ext cx="156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transforma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447920" y="533520"/>
            <a:ext cx="6400800" cy="6019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533520"/>
            <a:ext cx="8001000" cy="57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s-ES_tradnl" sz="3600" spc="-1" strike="noStrike">
                <a:solidFill>
                  <a:srgbClr val="ff6600"/>
                </a:solidFill>
                <a:latin typeface="Arial"/>
              </a:rPr>
              <a:t>Genoteca de DNA genóm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Obtenció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1.</a:t>
            </a: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Fragmentación de todo el genoma mediante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          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enzimas de restricción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2.   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Clonamiento de fragmentos en ve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666880" y="76320"/>
            <a:ext cx="429732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¿C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mo aislar un fragmento de DNA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 interé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980720" y="3352680"/>
            <a:ext cx="4800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islamiento de un cl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Uso de sondas radiac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 P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2286000"/>
            <a:ext cx="6845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Identificación de un fragmento de DNA específico en las colonias transform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media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HIBRIDIZACION CON SONDAS MARCAD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94240" y="800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838080" y="1294920"/>
            <a:ext cx="4648320" cy="7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91120" y="5486400"/>
            <a:ext cx="4190760" cy="7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lonamiento por PC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76312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447920" y="533520"/>
            <a:ext cx="5972040" cy="60973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5410080" y="3048120"/>
            <a:ext cx="358164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Times New Roman"/>
              </a:rPr>
              <a:t>CLONAMIENTO DE UN PRODUCTO DE   PCR</a:t>
            </a:r>
            <a:r>
              <a:rPr b="1" lang="es-ES" sz="18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13720" y="357120"/>
            <a:ext cx="8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ibr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69200" y="2087640"/>
            <a:ext cx="687996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s-ES_tradnl" sz="40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écnicas de DNA Recombinan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mbinaci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de la transcripción reversa con PC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T-P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33520" y="1179360"/>
            <a:ext cx="7772400" cy="47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1136880" y="685800"/>
            <a:ext cx="7347960" cy="4863240"/>
            <a:chOff x="1136880" y="685800"/>
            <a:chExt cx="7347960" cy="4863240"/>
          </a:xfrm>
        </p:grpSpPr>
        <p:sp>
          <p:nvSpPr>
            <p:cNvPr id="238" name=""/>
            <p:cNvSpPr/>
            <p:nvPr/>
          </p:nvSpPr>
          <p:spPr>
            <a:xfrm>
              <a:off x="2969280" y="685800"/>
              <a:ext cx="268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ff33"/>
                  </a:solidFill>
                  <a:latin typeface="Times New Roman"/>
                </a:rPr>
                <a:t>Cloning by RT-PC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9240" y="2133360"/>
              <a:ext cx="3809880" cy="0"/>
            </a:xfrm>
            <a:prstGeom prst="line">
              <a:avLst/>
            </a:prstGeom>
            <a:ln w="936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85800" y="1888920"/>
              <a:ext cx="14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ff33"/>
                  </a:solidFill>
                  <a:latin typeface="Times New Roman"/>
                </a:rPr>
                <a:t>TTTTTT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4436640" y="1904760"/>
              <a:ext cx="381240" cy="0"/>
            </a:xfrm>
            <a:prstGeom prst="line">
              <a:avLst/>
            </a:prstGeom>
            <a:ln w="9360">
              <a:solidFill>
                <a:srgbClr val="cc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22400" y="1904760"/>
              <a:ext cx="457200" cy="0"/>
            </a:xfrm>
            <a:prstGeom prst="line">
              <a:avLst/>
            </a:prstGeom>
            <a:ln w="9360">
              <a:solidFill>
                <a:srgbClr val="cc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786000" y="1888920"/>
              <a:ext cx="7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ff33"/>
                  </a:solidFill>
                  <a:latin typeface="Times New Roman"/>
                </a:rPr>
                <a:t>PC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94000" y="2361960"/>
              <a:ext cx="0" cy="685800"/>
            </a:xfrm>
            <a:prstGeom prst="line">
              <a:avLst/>
            </a:prstGeom>
            <a:ln w="38160">
              <a:solidFill>
                <a:srgbClr val="cc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70120" y="3520800"/>
              <a:ext cx="3048120" cy="0"/>
            </a:xfrm>
            <a:prstGeom prst="line">
              <a:avLst/>
            </a:prstGeom>
            <a:ln w="936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70120" y="3749400"/>
              <a:ext cx="3048120" cy="0"/>
            </a:xfrm>
            <a:prstGeom prst="line">
              <a:avLst/>
            </a:prstGeom>
            <a:ln w="936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14040" y="342900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ff33"/>
                  </a:solidFill>
                  <a:latin typeface="Times New Roman"/>
                </a:rPr>
                <a:t>cD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76720" y="4190760"/>
              <a:ext cx="0" cy="685800"/>
            </a:xfrm>
            <a:prstGeom prst="line">
              <a:avLst/>
            </a:prstGeom>
            <a:ln w="38160">
              <a:solidFill>
                <a:srgbClr val="cc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136880" y="5089320"/>
              <a:ext cx="734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Times New Roman"/>
                </a:rPr>
                <a:t>Corte con enzimas de restricci</a:t>
              </a:r>
              <a:r>
                <a:rPr b="0" lang="es-ES_tradnl" sz="2400" spc="-1" strike="noStrike">
                  <a:solidFill>
                    <a:srgbClr val="ffff00"/>
                  </a:solidFill>
                  <a:latin typeface="Times New Roman"/>
                  <a:ea typeface="ＭＳ Ｐゴシック"/>
                </a:rPr>
                <a:t>ón y ligación a un plasmid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447920" y="533520"/>
            <a:ext cx="5972040" cy="60973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5410080" y="3048120"/>
            <a:ext cx="358164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Times New Roman"/>
              </a:rPr>
              <a:t>CLONAMIENTO DE UN PRODUCTO DE   PCR</a:t>
            </a:r>
            <a:r>
              <a:rPr b="1" lang="es-ES" sz="18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013720" y="357120"/>
            <a:ext cx="8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ibr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5394240" y="800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1371600"/>
            <a:ext cx="4647960" cy="76320"/>
          </a:xfrm>
          <a:prstGeom prst="rect">
            <a:avLst/>
          </a:prstGeom>
          <a:solidFill>
            <a:srgbClr val="3333ff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191120" y="4800600"/>
            <a:ext cx="4190760" cy="76320"/>
          </a:xfrm>
          <a:prstGeom prst="rect">
            <a:avLst/>
          </a:prstGeom>
          <a:solidFill>
            <a:srgbClr val="3333ff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79440" y="2514600"/>
            <a:ext cx="725508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s-CL" sz="3600" spc="-1" strike="noStrike">
                <a:solidFill>
                  <a:srgbClr val="3366ff"/>
                </a:solidFill>
                <a:latin typeface="Arial"/>
              </a:rPr>
              <a:t>SECUENCIACION DEL D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66ff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914400"/>
            <a:ext cx="746748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95280" y="2041560"/>
            <a:ext cx="685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66ff"/>
                </a:solidFill>
                <a:latin typeface="Times New Roman"/>
              </a:rPr>
              <a:t>Estudio de la funci</a:t>
            </a:r>
            <a:r>
              <a:rPr b="0" lang="es-ES_tradnl" sz="4000" spc="-1" strike="noStrike">
                <a:solidFill>
                  <a:srgbClr val="0066ff"/>
                </a:solidFill>
                <a:latin typeface="Times New Roman"/>
                <a:ea typeface="ＭＳ Ｐゴシック"/>
              </a:rPr>
              <a:t>ón de un g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66ff"/>
                </a:solidFill>
                <a:latin typeface="Times New Roman"/>
              </a:rPr>
              <a:t>Vectores de expres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905120" y="914400"/>
            <a:ext cx="5715000" cy="543564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sp>
        <p:nvSpPr>
          <p:cNvPr id="261" name=""/>
          <p:cNvSpPr/>
          <p:nvPr/>
        </p:nvSpPr>
        <p:spPr>
          <a:xfrm>
            <a:off x="1692360" y="189000"/>
            <a:ext cx="585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Vector de expresión en bacterias</a:t>
            </a:r>
            <a:r>
              <a:rPr b="1" lang="es-ES_tradnl" sz="2800" spc="-1" strike="noStrike" u="sng">
                <a:solidFill>
                  <a:srgbClr val="cc00ff"/>
                </a:solidFill>
                <a:uFillTx/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844720" y="152280"/>
            <a:ext cx="309888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60782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832760" y="90360"/>
            <a:ext cx="52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ctores de expres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en eucari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990720" y="762120"/>
            <a:ext cx="365760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1295280"/>
            <a:ext cx="3049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16000" y="1143000"/>
            <a:ext cx="6769080" cy="4835520"/>
          </a:xfrm>
          <a:prstGeom prst="rect">
            <a:avLst/>
          </a:prstGeom>
          <a:noFill/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FUNCIÓN DE UN 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Herramientas de Estud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6666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Times New Roman"/>
              </a:rPr>
              <a:t>Análisis computacional en banco de datos: homología de secuencia con un gen de otro organismo cuya función se cono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6666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Times New Roman"/>
              </a:rPr>
              <a:t>Animales transgénicos y knock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300680" y="2457360"/>
            <a:ext cx="642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El problema: ¿Qué material genético v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a manipular y cómo lo vamos a manipul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3120" y="874800"/>
            <a:ext cx="853596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" y="533520"/>
            <a:ext cx="8610480" cy="58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Aislar secuencias de D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Obtener múltiples copias de 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3300"/>
                </a:solidFill>
                <a:latin typeface="Times New Roman"/>
              </a:rPr>
              <a:t>                                     </a:t>
            </a:r>
            <a:r>
              <a:rPr b="1" lang="es-ES" sz="2000" spc="-1" strike="noStrike">
                <a:solidFill>
                  <a:srgbClr val="cc3300"/>
                </a:solidFill>
                <a:latin typeface="Times New Roman"/>
              </a:rPr>
              <a:t>TEC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Clonamiento Molecu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PCR 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reacción en cadena de la polimerasa</a:t>
            </a: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28600"/>
            <a:ext cx="5334120" cy="7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038480" y="6324480"/>
            <a:ext cx="4496040" cy="7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289548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895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5040" y="38088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3300"/>
                </a:solidFill>
                <a:latin typeface="Times New Roman"/>
              </a:rPr>
              <a:t>               </a:t>
            </a:r>
            <a:r>
              <a:rPr b="1" lang="es-ES" sz="3600" spc="-1" strike="noStrike">
                <a:solidFill>
                  <a:srgbClr val="cc3300"/>
                </a:solidFill>
                <a:latin typeface="Times New Roman"/>
              </a:rPr>
              <a:t>ANALISIS DE GE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295280"/>
            <a:ext cx="6324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676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3300"/>
                </a:solidFill>
                <a:latin typeface="Times New Roman"/>
              </a:rPr>
              <a:t>            </a:t>
            </a:r>
            <a:r>
              <a:rPr b="1" lang="es-ES" sz="1800" spc="-1" strike="noStrike">
                <a:solidFill>
                  <a:srgbClr val="cc3300"/>
                </a:solidFill>
                <a:latin typeface="Times New Roman"/>
              </a:rPr>
              <a:t>Se requi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62120" y="1143000"/>
            <a:ext cx="777240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1447920"/>
            <a:ext cx="769644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CLONAMIENTO MOLECULAR</a:t>
            </a: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                      </a:t>
            </a: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HERRAMIENTAS BAS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Enzimas de restri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_tradnl" sz="2000" spc="-1" strike="noStrike">
                <a:solidFill>
                  <a:srgbClr val="cc3300"/>
                </a:solidFill>
                <a:latin typeface="Times New Roman"/>
              </a:rPr>
              <a:t>Vecto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Times New Roman"/>
              </a:rPr>
              <a:t>          </a:t>
            </a:r>
            <a:r>
              <a:rPr b="0" lang="es-ES_tradnl" sz="2000" spc="-1" strike="noStrike">
                <a:solidFill>
                  <a:srgbClr val="cc3300"/>
                </a:solidFill>
                <a:latin typeface="Times New Roman"/>
              </a:rPr>
              <a:t>DNA liga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Times New Roman"/>
              </a:rPr>
              <a:t>          </a:t>
            </a:r>
            <a:r>
              <a:rPr b="0" lang="es-ES_tradnl" sz="2000" spc="-1" strike="noStrike">
                <a:solidFill>
                  <a:srgbClr val="cc3300"/>
                </a:solidFill>
                <a:latin typeface="Times New Roman"/>
              </a:rPr>
              <a:t>Células huésped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99360" y="278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4240" y="2862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65640" y="281952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3399"/>
                </a:solidFill>
                <a:latin typeface="Times New Roman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66880" y="343080"/>
            <a:ext cx="5678640" cy="62672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304920" y="1589040"/>
            <a:ext cx="2781360" cy="1752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nzimas  de Restri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4T18:46:18Z</dcterms:created>
  <dc:creator>tm</dc:creator>
  <dc:description/>
  <dc:language>en-US</dc:language>
  <cp:lastModifiedBy>Juan Antonelli</cp:lastModifiedBy>
  <dcterms:modified xsi:type="dcterms:W3CDTF">2009-01-15T14:40:49Z</dcterms:modified>
  <cp:revision>290</cp:revision>
  <dc:subject/>
  <dc:title>No Slide Title</dc:title>
</cp:coreProperties>
</file>