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D10-3589-4FCC-BCE1-5413D588CA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FAA4-AFF9-47DA-BE6E-0F613D62E3F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7CC5-3272-4964-80C0-AC5F118410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8BC-AC77-4981-B897-ED05F23DF2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E54-263E-4FD1-AEA2-AEA711B43D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7FEC-D904-458A-9683-C330D15C31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6A4E-F39E-478C-970F-3C63D106EB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87C7-8737-4779-B549-B5F2CA4AA3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48C1-C64C-433F-8B60-87C2CE6668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870-AAD0-48CD-8154-6E19EB2076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94B-489E-4ECF-89A7-99CDAB3DD3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CD53-D93B-427A-A9F0-48FBE7BB96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D5C-9067-48D0-9297-0CAE69FC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00C-B617-4725-B05E-B17DBB4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0DA-6BD4-46DB-AA87-3971AE33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CA5-079E-4500-B458-070ACA21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2AA-587A-4088-9DB5-AAACBCED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880-A624-4738-9838-9FCFDB66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977-8561-46C5-88D3-FAB27310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74D-5140-4BB8-8CB4-5473470C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07B-6ACF-48DD-8D1E-48E197B9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3E0-A3A4-4780-819C-CF5D5C27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5FA-AADA-464B-81CE-951DE40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3FD-A56D-4E71-AE89-78440788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790-9410-4D67-91FD-EC653A31F82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ext Box 6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4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Picture 5" descr="escalera escher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uning pipe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efine una primera nota fundamental o I grado con una cuerda de cierta longitud ( Ej:  DO 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Pitágoras notó que hay dos intervalos que suenan particularmente “bien” o agradables al oído, que son la VIII y la V. Notó, también que la proporción de longitud de las cuerdas que daban estos intervalos eran exactas:  1/2  y  2/3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pitagoras monocordio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3443400"/>
          </a:xfrm>
          <a:prstGeom prst="rect">
            <a:avLst/>
          </a:prstGeom>
          <a:ln w="0">
            <a:noFill/>
          </a:ln>
        </p:spPr>
      </p:pic>
      <p:sp>
        <p:nvSpPr>
          <p:cNvPr id="58" name="6 CuadroTexto"/>
          <p:cNvSpPr/>
          <p:nvPr/>
        </p:nvSpPr>
        <p:spPr>
          <a:xfrm>
            <a:off x="285840" y="6000840"/>
            <a:ext cx="864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M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La relación “agradable” sólo se da para el tono en que fue construida la escal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6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Para el siguiente ejemplo usaremos DO como la fundamental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VIII (Do’)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está en relación  1:2    con la fundamental 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   está en relación  2:3    con la fundamental 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    está en relación   3:4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3/4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     está en relación   4:5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m (Mi</a:t>
            </a:r>
            <a:r>
              <a:rPr b="0" lang="es-CL" sz="1000" spc="-1" strike="noStrike">
                <a:solidFill>
                  <a:srgbClr val="ffffcc"/>
                </a:solidFill>
                <a:latin typeface="Arial"/>
              </a:rPr>
              <a:t>b) 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stá en relación   5:6    con la fundamental  =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bajo la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 (una IV bajo Sol )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2/3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4/3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 = DO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=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IV =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¿Es la distancia entre Do y Re igual a la distancia entre Re y Mi?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Picture 4" descr="teclados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7T14:16:59Z</dcterms:modified>
  <cp:revision>35</cp:revision>
  <dc:subject/>
  <dc:title>Taller de Ciencias en la Música </dc:title>
</cp:coreProperties>
</file>