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1E39-8D22-4D5B-99BA-00192752F3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5CB4-62AD-4EEC-9535-1D79B612C7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0454-FB64-4BF0-9CDD-C8CDC346CCB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DB48-018E-4249-A3DE-1CEE1C47D17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E522-EF4D-42CB-9096-B7DE00CB39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F1435-1FF3-4BA9-A43A-E65F3715E79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BFDF-90E3-443C-A05E-73588439DDF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4B7A-7D4F-491E-8659-E60344789B2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BB13-DB94-4280-A237-0EC5B3F167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8ECC-7EBE-423C-80EC-D8C49F52BA0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EDCC-73F0-4C47-9539-41EFB5A205D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B8B6-270A-4BD5-96F0-088807CB71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09B-6554-4E58-BFF3-887DE0D2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AA3-2C3C-459E-B82F-946100F6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171-0812-42AE-9E2E-E07C94CC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ED38-1AC6-4AFE-9483-6EE72F74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734-780F-4DA9-B6A9-0B5EFCBD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680-C798-489D-8846-CC6F2D3C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7F85-E2FA-4D52-91F2-C352DA39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4FB8-9E8E-4C50-9708-54D4B591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468-D6D8-46E9-A7F6-01B2B8A5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11E-4FC8-406D-B90D-F9C27DB7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3DE-A35A-4E73-ACD2-517D26BE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BB4-C041-45EC-99A0-09C38A57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D4AC-00D1-4456-86D7-018A5828354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ges.globetrotter.net/roule/accord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nuev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548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De esta forma, se construye la afinación Bien –Temperada o Igualmente-Temperad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re una nota y su octava:     2: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12 notas entre las dos. Por lo tanto,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re cada nota hay 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4"/>
              <p:cNvSpPr txBox="1"/>
              <p:nvPr/>
            </p:nvSpPr>
            <p:spPr>
              <a:xfrm>
                <a:off x="3203640" y="3716280"/>
                <a:ext cx="1439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g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7" name="Text Box 6"/>
          <p:cNvSpPr/>
          <p:nvPr/>
        </p:nvSpPr>
        <p:spPr>
          <a:xfrm>
            <a:off x="539640" y="530064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ublicado en 1584 por el Príncipe Chu Tsai-yu, quién le da el crédito a un antiguo maestro, Huai Nan Tzu, de la dinastía Han en 122 A.C. En occidente, quien ayudó a establecer la manera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físicamente posible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de implementar esta afinación fue el Vincenzo Galilei, utilizando la proporción 18/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ESCUCHEM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9" name="Picture 4" descr="Circulo-quint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1916280"/>
            <a:ext cx="439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finaciones y Escal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3" name="Picture 5" descr="escalera escher"/>
          <p:cNvPicPr/>
          <p:nvPr/>
        </p:nvPicPr>
        <p:blipFill>
          <a:blip r:embed="rId1"/>
          <a:stretch/>
        </p:blipFill>
        <p:spPr>
          <a:xfrm>
            <a:off x="4859280" y="3046320"/>
            <a:ext cx="3618000" cy="3183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tuning pipe"/>
          <p:cNvPicPr/>
          <p:nvPr/>
        </p:nvPicPr>
        <p:blipFill>
          <a:blip r:embed="rId2"/>
          <a:stretch/>
        </p:blipFill>
        <p:spPr>
          <a:xfrm>
            <a:off x="1258920" y="2565360"/>
            <a:ext cx="2521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548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efine una primera nota fundamental o I grado con una cuerda de cierta longitud ( Ej:  DO )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Pitágoras notó que hay dos intervalos que suenan particularmente “bien” o agradables al oído, que son la VIII y la V. Notó, también que la proporción de longitud de las cuerdas que daban estos intervalos eran exactas:  1/2  y  2/3 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Entonces: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(SOL) = DO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grado del V grado  ( RE )  = SOL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      ( LA )    = RE * 2/3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V de la V de la V de la 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( MI )    = LA * 2/3 * 2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e construyen así todas las notas según un círculo de quint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Picture 4" descr="pitagoras monocordio"/>
          <p:cNvPicPr/>
          <p:nvPr/>
        </p:nvPicPr>
        <p:blipFill>
          <a:blip r:embed="rId1"/>
          <a:stretch/>
        </p:blipFill>
        <p:spPr>
          <a:xfrm>
            <a:off x="5864400" y="1628640"/>
            <a:ext cx="2970000" cy="3443400"/>
          </a:xfrm>
          <a:prstGeom prst="rect">
            <a:avLst/>
          </a:prstGeom>
          <a:ln w="0">
            <a:noFill/>
          </a:ln>
        </p:spPr>
      </p:pic>
      <p:sp>
        <p:nvSpPr>
          <p:cNvPr id="58" name="6 CuadroTexto"/>
          <p:cNvSpPr/>
          <p:nvPr/>
        </p:nvSpPr>
        <p:spPr>
          <a:xfrm>
            <a:off x="285840" y="6000840"/>
            <a:ext cx="864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ol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e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Mi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i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Fa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o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Sol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Re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La#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Fa </a:t>
            </a:r>
            <a:r>
              <a:rPr b="0" lang="es-CL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Pitagóric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Ventaja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s relaciones entre las quintas suenan agradablemente afinad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Hay una diferencia en el VIII grado de la fundamental (el DO en la octava siguiente) entre la que se encuentra cerrando el círculo de quintas y la que se encuentra como la mitad de la longitud de la cuerda ( 2:1 ). Esta diferencia se llama: COMMA SINTONICA o  COMMA DIDYMICA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III no es pura (no es 5:4, que resulta la más agradable al oído occidental)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La relación “agradable” sólo se da para el tono en que fue construida la escala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Picture 6" descr="Circulo-quinta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170028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62" name="Oval 8"/>
          <p:cNvSpPr/>
          <p:nvPr/>
        </p:nvSpPr>
        <p:spPr>
          <a:xfrm>
            <a:off x="6837480" y="2674800"/>
            <a:ext cx="718920" cy="719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Aparece cuando la música d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I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(principalmente inglesa) comienza a utilizar armonías que incluyen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900" spc="-1" strike="noStrike">
                <a:solidFill>
                  <a:srgbClr val="ffffcc"/>
                </a:solidFill>
                <a:latin typeface="Arial"/>
              </a:rPr>
              <a:t>ras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 Pese a gran oposición y críticas iniciales, ya era usada en todo el continente europeo hacia el siglo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XV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Para el siguiente ejemplo usaremos DO como la fundamental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Se construye de la siguiente forma: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VIII (Do’)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está en relación  1:2    con la fundamental 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OL)    está en relación  2:3    con la fundamental 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2/3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FA)     está en relación   3:4    con la fundamental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3/4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MI)      está en relación   4:5    con la fundamental =  DO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CL" sz="14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m (Mi</a:t>
            </a:r>
            <a:r>
              <a:rPr b="0" lang="es-CL" sz="1000" spc="-1" strike="noStrike">
                <a:solidFill>
                  <a:srgbClr val="ffffcc"/>
                </a:solidFill>
                <a:latin typeface="Arial"/>
              </a:rPr>
              <a:t>b) 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está en relación   5:6    con la fundamental  =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 Do </a:t>
            </a:r>
            <a:r>
              <a:rPr b="0" lang="es-CL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400" spc="-1" strike="noStrike">
                <a:solidFill>
                  <a:srgbClr val="ffffcc"/>
                </a:solidFill>
                <a:latin typeface="Arial"/>
              </a:rPr>
              <a:t> 5/6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RE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bajo la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 (una IV bajo Sol ) = I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2/3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4/3 = I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8/9 = DO </a:t>
            </a:r>
            <a:r>
              <a:rPr b="0" lang="es-ES" sz="8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 8/9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SI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 de la V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 = SOL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una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VI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(LA) = </a:t>
            </a: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III de la IV = 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 FA </a:t>
            </a:r>
            <a:r>
              <a:rPr b="0" lang="es-ES" sz="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 4/5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cc"/>
                </a:solidFill>
                <a:latin typeface="Arial"/>
              </a:rPr>
              <a:t>¿Es la distancia entre Do y Re igual a la distancia entre Re y Mi?</a:t>
            </a:r>
            <a:endParaRPr b="0" lang="en-US" sz="13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JUST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Así entonce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I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2:1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3:2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4: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5:4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I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VI       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de la IV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I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cc"/>
                </a:solidFill>
                <a:latin typeface="Times New Roman"/>
              </a:rPr>
              <a:t>I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 bajo la V</a:t>
            </a: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menor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 6:5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Ventajas: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ara una escala afinada Justa, todas las notas suenan agradablemente afinadas, particularmente las </a:t>
            </a:r>
            <a:r>
              <a:rPr b="0" lang="es-CL" sz="1600" spc="-1" strike="noStrike">
                <a:solidFill>
                  <a:srgbClr val="ffffcc"/>
                </a:solidFill>
                <a:latin typeface="Times New Roman"/>
              </a:rPr>
              <a:t>III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ras que en la afinación Pitagórica no funcionaban bien al oído occidental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roblemas: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Arial"/>
              </a:rPr>
              <a:t>Distancia entre Do y Re distinta a distancia entre Re y Mi, etc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Por lo tanto, si el músico desea tocar en otro tono que aquel en que se ajustaron las notas, comienzan a aparecer problemas de afinación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MEAN T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Ajustar la afinación Pitagórica o Justa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Quitar ¼ de Comma a cada bloque constructor del círculo de </a:t>
            </a:r>
            <a:r>
              <a:rPr b="0" lang="es-ES" sz="3600" spc="-1" strike="noStrike">
                <a:solidFill>
                  <a:srgbClr val="ffffcc"/>
                </a:solidFill>
                <a:latin typeface="Times New Roman"/>
              </a:rPr>
              <a:t>V</a:t>
            </a: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tas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Distancia Do-Re es igual a distancia Re-Mi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Pero Do-Do# distinta a Re-Re#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LEGARON LAS TECL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Solucione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1" name="Picture 4" descr="teclados"/>
          <p:cNvPicPr/>
          <p:nvPr/>
        </p:nvPicPr>
        <p:blipFill>
          <a:blip r:embed="rId1"/>
          <a:stretch/>
        </p:blipFill>
        <p:spPr>
          <a:xfrm>
            <a:off x="2700360" y="1700280"/>
            <a:ext cx="619272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finación Tempera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 la aparición de instrumentos de teclas termina (que no pueden ser fácilmente re-afinables) se empieza a requerir en forma urgente que puedan tocarse piezas en cualquier tono sin problemas. Así, se necesita que la distancia entre</a:t>
            </a:r>
            <a:r>
              <a:rPr b="0" lang="es-ES" sz="2700" spc="-1" strike="noStrike">
                <a:solidFill>
                  <a:srgbClr val="ffffcc"/>
                </a:solidFill>
                <a:latin typeface="Arial"/>
              </a:rPr>
              <a:t> Do-Do# sea la misma que entre Re-Re#, etc. pero que a la vez no se pierda la relación de 2:1 entre las octavas (el intervalo más crítico al oído).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Editorial Zigzag</cp:lastModifiedBy>
  <dcterms:modified xsi:type="dcterms:W3CDTF">2009-01-07T14:16:59Z</dcterms:modified>
  <cp:revision>35</cp:revision>
  <dc:subject/>
  <dc:title>Taller de Ciencias en la Música </dc:title>
</cp:coreProperties>
</file>