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072-063F-4BCD-9286-115ABF55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C40-24AA-4C45-82FF-ABA5F919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774-706B-455C-AEBC-2E4B83B7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BBFD-7FC6-42B3-8BCF-A8F1BC1B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FFA-DE90-4EEC-A998-E0299181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AC0-1B5C-4E4F-B29C-823B0B2E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B10A-C21E-4B3B-96FD-A8B81B4E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563-4B9A-4B61-8735-D1529547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514-FA93-4613-B7DB-CC5D7606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F05-C490-4D02-AE74-48DCE12D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D27-D3D1-4495-A16A-4C33C755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7941-EDFF-4067-9F65-FBDE0356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1364-F38F-4C77-B3DC-6B59C0FE8F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Al poco andar, se le atribuían poderes proféticos, curaciones milagrosas, viajar más allá de los confines del cuerpo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Evidentemente, fue corrido de la ciudad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9" name="Picture 6" descr="Gandalf"/>
          <p:cNvPicPr/>
          <p:nvPr/>
        </p:nvPicPr>
        <p:blipFill>
          <a:blip r:embed="rId1"/>
          <a:stretch/>
        </p:blipFill>
        <p:spPr>
          <a:xfrm>
            <a:off x="4211640" y="1628640"/>
            <a:ext cx="46530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00000" y="1628640"/>
            <a:ext cx="70567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Muchos pensadores antes que él buscaron definir la esencia básica del univers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Tales de Mileto : agua, dadora de vi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andro: consideraba que debía ser algo intangible y sin límite: algo sin nomb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Anaximenes: concluyó que era el A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Heraclito: el agente transformador Fuego (ojo de nuev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ffcc"/>
                </a:solidFill>
                <a:latin typeface="Arial"/>
              </a:rPr>
              <a:t>Pitágora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203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Los Egipcios ya habían encontrado belleza en las formulaciones matemáticas.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Triángulo Dorad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cc"/>
                </a:solidFill>
                <a:latin typeface="Arial"/>
              </a:rPr>
              <a:t>Relaciones matemáticas en la gran Pirámid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6" name="Picture 6" descr="Piramides"/>
          <p:cNvPicPr/>
          <p:nvPr/>
        </p:nvPicPr>
        <p:blipFill>
          <a:blip r:embed="rId1"/>
          <a:stretch/>
        </p:blipFill>
        <p:spPr>
          <a:xfrm>
            <a:off x="4643280" y="1557360"/>
            <a:ext cx="41101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Piramides 02"/>
          <p:cNvPicPr/>
          <p:nvPr/>
        </p:nvPicPr>
        <p:blipFill>
          <a:blip r:embed="rId1"/>
          <a:stretch/>
        </p:blipFill>
        <p:spPr>
          <a:xfrm>
            <a:off x="755640" y="1601640"/>
            <a:ext cx="7704000" cy="525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l NÚMER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3548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n Egipto, Tales aprendió el arte de estimar la altura de una pirámide con solo observar la sombra proyectada…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1000 AC, un sacerdote Egipcio llamado Ahmes había producido el papiro de RHIND: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223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 “</a:t>
            </a: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Direcciones para Conocer Toda Cosa Oculta y Oscura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2" name="Picture 6" descr="Pythagoras_Campanas"/>
          <p:cNvPicPr/>
          <p:nvPr/>
        </p:nvPicPr>
        <p:blipFill>
          <a:blip r:embed="rId1"/>
          <a:stretch/>
        </p:blipFill>
        <p:spPr>
          <a:xfrm>
            <a:off x="5435640" y="1628640"/>
            <a:ext cx="3471840" cy="4924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684360" y="2060640"/>
            <a:ext cx="453528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=1 + 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8 = 1 + 2 + 4 + 7 +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Teorema de Pitág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latón y la Ciu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Número Ideal de ciudadanos: 50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2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3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4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5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6 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7 = 50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expresión del orden matemático del Unive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Pitágoras, el Número y la Músic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2060640"/>
            <a:ext cx="37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itágoras investigó la relación numérica entre las longitudes de cuerdas, el peso (o tensión) a la que están sometidas, y el tono que producen al hacerlas vib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pitagoras monocordio"/>
          <p:cNvPicPr/>
          <p:nvPr/>
        </p:nvPicPr>
        <p:blipFill>
          <a:blip r:embed="rId1"/>
          <a:stretch/>
        </p:blipFill>
        <p:spPr>
          <a:xfrm>
            <a:off x="4572000" y="1700280"/>
            <a:ext cx="43070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mbio de V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Tanto con la imposición de panteones patriarcales, como con las filosofías similares a las de Pitágoras, cada vez más iban perdiendo su carácter de sagrado la naturaleza, y se va pavimentando el camino para la Reforma Protestante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, inspiró la creación de la Royal Society of Lond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2" name="Picture 4" descr="Royal Society gresham"/>
          <p:cNvPicPr/>
          <p:nvPr/>
        </p:nvPicPr>
        <p:blipFill>
          <a:blip r:embed="rId1"/>
          <a:stretch/>
        </p:blipFill>
        <p:spPr>
          <a:xfrm>
            <a:off x="928800" y="4714920"/>
            <a:ext cx="3182760" cy="2001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Francis bacon"/>
          <p:cNvPicPr/>
          <p:nvPr/>
        </p:nvPicPr>
        <p:blipFill>
          <a:blip r:embed="rId2"/>
          <a:stretch/>
        </p:blipFill>
        <p:spPr>
          <a:xfrm>
            <a:off x="7072200" y="214200"/>
            <a:ext cx="1625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úsica y el Hombre y la Ciencia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4" descr="jkepler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kepler solids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Picture 4" descr="kepler solar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4" descr="prism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pues incluso el Universo se dice fue ensamblado con una cierta armonía de sonidos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28760" y="192888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Contraposición entre Naturaleza y Mecánica define profundamente qué tipo de música se puede hac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afinación DEBÍA estar regida por las leyes naturales (afinación Pitagórica, Justa, etc.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hora, el hombre tiene dominio sobre la naturaleza (permite la afinación Temperad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batalla duró tan sólo 2000 años, desde Pitágoras a Bac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71680" y="57168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RELIGIÓN VS LA CI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po de Batalla de la Af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lación Hombre-Mús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osibles primeras manifestaciones musicale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Conocimiento limitado, posterior a 200 D.C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Uso de la música com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ensaje soc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religio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1. Madre Naturalez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ación del Hombre antiguo con los fenómenos de la naturalez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entimientos ambivalentes: bella, creativa, fértil, generosa y por otro lado, salvaje, destructiva, caprichosa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Europa, por ejemplo, se han encontrado indicios de vida agraria establecida desde 7000 A.C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Religiones juegan rol importante, donde se veneran una serie de dioses o espíritus para cada manifestación natural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Visión primariamente femenina de las divinidades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2. Inicios de la Cienc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No es Ciencias como se entiende ho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“Ciencia” (como observación sistemática de fenómenos naturales) y la Tecnología ayudan a utilizar en su provecho (o a defenderse y prepararse) las fuerzas naturale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Hacia el 3500 A.C. las tribus nómades pastorales (cazadores) (y por tanto guerreras) invaden. Panteón previamente femenino y matriarcal se convierte en Patriarca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Mito Reiterativo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ivinidad Matriarcal es destronada por dioses masculino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elknam (kloketé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India (invasiones Arya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Grecia (Apollo usurpa el altar de Gai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Babylonia (Marduk que mata a Tiamat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Picture 4" descr="Selknam chico"/>
          <p:cNvPicPr/>
          <p:nvPr/>
        </p:nvPicPr>
        <p:blipFill>
          <a:blip r:embed="rId1"/>
          <a:stretch/>
        </p:blipFill>
        <p:spPr>
          <a:xfrm>
            <a:off x="5076720" y="1628640"/>
            <a:ext cx="2016360" cy="280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dioses Hindues"/>
          <p:cNvPicPr/>
          <p:nvPr/>
        </p:nvPicPr>
        <p:blipFill>
          <a:blip r:embed="rId2"/>
          <a:stretch/>
        </p:blipFill>
        <p:spPr>
          <a:xfrm>
            <a:off x="5651640" y="45813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or qué es importante esto?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música, que juega un rol primordial en las religiones, queda sujeta también a qué tipo de religión o creencia o filosofía está imperand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8" name="Picture 6" descr="dioses Hindues"/>
          <p:cNvPicPr/>
          <p:nvPr/>
        </p:nvPicPr>
        <p:blipFill>
          <a:blip r:embed="rId1"/>
          <a:stretch/>
        </p:blipFill>
        <p:spPr>
          <a:xfrm>
            <a:off x="5572080" y="2000160"/>
            <a:ext cx="324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Picture 6" descr="Columnas griegas"/>
          <p:cNvPicPr/>
          <p:nvPr/>
        </p:nvPicPr>
        <p:blipFill>
          <a:blip r:embed="rId1"/>
          <a:stretch/>
        </p:blipFill>
        <p:spPr>
          <a:xfrm>
            <a:off x="0" y="0"/>
            <a:ext cx="4530600" cy="694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Grecia"/>
          <p:cNvPicPr/>
          <p:nvPr/>
        </p:nvPicPr>
        <p:blipFill>
          <a:blip r:embed="rId2"/>
          <a:stretch/>
        </p:blipFill>
        <p:spPr>
          <a:xfrm>
            <a:off x="4500720" y="0"/>
            <a:ext cx="4709880" cy="6970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grecia de noche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40384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recia, 500 A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Pitágoras (circa 530 AC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Líder espiritual, 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Brujo matemá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Místico,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Caminaba por Crotón en túnica blanca, corona de oro, atrayendo seguidores con la promesa de alcanzar “la serenidad”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cc"/>
                </a:solidFill>
                <a:latin typeface="Arial"/>
              </a:rPr>
              <a:t>Su culto, y status, se convirtieron en fuerza dominante en la región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Picture 8" descr="Pythagoras_6"/>
          <p:cNvPicPr/>
          <p:nvPr/>
        </p:nvPicPr>
        <p:blipFill>
          <a:blip r:embed="rId1"/>
          <a:stretch/>
        </p:blipFill>
        <p:spPr>
          <a:xfrm>
            <a:off x="4591080" y="1600200"/>
            <a:ext cx="38750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5T13:23:32Z</dcterms:modified>
  <cp:revision>30</cp:revision>
  <dc:subject/>
  <dc:title>Taller de Ciencias en la Música </dc:title>
</cp:coreProperties>
</file>