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2BF-AF79-48BB-AB9C-AAD2974D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290-A29F-4D32-804E-1300EFCC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2EA-81B4-4F5D-98FA-CD6EC7FD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D27-98BB-4D52-ACE1-F7EEE8BB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781-39ED-4F3C-AE37-F54F1A10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587-4C61-4FA2-8D9D-60935375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1F3-FF25-4039-8EF9-A3C07885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119-A987-4E1F-A818-882F15F3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6F7-9C71-498F-AA35-094DBA5A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62D-74B9-460E-95A2-0D360836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ECE-72E0-4DDD-A790-EF97CDF6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260-0A66-440F-B960-352CE728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AC80-1EB6-42A0-B12C-813DCED81675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udio"/>
          <p:cNvPicPr/>
          <p:nvPr/>
        </p:nvPicPr>
        <p:blipFill>
          <a:blip r:embed="rId1"/>
          <a:stretch/>
        </p:blipFill>
        <p:spPr>
          <a:xfrm>
            <a:off x="1116000" y="981000"/>
            <a:ext cx="727236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63640" y="63072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rte 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Qué relación hay entre la Música y la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Qué es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es que escucham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distinguimos un violín de una flau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Por qué hay sonidos “más musicales” que otr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lo hacen para sonar los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todo esto sirve al fabricar instrumentos musical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úales son las pregunta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292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arte II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grabar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representar sonido con número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“comprimir”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Cómo se puede manipular digitalmente 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úales son las pregunta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Cómo va a ser este cuento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Ver el rol de la música en la historia human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32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Trabajar con el sonido en forma similar a cómo el  hombre lo fue entendien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Relación entre la Música y la Ciencia en la histor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Historia de los instrumentos musica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Física del sonido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1160" indent="-281160">
              <a:lnSpc>
                <a:spcPct val="15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99"/>
                </a:solidFill>
                <a:latin typeface="Arial"/>
              </a:rPr>
              <a:t>Aparición de herramientas tecnológica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close_up clarinet"/>
          <p:cNvPicPr/>
          <p:nvPr/>
        </p:nvPicPr>
        <p:blipFill>
          <a:blip r:embed="rId1"/>
          <a:stretch/>
        </p:blipFill>
        <p:spPr>
          <a:xfrm>
            <a:off x="5454720" y="1701720"/>
            <a:ext cx="2425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grafico ondas"/>
          <p:cNvPicPr/>
          <p:nvPr/>
        </p:nvPicPr>
        <p:blipFill>
          <a:blip r:embed="rId2"/>
          <a:stretch/>
        </p:blipFill>
        <p:spPr>
          <a:xfrm>
            <a:off x="4643280" y="4365720"/>
            <a:ext cx="40388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Sonido, Música y Cienci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Música e Instrumentos Musica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ffff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Afinación y Escal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" name="Picture 4" descr="Flautas"/>
          <p:cNvPicPr/>
          <p:nvPr/>
        </p:nvPicPr>
        <p:blipFill>
          <a:blip r:embed="rId1"/>
          <a:stretch/>
        </p:blipFill>
        <p:spPr>
          <a:xfrm>
            <a:off x="5275440" y="549360"/>
            <a:ext cx="3429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99"/>
                </a:solidFill>
                <a:latin typeface="Arial"/>
              </a:rPr>
              <a:t>Unida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" name="Picture 6" descr="Sitar"/>
          <p:cNvPicPr/>
          <p:nvPr/>
        </p:nvPicPr>
        <p:blipFill>
          <a:blip r:embed="rId1"/>
          <a:stretch/>
        </p:blipFill>
        <p:spPr>
          <a:xfrm>
            <a:off x="3995640" y="2046240"/>
            <a:ext cx="1606680" cy="4811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Pipa"/>
          <p:cNvPicPr/>
          <p:nvPr/>
        </p:nvPicPr>
        <p:blipFill>
          <a:blip r:embed="rId2"/>
          <a:stretch/>
        </p:blipFill>
        <p:spPr>
          <a:xfrm>
            <a:off x="5724360" y="692280"/>
            <a:ext cx="1824120" cy="480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Saxo-Soprano"/>
          <p:cNvPicPr/>
          <p:nvPr/>
        </p:nvPicPr>
        <p:blipFill>
          <a:blip r:embed="rId3"/>
          <a:stretch/>
        </p:blipFill>
        <p:spPr>
          <a:xfrm>
            <a:off x="7667640" y="333360"/>
            <a:ext cx="124452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88000" y="404640"/>
            <a:ext cx="4038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.   Física del Soni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Picture 4" descr="Membrana"/>
          <p:cNvPicPr/>
          <p:nvPr/>
        </p:nvPicPr>
        <p:blipFill>
          <a:blip r:embed="rId1"/>
          <a:stretch/>
        </p:blipFill>
        <p:spPr>
          <a:xfrm>
            <a:off x="2665440" y="4221000"/>
            <a:ext cx="3024000" cy="237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Ondas"/>
          <p:cNvPicPr/>
          <p:nvPr/>
        </p:nvPicPr>
        <p:blipFill>
          <a:blip r:embed="rId2"/>
          <a:stretch/>
        </p:blipFill>
        <p:spPr>
          <a:xfrm>
            <a:off x="5219640" y="1125360"/>
            <a:ext cx="2808360" cy="2278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250920" y="26028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V.   Patrones y Relaciones en la Música y el S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artitura"/>
          <p:cNvPicPr/>
          <p:nvPr/>
        </p:nvPicPr>
        <p:blipFill>
          <a:blip r:embed="rId3"/>
          <a:stretch/>
        </p:blipFill>
        <p:spPr>
          <a:xfrm>
            <a:off x="468360" y="1700280"/>
            <a:ext cx="2808360" cy="1415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1763640" y="3645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VI.   Música y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4T05:24:55Z</dcterms:modified>
  <cp:revision>18</cp:revision>
  <dc:subject/>
  <dc:title>Taller de Ciencias en la Música </dc:title>
</cp:coreProperties>
</file>