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D4EA-5C4F-428C-BD78-67D032D2B66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7A73-2236-46CB-BD84-8C67BADD26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827F-DD00-48B9-B53A-4F614EC3C7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16E3-36D5-4377-8F7C-F7D0D3486A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A829-C322-4307-BFD5-52D02E47FA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DAB-F63E-476F-8A04-17CA24EC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9F6-34B4-4AF7-82EF-6FEEA57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54B-605C-4FFF-B8EC-814B0B28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A83-C003-40FE-86DD-2EF880FD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949-77A3-4B66-A086-C7DA819C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329-644D-4E0F-8705-709BC184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78E-FC56-410C-8AC9-7F43C4B7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ABE-CD25-4A30-AF3A-A86CDC1B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446-49FC-415B-B0B9-9FA3D62B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F22-A198-470C-8600-A8C27CD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A75-B3EC-48D6-9BE0-84ACD70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DE9-E796-4DA1-BEFA-A3E5305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3079-E2DA-4A4A-AF04-1637153B0C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el soni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071720" y="3071880"/>
            <a:ext cx="712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al son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Frecuencia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la Músic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071720" y="3071880"/>
            <a:ext cx="7127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los aspectos de la mús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i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“Inten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4T05:25:06Z</dcterms:modified>
  <cp:revision>48</cp:revision>
  <dc:subject/>
  <dc:title>Taller de Ciencias en la Música </dc:title>
</cp:coreProperties>
</file>