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20.gif" ContentType="image/gif"/>
  <Override PartName="/ppt/media/image3.gif" ContentType="image/gif"/>
  <Override PartName="/ppt/media/image21.gif" ContentType="image/gif"/>
  <Override PartName="/ppt/media/image19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7.gif" ContentType="image/gif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6461-7C96-495D-8059-1696E3C262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69F6-09B2-4A98-8A9F-2E0E2A1458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E846-C105-4D54-A6C3-333E4E80FE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B9F6-B541-40D2-A9E2-52FC110223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C59A-F4A1-47CE-AACD-FA110E22C7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0CF5-C06A-4E35-BD9E-D81AE74651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9BEA-30B5-478F-8D39-7D496948B6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1531-D3EA-4F2F-A92A-2753139627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94E0-A556-459F-ACF8-11653AA0D9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A020-0569-462F-813D-2A14A41BA3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DC8C-CE44-436B-A660-12827EC753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7A42-8E6D-4C3E-A377-978E58F596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5283-A9B8-4CFC-8C2B-9D9D353DD3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4C0-B632-44E8-BD9A-BF3A660650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2D51-F7E2-4525-8BC6-EE20DA39E3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8C78-0914-41E5-8FE9-40F0AD53B1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CB71-D601-4661-8273-3315F42E85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86F-8144-429F-83A5-3A8881A926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CC7A-9CFC-40E7-912E-6CD157B928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F9D3-0732-43BC-A92D-D806A0FAC7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D962-26D2-47B1-B785-F086998640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6670-D822-469C-8F47-B80E221C07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F5C-05E4-4909-A20A-FAF21D74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C42-514B-4A7B-896E-DD602015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723-CAF9-46F7-B8D2-74582487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1ED-45F3-4CAF-ABC3-9BB47749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04D-3965-4B33-A8BC-BEA2FEB8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523-995E-45F6-B51B-E909BEFE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333-262F-44FE-BAFD-9BC7605B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F16-BB91-48E2-8B6C-9FAACEDB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1FD-7F61-435F-87F1-19BF2E8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DA6-3C80-4B3C-887B-A5C8EBAA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B4A-3BC0-422D-9870-1D75149C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BF3-29B2-4D21-BE1F-903B6CF9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C165-1A41-4415-B5F4-072D8AF1B3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Picture 4" descr="onda con formulas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f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Picture 4" descr="complex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microphone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http://www.falstad.com/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Picture 4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17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9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6" descr="hard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Picture 6" descr="reflect2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reflect1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ágina WEB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4" descr="superposición de ondas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Picture 5" descr="superposicion2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6" descr="superposicion3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3" descr="audio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7" descr="superposicion4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ma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3" descr="additive sintesis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5" descr="fft-2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fft-3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fft-1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cs.ubc.ca/spider/kvdoel/sound_demo6.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13" descr="peoplewave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/centres/a8019411/caixa/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http://www.kettering.edu/~drussell/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stringpulse"/>
          <p:cNvPicPr/>
          <p:nvPr/>
        </p:nvPicPr>
        <p:blipFill>
          <a:blip r:embed="rId3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" name="Picture 4" descr="water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ynWater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sunami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" name="Picture 4" descr="Lwave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" name="Picture 6" descr="Twave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Picture 4" descr="Onda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Se mide en Hertz (ciclos/segundo).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15" descr="onda con formulas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5T12:24:20Z</dcterms:modified>
  <cp:revision>36</cp:revision>
  <dc:subject/>
  <dc:title>Taller de Ciencias en la Música </dc:title>
</cp:coreProperties>
</file>