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F8A-FB27-448C-AB0B-EAE02029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3BF-4DBC-45B7-9D99-B22E052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272-88E1-4DD2-A8A5-06868D75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51C-F88E-43D2-B4AB-D1456031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8BE-6408-4584-8071-468060AC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114-1EB3-4591-993B-07012AB1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42D-37BE-4C4F-93EF-3189F6B8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659-5915-4154-9E97-89D6628F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C87-E475-41D9-B819-40D52FE4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E20-5461-40FC-A768-F6C05F54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6CC-08BD-41D3-846A-A15343D0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F83-3D70-42A5-A17C-6026AEBF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FAEC-CDE0-4056-93B6-AC4B6A5E1F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Í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H1_2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Picture 19" descr="ossicle-qt[1]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i-ear-qt[1]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movie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Basilar_Membrane1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9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Rectangle 34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8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9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5148360" y="5261040"/>
              <a:ext cx="3456000" cy="32868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8604360" y="5084640"/>
              <a:ext cx="156960" cy="36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7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9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0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5292720" y="6381720"/>
              <a:ext cx="3311640" cy="4320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3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5479920" y="5257800"/>
              <a:ext cx="3102120" cy="2412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676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4" descr="cochlear-qt[1]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orti-qt[1]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t18h[1]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t1sh[1]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t8lh[1]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c-qtl[1]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c-qtr[1]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basilar-qt[1]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ossicle-qt[1]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mi-ear-qt[1]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movie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5T12:29:00Z</dcterms:modified>
  <cp:revision>31</cp:revision>
  <dc:subject/>
  <dc:title>Taller de Ciencias en la Música </dc:title>
</cp:coreProperties>
</file>