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jpeg" ContentType="image/jpeg"/>
  <Override PartName="/ppt/media/image9.pct" ContentType="image/x-pict"/>
  <Override PartName="/ppt/media/image5.jpeg" ContentType="image/jpeg"/>
  <Override PartName="/ppt/media/image7.pct" ContentType="image/x-pict"/>
  <Override PartName="/ppt/media/image6.jpeg" ContentType="image/jpeg"/>
  <Override PartName="/ppt/media/image10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4268-FAC7-43B3-B023-C560E71D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3EA-2B38-4FE8-859B-7C10E761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CA6-5CAF-425D-8F02-58F51E86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5AF-6F33-4F3F-AB64-35E84170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9AB6-2920-474F-B851-E0397C97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2C3D-E618-49FD-BB08-5C60B458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DCCA-8B56-4A1E-B10E-B1757316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577D-928F-4BE5-8A6B-901F1581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A18A-25A0-401F-BA37-402D3CB0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2EE9-F224-44CA-9325-670B5477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9A8A-A1E2-4830-BA0E-2B9EE203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183-1CCA-43ED-BCAA-5129A8D9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7D73-D0A3-48CF-85F1-25B8273A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BE23-E727-4EC7-96A5-89DFC9DA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6A71-60AD-4FD2-8BCE-F0359972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324A-8105-42A3-A191-9DFC311F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2BA9-1A12-4E77-B990-DA6B8AFC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31C-0A4C-4A09-8855-67DE7A9A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914-09C4-48A1-B784-D1141D96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98E1-9F7A-4E7D-AA87-DE438C4C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7209-FA3A-4051-8869-242BE99C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5733-3242-4597-8297-E0FD75F4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D1E2-95C4-4363-A6E1-E7FDB8C2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E804-2EEC-48F5-AF6E-E5B107CB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F97E-B075-47F4-8AA4-28229405C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14F9-D5B4-4054-BD97-F61FD9B516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22096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e06"/>
                </a:solidFill>
                <a:latin typeface="Arial"/>
              </a:rPr>
              <a:t>Escuela de Verano</a:t>
            </a:r>
            <a:br>
              <a:rPr sz="3600"/>
            </a:br>
            <a:r>
              <a:rPr b="1" lang="en-US" sz="3600" spc="-1" strike="noStrike">
                <a:solidFill>
                  <a:srgbClr val="fffe06"/>
                </a:solidFill>
                <a:latin typeface="Arial"/>
              </a:rPr>
              <a:t>Clase # 4</a:t>
            </a:r>
            <a:br>
              <a:rPr sz="3600"/>
            </a:br>
            <a:r>
              <a:rPr b="1" lang="es-ES" sz="3600" spc="-1" strike="noStrike">
                <a:solidFill>
                  <a:srgbClr val="fffe06"/>
                </a:solidFill>
                <a:latin typeface="Arial"/>
              </a:rPr>
              <a:t>Los primeros minutos y la geometría global.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</a:rPr>
              <a:t>Profesor: José Maza Sanc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e06"/>
                </a:solidFill>
                <a:latin typeface="Arial"/>
              </a:rPr>
              <a:t>28 Enero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academia sueca reconoció el trabajo de Penzias y Wilson otorgándoles el premio Nobel de Física, en 197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e06"/>
                </a:solidFill>
                <a:latin typeface="Arial"/>
              </a:rPr>
              <a:t>Emisión característica de un cuerpo negro a 2,7 Kelvin.</a:t>
            </a: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52600" y="1981080"/>
          <a:ext cx="623880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2600" y="1981080"/>
                    <a:ext cx="6238800" cy="4114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99" dir="16983315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e06"/>
                </a:solidFill>
                <a:latin typeface="Arial"/>
              </a:rPr>
              <a:t>3. Los Primeros Minutos.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La densidad y temperatura del Universo en el instante inicial eran tan altos que ni las partículas elementales podían existir allí sino una especie de sopa de energ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Al producirse la explosión de ese estado inicial, evidentemente inestable, la densidad del Universo comienza a disminuir y con ello la temperat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n ese universo primordial las cosas ocurren con rapide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e06"/>
                </a:solidFill>
                <a:latin typeface="Arial"/>
              </a:rPr>
              <a:t>Temperatura vs. tiempo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cuatro fuerzas del Universo, a alta temperatura, se funden posiblemente en una so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15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K las interacciones débiles se unifican con las fuerzas electromagnéticas y a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27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K se funden con las interacciones fuer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Quizás a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32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K todas se fundan en una sola súper fuer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" y="1401840"/>
            <a:ext cx="8381880" cy="518004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Un centésima de segundo después de la explosión la temperatura ha bajado a cien mil millones de grados Kelvin (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11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K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Universo es una sopa de radiación y materia cuyos componentes principales son: fotones, neutrinos y antineutrinos, electrones y positrones (antielectron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Universo está dominado por la radiación y el conjunto se encuentra en perfecto estado de equilibrio termodinám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densidad equivalente del contenido de masa-energía es de 3,8 miles de millones de kilogramos por litro  (3,8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9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gr/cm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ay un pequeño número de partículas nucleares, alrededor de un protón o neutrón por cada mil millones de fotones o electrones o positr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 fin de poder predecir abundancias químicas es necesario conocer la proporción entre protones y neutr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neutrón es ligeramente más masivo que el protón siendo la diferencia de masa entre ambos de 1,293 MeV (1 MeV = un millón de electrón-Volt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ero por ser la energía característica de un electrón o un positrón, a una temperatura de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11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K, de 10 Mev, choques de protones y neutrones con los muy numerosos electrones y positrones producirán rápidas transiciones de neutrones a protones y vicevers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Bajo las suposiciones clásicas el número de protones resulta igual al número de neutrones en ese instante del Univer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decaimiento radioactivo de un neutrón en un protón no ejerce influencia alguna en esta fase pues toma alrededor de 15 minutos en ocurrir, un tiempo muy largo en relación a lo que lleva vivido el Univer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e06"/>
                </a:solidFill>
                <a:latin typeface="Arial"/>
              </a:rPr>
              <a:t>1. Introducci</a:t>
            </a:r>
            <a:r>
              <a:rPr b="1" lang="es-ES" sz="44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ó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expansión del Universo descubierta por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Edwin Hubble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en 1929 implica que en el pasado el Universo tuvo una mayor dens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1946 el físico ruso-norteamericano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George Gamow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propuso una teoría que plantea que, en sus etapas iniciales, el Universo tenía una altísima temperatura, lo suficientemente alta para permitir transmutaciones nuclea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087640" y="380880"/>
            <a:ext cx="4967280" cy="571500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Un décimo de segundo después de la explosión la temperatura es de 30 mil millones de grados (3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K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equilibrio entre protones y neutrones empieza a ser favorable a los protones que constituyen en esa fase el 62% de los nucleon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 medida que baja la temperatura la reacción que convierte un neutrón en un protón ocurre con más facilidad que la reacción inversa, por lo cual empezamos a encontrar más protones que neutr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densidad del Universo, es decir, el contenido de masa y energía por unidad de volumen, equivale a  30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6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gr/cm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Cuando han transcurrido 1,1 segundos la temperatura es de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os neutrinos dejan de interactuar con la materia por ser ya la densidad muy baja para ellos (380.000 gr/cm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Se dice que en ese instante los neutrinos se desacoplan de la materia y la radi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balance entre protones y neutrones sigue cambiando a favor de los protones que conforman ahora el 76% de los nucle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 los 13,8 segundos de la explosión la temperatura ha bajado ya a 3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9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os electrones y los positrones empiezan a desaparec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temperatura es lo suficientemente baja como para que puedan existir núcleos de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Sin embargo, no se producen núcleos de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e inmediatamente, debido a que para formar un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e se necesita que un protón y un neutrón reacciones formando un deuterio (hidrógeno pesad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Si ese deuterio reacciona con un protón formará un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e o si choca con un neutrón formará un tritio (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Finalmente, si el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e reacciona con un neutrón o si el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 lo hace con un protón, obtendremos un núcleo de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núcleo atómico de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e puede sobrevivir a una  temperatura de 3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9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K, pero el deuterio, paso previo indispensable, es mucho más frágil y no resiste esa temperatura por lo cual se destruye tan pronto se for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sto constituye el así llamado “cuello de botella del deuterio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os neutrones se siguen convirtiendo en protones, el balance es ahora de 83% de protones y 17% de neutr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221004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e06"/>
                </a:solidFill>
                <a:latin typeface="Arial"/>
              </a:rPr>
              <a:t>La figura ilustra una de las varias reacciones posibles. Primero un protón y un neutrón forman un deuterio. Luego dos deuterios forman un </a:t>
            </a:r>
            <a:r>
              <a:rPr b="1" lang="es-ES" sz="2400" spc="-1" strike="noStrike" baseline="30000">
                <a:solidFill>
                  <a:srgbClr val="fffe06"/>
                </a:solidFill>
                <a:latin typeface="Arial"/>
              </a:rPr>
              <a:t>3</a:t>
            </a:r>
            <a:r>
              <a:rPr b="1" lang="es-ES" sz="2400" spc="-1" strike="noStrike">
                <a:solidFill>
                  <a:srgbClr val="fffe06"/>
                </a:solidFill>
                <a:latin typeface="Arial"/>
              </a:rPr>
              <a:t>H y liberan un protón. Por último un tritio y un deuterio forman un </a:t>
            </a:r>
            <a:r>
              <a:rPr b="1" lang="es-ES" sz="2400" spc="-1" strike="noStrike" baseline="30000">
                <a:solidFill>
                  <a:srgbClr val="fffe06"/>
                </a:solidFill>
                <a:latin typeface="Arial"/>
              </a:rPr>
              <a:t>4</a:t>
            </a:r>
            <a:r>
              <a:rPr b="1" lang="es-ES" sz="2400" spc="-1" strike="noStrike">
                <a:solidFill>
                  <a:srgbClr val="fffe06"/>
                </a:solidFill>
                <a:latin typeface="Arial"/>
              </a:rPr>
              <a:t>He liberando un neutrón.</a:t>
            </a:r>
            <a:endParaRPr b="0" lang="en-US" sz="24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3225960"/>
          <a:ext cx="8229600" cy="294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225960"/>
                    <a:ext cx="8229600" cy="2946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99" dir="16983315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Después de transcurridos 3,7 minutos (220 segundos desde el Big Bang) la temperatura ha descendido a un nivel en el cual el deuterio puede sobrevivir (0,9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9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K aproximadament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Tan pronto como se alcanza ese nivel todos los neutrones forman deuterios que a su vez son cocinados en núcleos de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balance entre neutrones y protones era de un 87% para los protones y un 13% para los neutr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or lo tanto, si todos los neutrones terminan encerrados en un núcleo de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e, el 26% de la masa de Universo queda en forma de Hel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especial circunstancia de no existir en la naturaleza un núcleo atómico que sea estable y tenga 5 u 8 partículas en su núcleo hace que sea difícil formar núcleos más pesados que el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He por interacción de partículas en el Big Ba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expansión ha ido enfriando al Universo dando origen a toda su historia poster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sta teoría conocida, por el sobrenombre que le pusieron los astrofísicos ingleses autores  de la teoría rival, de Big-Bang, que en la versión de Gamow es Big Bang caliente es la teoría que mejor explica los grandes rasgos del Univer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paso crucial para el big bang ocurrió en 196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Algo más de media hora después de la explosión inicial la temperatura será de 3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2800" spc="-1" strike="noStrike" baseline="30000">
                <a:solidFill>
                  <a:srgbClr val="fffe06"/>
                </a:solidFill>
                <a:latin typeface="Arial"/>
              </a:rPr>
              <a:t>8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La densidad del contenido masa-energía será sólo de un 10% de la densidad del agu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n este momento los procesos nucleares se detien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l Universo está formado por radiación, protones, núcleos de </a:t>
            </a:r>
            <a:r>
              <a:rPr b="0" lang="es-ES" sz="2800" spc="-1" strike="noStrike" baseline="30000">
                <a:solidFill>
                  <a:srgbClr val="fffe06"/>
                </a:solidFill>
                <a:latin typeface="Arial"/>
              </a:rPr>
              <a:t>4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He, electrones y neutri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La temperatura es muy alta para que puedan existir átomos neut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80880" y="-60480"/>
          <a:ext cx="8305920" cy="6783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-60480"/>
                    <a:ext cx="8305920" cy="6783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99" dir="16983315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Transcurridos 350.000 años la temperatura alcanza el punto donde los electrones se pueden combinar con los núcleos parra formar átomos neutros (de Hidrógeno y Heli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l desaparecer los electrones libre el Universo se hace transparente a la radi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Se dice que en este momento la materia se recombina y que la materia y la radiación se desacopl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Cuando la temperatura llega a los 3.000K el Universo “encierra” los electrones libres en el interior de átomos de Hidrógeno y Helio, haciéndolo transparente. Desde ese instante, ocurrido 350.000 años después del Big Bang, la radiación viaja libremente por el Univer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De ésa superficie recibimos hoy la radiación de fondo cósm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-106200"/>
          <a:ext cx="9144000" cy="668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106200"/>
                    <a:ext cx="9144000" cy="6689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99" dir="16983315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 partir de ese instante fluctuaciones de densidad pueden ir generando las estructuras que darán origen a las primeras estrellas y las primeras galax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materia prima para las estrellas de primera generación, en cada galaxias, será de un 74% de Hidrógeno y un 26% de Hel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380520"/>
            <a:ext cx="9144000" cy="579132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Reacciones termonucleares en el interior de las estrellas irán transmutando Hidrógeno en Helio, posteriormente Helio en Carbono y Oxígeno, y luego se formará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20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Ne,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24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Mg,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28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Si,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32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S, etc. hasta el 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56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Fe en el centro de las estrellas masiv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Todos estos elementos químicos serán arrojados de vuelta al medio interestelar en el momento final de la evolución de las estrellas masivas (las supernovas de tipo II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stos restos gaseosos contaminarán las nubes de gas primigen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s nuevas generaciones de estrellas formadas a partir de las nubes contaminadas contarán desde el inicio de algunos elementos químicos distintos del Hidrógeno y el Heli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nuestra galaxia, después de unos 12 o 13 mil millones de años de existencia, la composición química del gas interestelar es de 73% de Hidrógeno, 25% de Helio y 2% de elementos químicos más pesados que el Helio, entre los cuales destacan el C, N, O, Ne y S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e06"/>
                </a:solidFill>
                <a:latin typeface="Arial"/>
              </a:rPr>
              <a:t>4. Los Primeros Instantes del Universo.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mecánica cuántica define un límite al intervalo de tiempo menor que puede ser medido y al espacio que puede ser medidos ellos se llaman tiempo e intervalo de Plan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tiempo de Planck es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-4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segund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2. La Radiación de Fondo Cósmico: Penzias y Wilson.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gran giro en la teoría del big-bang vino en 1964 cuando los físicos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Arno Penzias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y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Robert Wilson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, trabajando para la </a:t>
            </a:r>
            <a:r>
              <a:rPr b="0" i="1" lang="es-ES" sz="3200" spc="-1" strike="noStrike">
                <a:solidFill>
                  <a:srgbClr val="fffe06"/>
                </a:solidFill>
                <a:latin typeface="Arial"/>
              </a:rPr>
              <a:t>Bell Telephone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en Crawford Hill, Holmdel, New Jersey, detectaron una radiación en la banda de las micro-ondas que venía de todas partes del ciel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or ello el intervalo de tiempo entre el comienzo del Big Bang y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-4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segundos se llama la era de Planck, dentro de la cual la granularidad cuántica del espacio-tiempo se hace muy importante y por ende se necesitaría una teoría unificada entre la gravitación y la mecánica cuántica, que aún no se tie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or ende la era de Planck es la zona en la cual estamos limitados ahora por la ignorancia en las herramientas teóricas para abordar el proble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1143000" y="22320"/>
          <a:ext cx="6934320" cy="6805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2320"/>
                    <a:ext cx="6934320" cy="6805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99" dir="16983315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n el Universo se pueden distinguir algunos instantes clav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Para t = 10</a:t>
            </a:r>
            <a:r>
              <a:rPr b="0" lang="es-ES" sz="2800" spc="-1" strike="noStrike" baseline="30000">
                <a:solidFill>
                  <a:srgbClr val="fffe06"/>
                </a:solidFill>
                <a:latin typeface="Arial"/>
              </a:rPr>
              <a:t>-43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segundos (tiempo de Planck) el universo actual está confinado a un tamaño menor que el de una partícula atómica y por ende la Relatividad General y la Mecánica cuántica deberían fundirse en una sola teoría, que en este momento se desconoce. Por lo tanto, entre t=0 y el tiempo de Planck, llamada era de Planck, la descripción física de Universo está más allá de las posibilidades de la física act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ara t=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-3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segundos ocurre un proceso conocido como inflación en el cual el universo crece en 60 órdenes de magnitu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universo tiene un tamaño característico de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-25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metros antes de la inflación y uno de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25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después de e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inflación opera a densidad const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t=0 se crea el espacio y el tiempo; en t~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-3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segundos se crea toda la energía del Universo, a partir del vací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 los tres minutos se produce la nucleosínte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 los 350.000 años el universo se recombina, se hace transpar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Desde allá nos llega la radiación de fondo cósmico, que la vemos con un corrimiento al rojo z ~ 1.1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Uno de los fenómenos más espectaculares del Big Bang es la Infl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or años los astrónomos se sintieron perturbados por el hecho que el Universo parecía casi plano cuando se calculaba su densidad y se la comparaba con la densidad crí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Cifras de un 10% a 20% se derivaban y ello parecía demasiado cercana a la densidad crítica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Si el universo hubiese tenido una densidad menor que la crítica desde el inicio su valor actual debería ser muy pequeño pues los modelos muestran que 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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, la razón entre la densidad y la densidad crítica, se aleja de uno cuando pasa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Si ahora, casi 14 mil millones de años después del Big Bang 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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fuese 0,3 1 segundo después del Big Bang 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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diferiría de la unidad en una parte en 10</a:t>
            </a:r>
            <a:r>
              <a:rPr b="0" lang="es-ES" sz="2800" spc="-1" strike="noStrike" baseline="30000">
                <a:solidFill>
                  <a:srgbClr val="fffe06"/>
                </a:solidFill>
                <a:latin typeface="Arial"/>
              </a:rPr>
              <a:t>15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y en el tiempo de Planck diferiría de la unidad en una parte en 10</a:t>
            </a:r>
            <a:r>
              <a:rPr b="0" lang="es-ES" sz="2800" spc="-1" strike="noStrike" baseline="30000">
                <a:solidFill>
                  <a:srgbClr val="fffe06"/>
                </a:solidFill>
                <a:latin typeface="Arial"/>
              </a:rPr>
              <a:t>60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sta extraordinaria sintonía del universo con un universo plano llevó a muchos astrónomos a creer que debía haber alguna razón para que el Universo fuese pla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1981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Alan Guth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propuso la teoría de la infl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Universo nace con un vacío en un estado excitado y cuando han transcurrido ~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-3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segundos el vacío cambia de fase, cambia de un falso vacío al verdadero vacío, de menor energía, e inyecta energía al universo y éste se infla  sesenta órdenes de magnitud en un breve intervalo pasando de un tamaño característico de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-25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metros a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25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metros al final de la infl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inflación ocurre a densidad constante por lo que se crea toda la materia en la infl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Big Bang crea el espacio y el tiempo; la inflación crea la energía que posteriormente va a originar la mate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Cuando ha transcurrido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-3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segundos la luz ha viajado una distancia de 3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8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metros/segundos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-33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segund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= 3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-25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metr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La llamaron </a:t>
            </a:r>
            <a:r>
              <a:rPr b="0" i="1" lang="es-ES" sz="2800" spc="-1" strike="noStrike">
                <a:solidFill>
                  <a:srgbClr val="fffe06"/>
                </a:solidFill>
                <a:latin typeface="Arial"/>
              </a:rPr>
              <a:t>radiación de fondo cósmico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, tiene un espectro plankiano, con una temperatura de 2,7 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Lo que Penzias y Wilson habían encontrado era la temperatura actual del univer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La teoría alternativa al big-bang llamada la teoría del estado estacionario (steady-state), propuesta a fines de los años cuarenta por los ingleses Bondi, Bonnor, Hoyle y Thomas Gold, planteaba que el universo es homogéneo en el espacio y en el tiempo y por ende el universo no tiene ni comienzo ni f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Por ende una zona del universo de un tamaño de 10</a:t>
            </a:r>
            <a:r>
              <a:rPr b="0" lang="es-ES" sz="2800" spc="-1" strike="noStrike" baseline="30000">
                <a:solidFill>
                  <a:srgbClr val="fffe06"/>
                </a:solidFill>
                <a:latin typeface="Arial"/>
              </a:rPr>
              <a:t>-25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metros puede haber intercambiado información y haberse hecho homogén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sa pequeña zona, millones de veces más pequeña que una partícula atómica, después de la inflación tiene un tamaño superior al que tiene el universo observable ho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sto explica porqué el universo que hoy observamos es tan homogéneo: en su génesis el universo estuvo todo en contacto cau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Un último problema en la génesis es porqué existe materia en el univer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 partir de la energía se generan pares de partículas y antipartículas en igual número que se crean y se aniquil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or razones que no se conocen bien se produjo una ligera asimetría que creó más partículas que antipartícul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sa asimetría es muy pequeña de modo que por cada mil millones de anti-partículas se crean mil millones más una partícu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s partículas superan a las antipartículas en una por cada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9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antipartícul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so define la razón del número de bariones a fotones en el universo que están en esa proporción: hay un barión por cada 10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9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fot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Después que el universo se hace transparente el número de bariones y de fotones se conser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Dado que en los instantes iniciales el universo debe haber estado en un estado de equilibrio entre las reacciones que a partir de dos fotones de alta energía formaban pares partícula-antipartícula y aquellas que las destruían,  en una ligera proporción resultaba más fácil destruir la antipartícula con lo cual queda finalmente este exceso de partícul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Si así no fuese no existiría el mundo alrededor de nosotros ni tampoco existiríamos noso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razón física de porqué se produjo esa asimetría partícula-antipartícula no se conoce cabalm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expansión hace que se genere materia, en la cantidad justa para mantener la densidad const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nueva materia genera nuevas galaxias, donde nacen nuevas estrell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universo sería una mezcla de galaxias viejas y nuevas, con estrellas a punto de agotarse y estrellas recién naci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71600" y="1322280"/>
            <a:ext cx="6553080" cy="549288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  <p:sp>
        <p:nvSpPr>
          <p:cNvPr id="95" name=""/>
          <p:cNvSpPr/>
          <p:nvPr/>
        </p:nvSpPr>
        <p:spPr>
          <a:xfrm>
            <a:off x="2438280" y="371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e06"/>
                </a:solidFill>
                <a:latin typeface="Arial"/>
              </a:rPr>
              <a:t>Arno Penzias y Robert Wil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radiación de fondo cósmico de Penzias y Wilson encaja en forma natural con la teoría del big-bang de Gamow y es muy difícil de explicar para la teoría del universo estaciona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¿Porqué habría de haber una radiación que todo lo permee en la teoría del estado estacionari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el Big Bang es muy lógico pues el universo joven, mucho más caliente, estaba constituido por radiación y mate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universo actual, más frío, también está inmerso en una sopa de radiación a una muy baja temperatu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 partir de 1964 la teoría del big-bang se ha transformado en el paradigma cosmológico de los astrónom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inmensa mayoría de los astrónomos la aceptan como la versión globalmente correcta de los eventos ocurridos en nuestro univers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13:30:55Z</dcterms:created>
  <dc:creator>Jose  Maza</dc:creator>
  <dc:description/>
  <dc:language>en-US</dc:language>
  <cp:lastModifiedBy>Jose  Maza</cp:lastModifiedBy>
  <dcterms:modified xsi:type="dcterms:W3CDTF">2009-01-28T02:11:27Z</dcterms:modified>
  <cp:revision>196</cp:revision>
  <dc:subject/>
  <dc:title>EH 28B: Historia de la Astronomía II 2.02.   Piazzi y el Descubrimiento de los Pequeños Planetas.</dc:title>
</cp:coreProperties>
</file>