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9.pct" ContentType="image/x-pict"/>
  <Override PartName="/ppt/media/image5.jpeg" ContentType="image/jpeg"/>
  <Override PartName="/ppt/media/image7.pct" ContentType="image/x-pict"/>
  <Override PartName="/ppt/media/image6.jpeg" ContentType="image/jpeg"/>
  <Override PartName="/ppt/media/image10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E95-A679-4FF4-BF71-546C412B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B96-F02E-4085-A684-66498E37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E26-6B81-4871-8E9A-47D5A01C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6B3-5CA1-44A2-8F21-F14E0B4F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9FCC-B633-4916-A505-16F3D2A1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8B4E-FAD0-4729-8796-DFE608D9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DD3B-E47D-4FC9-8642-FF9C095A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49DF-D912-4E87-BCF9-F6D0D1ED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48A0-6C63-4A9A-8B0E-1FEB7FC0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527B-909C-4E07-A3D2-C863D152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79A1-CF88-4B69-9A4A-00E2D7CE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D96-1E53-43FD-83E8-4648FF4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AC17-08DF-448F-981B-5307BB6E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002C-0EB8-40CB-B4B1-F50DE4CD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B03A-F4AE-4D54-AA17-EAA63D38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48EF-0270-40EC-9988-1813C50F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FE99-102C-4428-81C6-99C7470A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98D-F673-48C6-9E62-CB9C85B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630-C005-4084-8E48-F8D9AC80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88D-BB0B-40AC-B257-01DD7D06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B90-5AB5-47A8-A2BE-6FE14925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2CB-E00A-4634-B6B1-AAC8D65A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B71-BD33-4B7A-81A8-A625C65C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947-19BD-4AEB-93B3-B657DE0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D32-6FA6-4B3A-AD78-4457F44E9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3C6C-D760-4D79-B8E7-B8756DE4F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22096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Escuela de Verano</a:t>
            </a:r>
            <a:br>
              <a:rPr sz="3600"/>
            </a:b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Clase # 4</a:t>
            </a:r>
            <a:br>
              <a:rPr sz="3600"/>
            </a:br>
            <a:r>
              <a:rPr b="1" lang="es-ES" sz="3600" spc="-1" strike="noStrike">
                <a:solidFill>
                  <a:srgbClr val="fffe06"/>
                </a:solidFill>
                <a:latin typeface="Arial"/>
              </a:rPr>
              <a:t>Los primeros minutos y la geometría global.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Profesor: José Maza San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6"/>
                </a:solidFill>
                <a:latin typeface="Arial"/>
              </a:rPr>
              <a:t>28 Enero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academia sueca reconoció el trabajo de Penzias y Wilson otorgándoles el premio Nobel de Física, en 197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Emisión característica de un cuerpo negro a 2,7 Kelvin.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52600" y="1981080"/>
          <a:ext cx="62388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2600" y="1981080"/>
                    <a:ext cx="6238800" cy="4114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3. Los Primeros Minutos.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densidad y temperatura del Universo en el instante inicial eran tan altos que ni las partículas elementales podían existir allí sino una especie de sopa de ener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Al producirse la explosión de ese estado inicial, evidentemente inestable, la densidad del Universo comienza a disminuir y con ello la tempera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ese universo primordial las cosas ocurren con rapide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e06"/>
                </a:solidFill>
                <a:latin typeface="Arial"/>
              </a:rPr>
              <a:t>Temperatura vs. tiempo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cuatro fuerzas del Universo, a alta temperatura, se funden posiblemente en una so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 las interacciones débiles se unifican con las fuerzas electromagnéticas y 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7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K se funden con las interacciones fuer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Quizás 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2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 todas se fundan en una sola súper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401840"/>
            <a:ext cx="8381880" cy="518004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centésima de segundo después de la explosión la temperatura ha bajado a cien mil millones de grados Kelvin (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1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es una sopa de radiación y materia cuyos componentes principales son: fotones, neutrinos y antineutrinos, electrones y positrones (antielectron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está dominado por la radiación y el conjunto se encuentra en perfecto estado de equilibrio termodiná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densidad equivalente del contenido de masa-energía es de 3,8 miles de millones de kilogramos por litro  (3,8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gr/cm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ay un pequeño número de partículas nucleares, alrededor de un protón o neutrón por cada mil millones de fotones o electrones o posi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fin de poder predecir abundancias químicas es necesario conocer la proporción entre protones y neu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neutrón es ligeramente más masivo que el protón siendo la diferencia de masa entre ambos de 1,293 MeV (1 MeV = un millón de electrón-Vol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ero por ser la energía característica de un electrón o un positrón, a una temperatura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1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, de 10 Mev, choques de protones y neutrones con los muy numerosos electrones y positrones producirán rápidas transiciones de neutrones a protones y vicever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Bajo las suposiciones clásicas el número de protones resulta igual al número de neutrones en ese instante d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decaimiento radioactivo de un neutrón en un protón no ejerce influencia alguna en esta fase pues toma alrededor de 15 minutos en ocurrir, un tiempo muy largo en relación a lo que lleva vivido 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1. Introducci</a:t>
            </a:r>
            <a:r>
              <a:rPr b="1" lang="es-ES" sz="44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xpansión del Universo descubierta por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Edwin Hubbl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en 1929 implica que en el pasado el Universo tuvo una mayor dens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46 el físico ruso-norteamerican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George Gamow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propuso una teoría que plantea que, en sus etapas iniciales, el Universo tenía una altísima temperatura, lo suficientemente alta para permitir transmutaciones nucle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087640" y="380880"/>
            <a:ext cx="4967280" cy="57150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décimo de segundo después de la explosión la temperatura es de 30 mil millones de grados (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equilibrio entre protones y neutrones empieza a ser favorable a los protones que constituyen en esa fase el 62% de los nucle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medida que baja la temperatura la reacción que convierte un neutrón en un protón ocurre con más facilidad que la reacción inversa, por lo cual empezamos a encontrar más protones que neu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densidad del Universo, es decir, el contenido de masa y energía por unidad de volumen, equivale a  30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6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gr/cm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uando han transcurrido 1,1 segundos la temperatura es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neutrinos dejan de interactuar con la materia por ser ya la densidad muy baja para ellos (380.000 gr/cm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e dice que en ese instante los neutrinos se desacoplan de la materia y la radi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balance entre protones y neutrones sigue cambiando a favor de los protones que conforman ahora el 76% de los nucle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los 13,8 segundos de la explosión la temperatura ha bajado ya a 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electrones y los positrones empiezan a desapare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temperatura es lo suficientemente baja como para que puedan existir núcleos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n embargo, no se producen núcleos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inmediatamente, debido a que para formar un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se necesita que un protón y un neutrón reacciones formando un deuterio (hidrógeno pesad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 ese deuterio reacciona con un protón formará un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o si choca con un neutrón formará un tritio (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inalmente, si el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reacciona con un neutrón o si el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 lo hace con un protón, obtendremos un núcleo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núcleo atómico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puede sobrevivir a una  temperatura de 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, pero el deuterio, paso previo indispensable, es mucho más frágil y no resiste esa temperatura por lo cual se destruye tan pronto se for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to constituye el así llamado “cuello de botella del deuteri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neutrones se siguen convirtiendo en protones, el balance es ahora de 83% de protones y 17% de neu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2100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e06"/>
                </a:solidFill>
                <a:latin typeface="Arial"/>
              </a:rPr>
              <a:t>La figura ilustra una de las varias reacciones posibles. Primero un protón y un neutrón forman un deuterio. Luego dos deuterios forman un </a:t>
            </a:r>
            <a:r>
              <a:rPr b="1" lang="es-ES" sz="24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fe06"/>
                </a:solidFill>
                <a:latin typeface="Arial"/>
              </a:rPr>
              <a:t>H y liberan un protón. Por último un tritio y un deuterio forman un </a:t>
            </a:r>
            <a:r>
              <a:rPr b="1" lang="es-ES" sz="24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1" lang="es-ES" sz="2400" spc="-1" strike="noStrike">
                <a:solidFill>
                  <a:srgbClr val="fffe06"/>
                </a:solidFill>
                <a:latin typeface="Arial"/>
              </a:rPr>
              <a:t>He liberando un neutrón.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3225960"/>
          <a:ext cx="8229600" cy="294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25960"/>
                    <a:ext cx="8229600" cy="294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spués de transcurridos 3,7 minutos (220 segundos desde el Big Bang) la temperatura ha descendido a un nivel en el cual el deuterio puede sobrevivir (0,9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 aproximadamen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Tan pronto como se alcanza ese nivel todos los neutrones forman deuterios que a su vez son cocinados en núcleos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balance entre neutrones y protones era de un 87% para los protones y un 13% para los neu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lo tanto, si todos los neutrones terminan encerrados en un núcleo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, el 26% de la masa de Universo queda en forma de Hel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special circunstancia de no existir en la naturaleza un núcleo atómico que sea estable y tenga 5 u 8 partículas en su núcleo hace que sea difícil formar núcleos más pesados que el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por interacción de partículas en el Big Ba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xpansión ha ido enfriando al Universo dando origen a toda su historia post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ta teoría conocida, por el sobrenombre que le pusieron los astrofísicos ingleses autores  de la teoría rival, de Big-Bang, que en la versión de Gamow es Big Bang caliente es la teoría que mejor explica los grandes rasgos d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paso crucial para el big bang ocurrió en 196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Algo más de media hora después de la explosión inicial la temperatura será de 3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8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densidad del contenido masa-energía será sólo de un 10% de la densidad del a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este momento los procesos nucleares se de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Universo está formado por radiación, protones, núcleos de 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He, electrones y neutri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temperatura es muy alta para que puedan existir átomos neu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80880" y="-60480"/>
          <a:ext cx="8305920" cy="678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-60480"/>
                    <a:ext cx="8305920" cy="6783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Transcurridos 350.000 años la temperatura alcanza el punto donde los electrones se pueden combinar con los núcleos parra formar átomos neutros (de Hidrógeno y Heli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l desaparecer los electrones libre el Universo se hace transparente a la radi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e dice que en este momento la materia se recombina y que la materia y la radiación se desacopl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Cuando la temperatura llega a los 3.000K el Universo “encierra” los electrones libres en el interior de átomos de Hidrógeno y Helio, haciéndolo transparente. Desde ese instante, ocurrido 350.000 años después del Big Bang, la radiación viaja libremente por 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De ésa superficie recibimos hoy la radiación de fondo cós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-106200"/>
          <a:ext cx="9144000" cy="668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06200"/>
                    <a:ext cx="9144000" cy="6689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partir de ese instante fluctuaciones de densidad pueden ir generando las estructuras que darán origen a las primeras estrellas y las primeras galax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materia prima para las estrellas de primera generación, en cada galaxias, será de un 74% de Hidrógeno y un 26% de Hel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57913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Reacciones termonucleares en el interior de las estrellas irán transmutando Hidrógeno en Helio, posteriormente Helio en Carbono y Oxígeno, y luego se formará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0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Ne,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Mg,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8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,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2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, etc. hasta el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56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e en el centro de las estrellas mas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Todos estos elementos químicos serán arrojados de vuelta al medio interestelar en el momento final de la evolución de las estrellas masivas (las supernovas de tipo I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tos restos gaseosos contaminarán las nubes de gas primigen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s nuevas generaciones de estrellas formadas a partir de las nubes contaminadas contarán desde el inicio de algunos elementos químicos distintos del Hidrógeno y el Heli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nuestra galaxia, después de unos 12 o 13 mil millones de años de existencia, la composición química del gas interestelar es de 73% de Hidrógeno, 25% de Helio y 2% de elementos químicos más pesados que el Helio, entre los cuales destacan el C, N, O, Ne y S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4. Los Primeros Instantes del Universo.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mecánica cuántica define un límite al intervalo de tiempo menor que puede ser medido y al espacio que puede ser medidos ellos se llaman tiempo e intervalo de Plan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tiempo de Planck es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4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2. La Radiación de Fondo Cósmico: Penzias y Wilson.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gran giro en la teoría del big-bang vino en 1964 cuando los físicos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rno Penzias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Robert Wilso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, trabajando para la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Bell Telephon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en Crawford Hill, Holmdel, New Jersey, detectaron una radiación en la banda de las micro-ondas que venía de todas partes del cie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llo el intervalo de tiempo entre el comienzo del Big Bang y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4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se llama la era de Planck, dentro de la cual la granularidad cuántica del espacio-tiempo se hace muy importante y por ende se necesitaría una teoría unificada entre la gravitación y la mecánica cuántica, que aún no se ti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nde la era de Planck es la zona en la cual estamos limitados ahora por la ignorancia en las herramientas teóricas para abordar el proble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143000" y="22320"/>
          <a:ext cx="6934320" cy="6805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320"/>
                    <a:ext cx="6934320" cy="6805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el Universo se pueden distinguir algunos instantes cla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Para t = 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-43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segundos (tiempo de Planck) el universo actual está confinado a un tamaño menor que el de una partícula atómica y por ende la Relatividad General y la Mecánica cuántica deberían fundirse en una sola teoría, que en este momento se desconoce. Por lo tanto, entre t=0 y el tiempo de Planck, llamada era de Planck, la descripción física de Universo está más allá de las posibilidades de la física ac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ara t=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ocurre un proceso conocido como inflación en el cual el universo crece en 60 órdenes de magnit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tiene un tamaño característico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 antes de la inflación y uno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después de e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inflación opera a densidad cons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t=0 se crea el espacio y el tiempo; en t~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se crea toda la energía del Universo, a partir del vací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los tres minutos se produce la nucleosínte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los 350.000 años el universo se recombina, se hace transpar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sde allá nos llega la radiación de fondo cósmico, que la vemos con un corrimiento al rojo z ~ 1.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o de los fenómenos más espectaculares del Big Bang es la Inf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años los astrónomos se sintieron perturbados por el hecho que el Universo parecía casi plano cuando se calculaba su densidad y se la comparaba con la densidad crí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ifras de un 10% a 20% se derivaban y ello parecía demasiado cercana a la densidad crític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Si el universo hubiese tenido una densidad menor que la crítica desde el inicio su valor actual debería ser muy pequeño pues los modelos muestran que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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, la razón entre la densidad y la densidad crítica, se aleja de uno cuando pasa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Si ahora, casi 14 mil millones de años después del Big Bang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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fuese 0,3 1 segundo después del Big Bang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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diferiría de la unidad en una parte en 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15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y en el tiempo de Planck diferiría de la unidad en una parte en 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60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ta extraordinaria sintonía del universo con un universo plano llevó a muchos astrónomos a creer que debía haber alguna razón para que el Universo fuese pl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81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an Guth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propuso la teoría de la inf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nace con un vacío en un estado excitado y cuando han transcurrido ~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el vacío cambia de fase, cambia de un falso vacío al verdadero vacío, de menor energía, e inyecta energía al universo y éste se infla  sesenta órdenes de magnitud en un breve intervalo pasando de un tamaño característico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 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 al final de la inf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inflación ocurre a densidad constante por lo que se crea toda la materia en la inf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Big Bang crea el espacio y el tiempo; la inflación crea la energía que posteriormente va a originar la ma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uando ha transcurrido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la luz ha viajado una distancia de 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8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/segundos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= 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llamaron </a:t>
            </a:r>
            <a:r>
              <a:rPr b="0" i="1" lang="es-ES" sz="2800" spc="-1" strike="noStrike">
                <a:solidFill>
                  <a:srgbClr val="fffe06"/>
                </a:solidFill>
                <a:latin typeface="Arial"/>
              </a:rPr>
              <a:t>radiación de fondo cósmico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, tiene un espectro plankiano, con una temperatura de 2,7 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o que Penzias y Wilson habían encontrado era la temperatura actual del univer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teoría alternativa al big-bang llamada la teoría del estado estacionario (steady-state), propuesta a fines de los años cuarenta por los ingleses Bondi, Bonnor, Hoyle y Thomas Gold, planteaba que el universo es homogéneo en el espacio y en el tiempo y por ende el universo no tiene ni comienzo ni f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Por ende una zona del universo de un tamaño de 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-25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metros puede haber intercambiado información y haberse hecho homogén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sa pequeña zona, millones de veces más pequeña que una partícula atómica, después de la inflación tiene un tamaño superior al que tiene el universo observable h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sto explica porqué el universo que hoy observamos es tan homogéneo: en su génesis el universo estuvo todo en contacto cau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último problema en la génesis es porqué existe materia en 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partir de la energía se generan pares de partículas y antipartículas en igual número que se crean y se aniquil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razones que no se conocen bien se produjo una ligera asimetría que creó más partículas que antipartíc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a asimetría es muy pequeña de modo que por cada mil millones de anti-partículas se crean mil millones más una partícu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s partículas superan a las antipartículas en una por cad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antipartíc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o define la razón del número de bariones a fotones en el universo que están en esa proporción: hay un barión por cad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fot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spués que el universo se hace transparente el número de bariones y de fotones se conser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ado que en los instantes iniciales el universo debe haber estado en un estado de equilibrio entre las reacciones que a partir de dos fotones de alta energía formaban pares partícula-antipartícula y aquellas que las destruían,  en una ligera proporción resultaba más fácil destruir la antipartícula con lo cual queda finalmente este exceso de partíc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 así no fuese no existiría el mundo alrededor de nosotros ni tampoco existiríamos nos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razón física de porqué se produjo esa asimetría partícula-antipartícula no se conoce cabal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xpansión hace que se genere materia, en la cantidad justa para mantener la densidad cons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nueva materia genera nuevas galaxias, donde nacen nuevas estrel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sería una mezcla de galaxias viejas y nuevas, con estrellas a punto de agotarse y estrellas recién nac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322280"/>
            <a:ext cx="6553080" cy="549288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2438280" y="371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e06"/>
                </a:solidFill>
                <a:latin typeface="Arial"/>
              </a:rPr>
              <a:t>Arno Penzias y Robert Wil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radiación de fondo cósmico de Penzias y Wilson encaja en forma natural con la teoría del big-bang de Gamow y es muy difícil de explicar para la teoría del universo estacion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¿Porqué habría de haber una radiación que todo lo permee en la teoría del estado estacionari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el Big Bang es muy lógico pues el universo joven, mucho más caliente, estaba constituido por radiación y ma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actual, más frío, también está inmerso en una sopa de radiación a una muy baja tempera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partir de 1964 la teoría del big-bang se ha transformado en el paradigma cosmológico de los astróno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inmensa mayoría de los astrónomos la aceptan como la versión globalmente correcta de los eventos ocurridos en nuestro univers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3:30:55Z</dcterms:created>
  <dc:creator>Jose  Maza</dc:creator>
  <dc:description/>
  <dc:language>en-US</dc:language>
  <cp:lastModifiedBy>Jose  Maza</cp:lastModifiedBy>
  <dcterms:modified xsi:type="dcterms:W3CDTF">2009-01-28T02:11:27Z</dcterms:modified>
  <cp:revision>196</cp:revision>
  <dc:subject/>
  <dc:title>EH 28B: Historia de la Astronomía II 2.02.   Piazzi y el Descubrimiento de los Pequeños Planetas.</dc:title>
</cp:coreProperties>
</file>