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869-9AAD-49AC-B411-63692262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8922-135F-47B0-AB7D-365FF45F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73A9-5AB9-4F26-91D2-B4A1E9F1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E7CD-1D4B-4A7F-AD2B-FD021307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6CD6-D0E3-45C6-A048-6CC16481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0A09-B676-4F7F-AC48-47D5273F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2CF4-295B-41A2-B731-56CDDD28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7071-310C-450E-A788-6341177F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B841B-53BF-4B50-8937-FD1651D4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A0082-D0FC-4DFF-AA5B-18A17414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7A45-6652-45D0-89CC-9BF9678D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295-992A-4D90-8F24-E810E369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9BC6-7AAF-4BDE-B861-38A61A0B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3B5B-4EE9-4EEC-9011-898561BC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C1F8-42C7-495F-8A6E-C3DE31AF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867DE-CA1B-42C5-8EE4-38D18CCA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3A14-73D5-48F2-9D84-9753FB1B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240-3933-4C5D-8576-25D542C5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0908-4F47-44F0-874E-8024862A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F2B-7524-455A-A4F1-B624AC84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FCEC-22BB-4249-AAA4-3514D358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793-3890-4BD4-B0A7-82348632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309E-C9DD-4F3B-AA3F-E95D0483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B14-81C7-4F18-959E-E85D8998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4723-CBF2-4ED3-853C-18BCAE8E6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EFBB-E79C-4C17-9BF3-32566EB1F8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67652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Escuela de Verano</a:t>
            </a:r>
            <a:br>
              <a:rPr sz="3600"/>
            </a:br>
            <a:r>
              <a:rPr b="1" lang="en-US" sz="3600" spc="-1" strike="noStrike">
                <a:solidFill>
                  <a:srgbClr val="fffe06"/>
                </a:solidFill>
                <a:latin typeface="Arial"/>
              </a:rPr>
              <a:t>Clase # 2</a:t>
            </a:r>
            <a:br>
              <a:rPr sz="3600"/>
            </a:b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 Cosmología: Einstein, de Sitter y Lemaître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e06"/>
                </a:solidFill>
                <a:latin typeface="Arial"/>
              </a:rPr>
              <a:t>Profesor: José Maza Sanch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e06"/>
                </a:solidFill>
                <a:latin typeface="Arial"/>
              </a:rPr>
              <a:t>23 Enero 200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estaba plenamente consciente de las dificultades involucradas en la aproximación newtoniana a la cosm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 fin de evitar los problemas de un universo infinito Einstein introdujo una constante arbitraria,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, que se conoce hasta ahora como la constante cosmológ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Desde un punto de vista matemático la introducción de la constante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es impecable pues es el resultado de la primera integración de las ecuaciones y para preservar el carácter general de la solución es necesario conservar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Inicialmente Einstein la había excluido (hecho nula) para que su teoría no tuviese nuevas constantes que deberían ser determinadas empíricamen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sin embargo si hacía nula la constante no podía encontrar un modelo para el universo que fuese estáti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Obviamente su disgusto por una nueva constante era menor que el que le debe haber producido un modelo no-está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efecto, en 1917 Einstein escribe que el término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“es necesario sólo para el propósito de producir una distribución cuasi-estática de materia”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término gravitacional planteado por la constante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corresponde a una fuerza repulsiva que aumenta con la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e este modo, según Einstein, dos masas se atraerían con una fuerza que disminuye con el cuadrado de la distancia (proporcional a 1/r</a:t>
            </a:r>
            <a:r>
              <a:rPr b="0" lang="es-ES" sz="3200" spc="-1" strike="noStrike" baseline="30000">
                <a:solidFill>
                  <a:srgbClr val="fffe06"/>
                </a:solidFill>
                <a:latin typeface="Arial"/>
              </a:rPr>
              <a:t>2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 y al mismo tiempo se repelerían con una fuerza que aumenta linealmente con la distancia (proporcional a </a:t>
            </a:r>
            <a:r>
              <a:rPr b="0" i="1" lang="es-ES" sz="3200" spc="-1" strike="noStrike">
                <a:solidFill>
                  <a:srgbClr val="fffe06"/>
                </a:solidFill>
                <a:latin typeface="Arial"/>
              </a:rPr>
              <a:t>r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nde hay una distancia a la cual las dos fuerzas se anularí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fuese lo suficientemente pequeña su efecto sería imperceptible a nivel del sistema solar y de la Vía Láctea; sólo a escalas cosmológicas </a:t>
            </a:r>
            <a:r>
              <a:rPr b="0" lang="es-ES" sz="32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mostraría su influ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unque resuelve un problema, su modelo no está exento de otr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universo cerrado en un espacio curvo le permitió a Einstein resolver de una manera elegante los problemas asociados con un universo infini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estructura del espacio tiempo en un universo finito, ilimitado, sujeto a la geometría no-euclidiana, permite una solución estática al modelo cosmológico, que está libre de los problemas de otros mode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882800" y="0"/>
          <a:ext cx="5376960" cy="6477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82800" y="0"/>
                    <a:ext cx="5376960" cy="6477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¿Qué significa espacio-tiempo curv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 ejemplo en una geometría bi-dimensional es un casquete esfé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a criatura plana que viviese en la superficie de una esfera puede hacer varias medidas para determinar la naturaleza geométrica de su mu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drías hacer un triángulo y medir sus ángulos interior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ara su sorpresa encontraría que la suma de los tres ángulos interiores de un triángulo alcanza a más de 180 g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Revisando sus libros de geometría (plana por supuesto) se daría cuenta que vive en un mundo bi-dimensional curvo, esfé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universo de Einstein es curvo, esférico, de modo que viajando siempre en la misma dirección llegaríamos al mismo punto de part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un mundo bi-dimensional construido sobre una superficie que fuese parte de un paraboloide hiperbólico (una silla de montar) la suma de los ángulos interiores de un triángulo es menor que 180 g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principio, si viviésemos en un mundo bi-dimensional, bastaría construir un triángulo, medir sus ángulos y sabríamos de inmediato si el mundo es plano, esférico o hiperból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Así se podría demostrar, en principio, que la superficie de la Tierra no es plan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e06"/>
                </a:solidFill>
                <a:latin typeface="Arial"/>
              </a:rPr>
              <a:t>1.- Introducci</a:t>
            </a:r>
            <a:r>
              <a:rPr b="1" lang="es-ES" sz="4400" spc="-1" strike="noStrike">
                <a:solidFill>
                  <a:srgbClr val="fffe06"/>
                </a:solidFill>
                <a:latin typeface="Arial"/>
                <a:ea typeface="ＭＳ Ｐゴシック"/>
              </a:rPr>
              <a:t>ón</a:t>
            </a: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solución a los problemas encontrados por la física newtoniana para abordar la cosmología vino a manos de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bert Einstei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79-1955) con su teoría general de la rela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introdujo el uso de geometrías no-euclidianas para describir las propiedades del espacio y el tiemp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astrónomo holandés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Willem de Sitter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72-1935) en 1917 resolvió las ecuaciones de Einstein y obtiene tres soluciones para el universo: la solución de Einstein, una segunda solución para un universo sin masa con constante cosmológica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que representa un universo con corrimiento al rojo (en expansión) pero sin ma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l tercer modelo no tiene ni masa ni constante cosmológica. El modelo de de Sitter sin masa (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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= 0) y con 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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e06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 0 es una interesante variación del Universo de Einste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22 el científico rus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Alexandr Friedmann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88-1925) publica una solución de las ecuaciones de Einstein para un caso más gen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riedmann acepta que la curvatura del universo pueda variar en el tiempo (cosa que no hacen ni Einstein ni de Sitter) y posteriormente, en 1924, publica en una revista alemana una versión donde se consideran universos en expansión y en contracción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particular estudia universos con curvatura negativa que él demuestra que pueden contener materia, evitando la dificultad de los universos vacíos de de Si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Friedmann murió prematuramente en 1925 por lo cual su trabajo no llegó más lej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n 1927 el jesuita belga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Georges Lemaître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94-1966) que había estudiado con Eddington en Inglaterra entre 1923-24 y luego se había dirigido al Harvard College Observatory en Estados Unidos, publica una crítica al modelo de de Sitter y desarrolla modelos muy similares a los de Friedmann pero permitiendo expansión, contracción y la presencia de la constante cosmoló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Estos modelos de Lemaître son los más generales que se pueden derivar de la ecuaciones de Einstei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34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Edward Arthur Miln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96-1950)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William H. McRae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se dieron cuenta que era posible rescatar las principales características de los modelos de Friedmann y de Lemaître utilizando la mecánica newtoni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n esta formulación es de gran simpleza comparada con la formulación exacta de la relatividad general se la presenta a continu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185920" y="380880"/>
          <a:ext cx="4770360" cy="5715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5920" y="380880"/>
                    <a:ext cx="4770360" cy="5715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25499" dir="16983315" blurRad="0" rotWithShape="0">
                      <a:srgbClr val="808080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s geometrías no-euclidianas habían sido desarrolladas durante el siglo XIX por varios matemáticos empezando por el mismo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Carl Gauss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que demostró que se puede construir una geometría deductiva consistente si se cambia algunos de los postulados de Eucl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or ejemplo el axioma que sólo se puede trazar una paralela a una recta dada, que pase por un punto dado, puede ser reemplazado diciendo que se pueden trazar muchas o ningu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os matemáticos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Nicolai Lobachevskii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792-1856), ruso y </a:t>
            </a:r>
            <a:r>
              <a:rPr b="1" lang="es-ES" sz="3200" spc="-1" strike="noStrike">
                <a:solidFill>
                  <a:srgbClr val="fffe06"/>
                </a:solidFill>
                <a:latin typeface="Arial"/>
              </a:rPr>
              <a:t>János Bolyai</a:t>
            </a: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 (1802-1860), húngaro, derivaron muchas de las consecuencias de geometrías no-euclidianas donde muchas paralelas pueden ser construida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Otro tipo de geometrías no-euclidianas donde no se pueden trazar paralelas las desarrolló </a:t>
            </a:r>
            <a:r>
              <a:rPr b="1" lang="es-ES" sz="2800" spc="-1" strike="noStrike">
                <a:solidFill>
                  <a:srgbClr val="fffe06"/>
                </a:solidFill>
                <a:latin typeface="Arial"/>
              </a:rPr>
              <a:t>Georg Friedrich Bernhard Riemann</a:t>
            </a: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 (1826-1866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A medida que el campo de las geometrías no-euclidianas se popularizó nuevas técnicas matemáticas fueron desarrolladas para las descripciones analíticas de las diversas geometrías, incluyendo el cálculo tensori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e06"/>
                </a:solidFill>
                <a:latin typeface="Arial"/>
              </a:rPr>
              <a:t>De esta manera Einstein dispuso de las herramientas matemáticas para desarrollar sus nuevas concepciones fís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n 1905 Albert Einstein, un desconocido funcionario de la Oficina de Patentes en Berna, Suiza, publica la teoría Especial de la Relativ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n ello da cuenta del resultado negativo del experimento de Michelson y Morl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La Relatividad especial representa una gran ruptura con la mecánica newtoniana pero sólo se refiere a la cinemá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instein buscó por años una generalización de su teoría que incluyera la dinámica y los campos gravitato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Durante los años 1912-1914 Einstein trabajó con un amigo suizo-alemán Marcel Grossman aplicando geometrías no-euclidianas a los conceptos del espacio-tiemp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Como resultado el pudo describir la gravitación como una deformación de la geometría del espacio-tiempo en la vecindad de un cuerpo masiv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  <a:effectLst>
            <a:outerShdw dist="35806" dir="16966724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  <a:effectLst>
            <a:outerShdw dist="25499" dir="1698331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Ello simplifica la gravitación desde un punto de vista conceptual, pues ya no se necesitan fuerzas o acciones a dista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Sin embargo la matemática para describir la gravitación se hace más complej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Pese a ello la nueva teoría de la gravitación posibilita abordar la cosmolog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e06"/>
                </a:solidFill>
                <a:latin typeface="Arial"/>
              </a:rPr>
              <a:t>Un resultado de estos años son las llamadas ecuaciones de campo de Einstein, que expresan la estructura geométrica general del Univer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1T13:30:55Z</dcterms:created>
  <dc:creator>Jose  Maza</dc:creator>
  <dc:description/>
  <dc:language>en-US</dc:language>
  <cp:lastModifiedBy>Jose  Maza</cp:lastModifiedBy>
  <dcterms:modified xsi:type="dcterms:W3CDTF">2009-01-26T22:50:03Z</dcterms:modified>
  <cp:revision>173</cp:revision>
  <dc:subject/>
  <dc:title>EH 28B: Historia de la Astronomía II 2.02.   Piazzi y el Descubrimiento de los Pequeños Planetas.</dc:title>
</cp:coreProperties>
</file>