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738-DFF1-4E6D-B4E4-FB6C8EF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506-DEA7-4DB6-B437-F772E64A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250-BDC7-4B03-BB82-B860DBA3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EB2-62B3-41EB-9590-CDF358C7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35B4-CF7E-48A1-A7CB-D5939C53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E775-1218-46DF-9372-1874A04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4297-68D9-4359-AF11-BDB274C6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BA94-2F2E-487A-A48B-6DC82778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E58B-FAE5-4D9B-8C2D-4E69CDB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CDBB-DF7B-4540-A7F2-3E98E857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2A8-B774-450C-BF0A-F0FDA1D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5D6-BA35-4811-805F-5868FDF0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B4B-291B-4ABD-9DAD-E800C3B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AAB-053F-46C7-A6CB-8EFFBCD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D07-E826-49AD-8E90-AB04A026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C47E-6CBF-4264-ACDA-9E6382D4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CE78-B3DE-4BB7-8A7D-64CCCA30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CD4-D30D-42B1-9D77-3C676085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0FD-E38A-4C44-B558-095F7A7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AA4-EC4A-46DD-9926-304C52ED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699-70A4-4A85-A332-69CEB7D0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2DB-1A2C-4633-B7AE-9AEC56C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2A5-A858-49BB-8C00-43A1555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A7B-3802-4C7D-96F7-7CC3473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D5BD-D603-4177-A309-08464FC27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509-2FFE-4AC3-8756-D548E2F3C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2</a:t>
            </a:r>
            <a:br>
              <a:rPr sz="3600"/>
            </a:b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 Cosmología: Einstein, de Sitter y Lemaître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3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estaba plenamente consciente de las dificultades involucradas en la aproximación newtoniana a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evitar los problemas de un universo infinito Einstein introdujo una constante arbitraria,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que se conoce hasta ahora como la constante cosm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sde un punto de vista matemático la introducción de la constant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es impecable pues es el resultado de la primera integración de las ecuaciones y para preservar el carácter general de la solución es necesario conserva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Inicialmente Einstein la había excluido (hecho nula) para que su teoría no tuviese nuevas constantes que deberían ser determinadas empíricame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n embargo si hacía nula la constante no podía encontrar un modelo para el universo que fuese est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Obviamente su disgusto por una nueva constante era menor que el que le debe haber producido un modelo no-est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fecto, en 1917 Einstein escribe que el término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“es necesario sólo para el propósito de producir una distribución cuasi-estática de materia”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érmino gravitacional planteado por la constante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corresponde a una fuerza repulsiva que aumenta con l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 este modo, según Einstein, dos masas se atraerían con una fuerza que disminuye con el cuadrado de la distancia (proporcional a 1/r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 y al mismo tiempo se repelerían con una fuerza que aumenta linealmente con la distancia (proporcional 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hay una distancia a la cual las dos fuerzas se anularí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uese lo suficientemente pequeña su efecto sería imperceptible a nivel del sistema solar y de la Vía Láctea; sólo a escalas cosmológicas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ostraría su influ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unque resuelve un problema, su modelo no está exento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universo cerrado en un espacio curvo le permitió a Einstein resolver de una manera elegante los problemas asociados con un universo infi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tructura del espacio tiempo en un universo finito, ilimitado, sujeto a la geometría no-euclidiana, permite una solución estática al modelo cosmológico, que está libre de los problemas de otros mode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882800" y="0"/>
          <a:ext cx="5376960" cy="647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2800" y="0"/>
                    <a:ext cx="5376960" cy="6477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Qué significa espacio-tiempo curv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jemplo en una geometría bi-dimensional es un casquete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a criatura plana que viviese en la superficie de una esfera puede hacer varias medidas para determinar la naturaleza geométrica de su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drías hacer un triángulo y medir sus ángulos interio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su sorpresa encontraría que la suma de los tres ángulos interiores de un triángulo alcanza a más d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visando sus libros de geometría (plana por supuesto) se daría cuenta que vive en un mundo bi-dimensional curvo,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iverso de Einstein es curvo, esférico, de modo que viajando siempre en la misma dirección llegaríamos al mismo punto de par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 mundo bi-dimensional construido sobre una superficie que fuese parte de un paraboloide hiperbólico (una silla de montar) la suma de los ángulos interiores de un triángulo es menor qu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rincipio, si viviésemos en un mundo bi-dimensional, bastaría construir un triángulo, medir sus ángulos y sabríamos de inmediato si el mundo es plano, esférico o hiperbó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sí se podría demostrar, en principio, que la superficie de la Tierra no es pla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-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solución a los problemas encontrados por la física newtoniana para abordar la cosmología vino a manos de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bert Einstei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79-1955) con su teoría gener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introdujo el uso de geometrías no-euclidianas para describir las propiedades del espacio y el tiem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astrónomo holandés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Willem de Sitter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72-1935) en 1917 resolvió las ecuaciones de Einstein y obtiene tres soluciones para el universo: la solución de Einstein, una segunda solución para un universo sin masa con constante cosmológica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que representa un universo con corrimiento al rojo (en expansión) pero sin m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tercer modelo no tiene ni masa ni constante cosmológica. El modelo de de Sitter sin masa (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= 0) y con 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 0 es una interesante variación del Universo de Eins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22 el científico rus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exandr Friedman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88-1925) publica una solución de las ecuaciones de Einstein para un caso más ge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acepta que la curvatura del universo pueda variar en el tiempo (cosa que no hacen ni Einstein ni de Sitter) y posteriormente, en 1924, publica en una revista alemana una versión donde se consideran universos en expansión y en contracció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articular estudia universos con curvatura negativa que él demuestra que pueden contener materia, evitando la dificultad de los universos vacíos de de S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murió prematuramente en 1925 por lo cual su trabajo no llegó más le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1927 el jesuita belga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es Lemaître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94-1966) que había estudiado con Eddington en Inglaterra entre 1923-24 y luego se había dirigido al Harvard College Observatory en Estados Unidos, publica una crítica al modelo de de Sitter y desarrolla modelos muy similares a los de Friedmann pero permitiendo expansión, contracción y la presencia de la constante cosm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s modelos de Lemaître son los más generales que se pueden derivar de la ecuaciones de Einst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34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ard Arthur Mil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96-1950)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William H. McRa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 dieron cuenta que era posible rescatar las principales características de los modelos de Friedmann y de Lemaître utilizando la mecánica newtoni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sta formulación es de gran simpleza comparada con la formulación exacta de la relatividad general se la presenta a contin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85920" y="380880"/>
          <a:ext cx="477036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5920" y="380880"/>
                    <a:ext cx="4770360" cy="571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geometrías no-euclidianas habían sido desarrolladas durante el siglo XIX por varios matemáticos empezando por el mism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arl Gaus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que demostró que se puede construir una geometría deductiva consistente si se cambia algunos de los postulados de Euc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jemplo el axioma que sólo se puede trazar una paralela a una recta dada, que pase por un punto dado, puede ser reemplazado diciendo que se pueden trazar muchas o ningu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matemát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Nicolai Lobachevski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792-1856), ruso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János Bolya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02-1860), húngaro, derivaron muchas de las consecuencias de geometrías no-euclidianas donde muchas paralelas pueden ser construid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Otro tipo de geometrías no-euclidianas donde no se pueden trazar paralelas las desarrolló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 Friedrich Bernhard Riemann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26-186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 medida que el campo de las geometrías no-euclidianas se popularizó nuevas técnicas matemáticas fueron desarrolladas para las descripciones analíticas de las diversas geometrías, incluyendo el cálculo tenso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 esta manera Einstein dispuso de las herramientas matemáticas para desarrollar sus nuevas concepciones fís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05 Albert Einstein, un desconocido funcionario de la Oficina de Patentes en Berna, Suiza, publica la teoría Especi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llo da cuenta del resultado negativo del experimento de Michelson y Mor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elatividad especial representa una gran ruptura con la mecánica newtoniana pero sólo se refiere a la cine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buscó por años una generalización de su teoría que incluyera la dinámica y los campos gravitato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urante los años 1912-1914 Einstein trabajó con un amigo suizo-alemán Marcel Grossman aplicando geometrías no-euclidianas a los conceptos del espacio-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mo resultado el pudo describir la gravitación como una deformación de la geometría del espacio-tiempo en la vecindad de un cuerpo mas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lo simplifica la gravitación desde un punto de vista conceptual, pues ya no se necesitan fuerzas o acciones 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 la matemática para describir la gravitación se hace más comple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se a ello la nueva teoría de la gravitación posibilita abordar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resultado de estos años son las llamadas ecuaciones de campo de Einstein, que expresan la estructura geométrica general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6T22:50:03Z</dcterms:modified>
  <cp:revision>173</cp:revision>
  <dc:subject/>
  <dc:title>EH 28B: Historia de la Astronomía II 2.02.   Piazzi y el Descubrimiento de los Pequeños Planetas.</dc:title>
</cp:coreProperties>
</file>