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099-0EC8-4EC6-9F6F-CF73823B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C8F1-D2F6-4C50-940B-E0B264F1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6053-0C6F-4537-8B45-297FD75A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910-86BD-4B15-A1F7-06A6E66D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0382-B7AF-4CA9-B4F2-F925572A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EA06-92B4-4ED2-9B49-1A833A89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33BC-AD50-4AA2-9ACB-8AAD6818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A65D-6DEF-44C0-AE81-E84919B2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3531-CB54-4F82-BF2B-98770DEC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1C4F-8D21-4F7F-AF66-FF65DF85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E143-75AF-49E8-9705-4E4F3968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A5F-9691-4AD9-8C38-8956934E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4207-1260-4651-8ECD-15CDCB0B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97D2-7DC5-45AE-8C53-E39497D6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0909-BFE8-465A-B66F-087113F8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816C-95B1-49D9-A945-46C5C282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9E0E-6633-4BA4-9AD3-B71322A6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DAA-4317-48AA-9254-E21535C1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DF1A-9F21-4353-8D32-2E1E8E89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DAD3-B655-4AF0-AA99-BCAA8FAE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D7A0-6300-4055-8D1B-01272051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1085-B229-4319-BB06-EE7C2892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AA34-9D13-4C2F-BED5-A5886BB7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E74F-E659-47AA-9FBC-8CE0307C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0EAD-209A-4856-90E1-0A9558212F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24BC-50B4-49A8-8D1F-23DFBF8562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e06"/>
                </a:solidFill>
                <a:latin typeface="Arial"/>
              </a:rPr>
              <a:t>Escuela de Verano</a:t>
            </a:r>
            <a:br>
              <a:rPr sz="3600"/>
            </a:br>
            <a:r>
              <a:rPr b="1" lang="en-US" sz="3600" spc="-1" strike="noStrike">
                <a:solidFill>
                  <a:srgbClr val="fffe06"/>
                </a:solidFill>
                <a:latin typeface="Arial"/>
              </a:rPr>
              <a:t>Clase # 2</a:t>
            </a:r>
            <a:br>
              <a:rPr sz="3600"/>
            </a:b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 Cosmología: Einstein, de Sitter y Lemaître.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</a:rPr>
              <a:t>Profesor: José Maza Sanc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e06"/>
                </a:solidFill>
                <a:latin typeface="Arial"/>
              </a:rPr>
              <a:t>23 Enero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instein estaba plenamente consciente de las dificultades involucradas en la aproximación newtoniana a la cosmolog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 fin de evitar los problemas de un universo infinito Einstein introdujo una constante arbitraria, 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, que se conoce hasta ahora como la constante cosmológ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Desde un punto de vista matemático la introducción de la constante 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es impecable pues es el resultado de la primera integración de las ecuaciones y para preservar el carácter general de la solución es necesario conservar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Inicialmente Einstein la había excluido (hecho nula) para que su teoría no tuviese nuevas constantes que deberían ser determinadas empíricament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sin embargo si hacía nula la constante no podía encontrar un modelo para el universo que fuese estát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Obviamente su disgusto por una nueva constante era menor que el que le debe haber producido un modelo no-estát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efecto, en 1917 Einstein escribe que el término </a:t>
            </a:r>
            <a:r>
              <a:rPr b="0" i="1" lang="es-ES" sz="3200" spc="-1" strike="noStrike">
                <a:solidFill>
                  <a:srgbClr val="fffe06"/>
                </a:solidFill>
                <a:latin typeface="Arial"/>
              </a:rPr>
              <a:t>“es necesario sólo para el propósito de producir una distribución cuasi-estática de materia”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término gravitacional planteado por la constante 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corresponde a una fuerza repulsiva que aumenta con la dista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De este modo, según Einstein, dos masas se atraerían con una fuerza que disminuye con el cuadrado de la distancia (proporcional a 1/r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) y al mismo tiempo se repelerían con una fuerza que aumenta linealmente con la distancia (proporcional a </a:t>
            </a:r>
            <a:r>
              <a:rPr b="0" i="1" lang="es-ES" sz="3200" spc="-1" strike="noStrike">
                <a:solidFill>
                  <a:srgbClr val="fffe06"/>
                </a:solidFill>
                <a:latin typeface="Arial"/>
              </a:rPr>
              <a:t>r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or ende hay una distancia a la cual las dos fuerzas se anularí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Si 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fuese lo suficientemente pequeña su efecto sería imperceptible a nivel del sistema solar y de la Vía Láctea; sólo a escalas cosmológicas 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mostraría su influe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unque resuelve un problema, su modelo no está exento de ot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Un universo cerrado en un espacio curvo le permitió a Einstein resolver de una manera elegante los problemas asociados con un universo infini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estructura del espacio tiempo en un universo finito, ilimitado, sujeto a la geometría no-euclidiana, permite una solución estática al modelo cosmológico, que está libre de los problemas de otros mode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882800" y="0"/>
          <a:ext cx="5376960" cy="6477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82800" y="0"/>
                    <a:ext cx="5376960" cy="6477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5499" dir="16983315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¿Qué significa espacio-tiempo curv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ejemplo en una geometría bi-dimensional es un casquete esfér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Una criatura plana que viviese en la superficie de una esfera puede hacer varias medidas para determinar la naturaleza geométrica de su mun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odrías hacer un triángulo y medir sus ángulos interior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ara su sorpresa encontraría que la suma de los tres ángulos interiores de un triángulo alcanza a más de 180 gr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Revisando sus libros de geometría (plana por supuesto) se daría cuenta que vive en un mundo bi-dimensional curvo, esfér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universo de Einstein es curvo, esférico, de modo que viajando siempre en la misma dirección llegaríamos al mismo punto de part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un mundo bi-dimensional construido sobre una superficie que fuese parte de un paraboloide hiperbólico (una silla de montar) la suma de los ángulos interiores de un triángulo es menor que 180 gr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principio, si viviésemos en un mundo bi-dimensional, bastaría construir un triángulo, medir sus ángulos y sabríamos de inmediato si el mundo es plano, esférico o hiperból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sí se podría demostrar, en principio, que la superficie de la Tierra no es plan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e06"/>
                </a:solidFill>
                <a:latin typeface="Arial"/>
              </a:rPr>
              <a:t>1.- Introducci</a:t>
            </a:r>
            <a:r>
              <a:rPr b="1" lang="es-ES" sz="44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ó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solución a los problemas encontrados por la física newtoniana para abordar la cosmología vino a manos de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Albert Einstein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(1879-1955) con su teoría general de la relativ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instein introdujo el uso de geometrías no-euclidianas para describir las propiedades del espacio y el tiemp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l astrónomo holandés </a:t>
            </a:r>
            <a:r>
              <a:rPr b="1" lang="es-ES" sz="2800" spc="-1" strike="noStrike">
                <a:solidFill>
                  <a:srgbClr val="fffe06"/>
                </a:solidFill>
                <a:latin typeface="Arial"/>
              </a:rPr>
              <a:t>Willem de Sitter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(1872-1935) en 1917 resolvió las ecuaciones de Einstein y obtiene tres soluciones para el universo: la solución de Einstein, una segunda solución para un universo sin masa con constante cosmológica 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que representa un universo con corrimiento al rojo (en expansión) pero sin ma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l tercer modelo no tiene ni masa ni constante cosmológica. El modelo de de Sitter sin masa (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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= 0) y con  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 0 es una interesante variación del Universo de Einste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1922 el científico ruso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Alexandr Friedmann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(1888-1925) publica una solución de las ecuaciones de Einstein para un caso más gene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Friedmann acepta que la curvatura del universo pueda variar en el tiempo (cosa que no hacen ni Einstein ni de Sitter) y posteriormente, en 1924, publica en una revista alemana una versión donde se consideran universos en expansión y en contracción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particular estudia universos con curvatura negativa que él demuestra que pueden contener materia, evitando la dificultad de los universos vacíos de de Si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Friedmann murió prematuramente en 1925 por lo cual su trabajo no llegó más lej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n 1927 el jesuita belga </a:t>
            </a:r>
            <a:r>
              <a:rPr b="1" lang="es-ES" sz="2800" spc="-1" strike="noStrike">
                <a:solidFill>
                  <a:srgbClr val="fffe06"/>
                </a:solidFill>
                <a:latin typeface="Arial"/>
              </a:rPr>
              <a:t>Georges Lemaître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(1894-1966) que había estudiado con Eddington en Inglaterra entre 1923-24 y luego se había dirigido al Harvard College Observatory en Estados Unidos, publica una crítica al modelo de de Sitter y desarrolla modelos muy similares a los de Friedmann pero permitiendo expansión, contracción y la presencia de la constante cosmológ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stos modelos de Lemaître son los más generales que se pueden derivar de la ecuaciones de Einste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1934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Edward Arthur Milne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(1896-1950) y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William H. McRae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se dieron cuenta que era posible rescatar las principales características de los modelos de Friedmann y de Lemaître utilizando la mecánica newtoni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Con esta formulación es de gran simpleza comparada con la formulación exacta de la relatividad general se la presenta a continu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185920" y="380880"/>
          <a:ext cx="4770360" cy="5715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85920" y="380880"/>
                    <a:ext cx="4770360" cy="5715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5499" dir="16983315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s geometrías no-euclidianas habían sido desarrolladas durante el siglo XIX por varios matemáticos empezando por el mismo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Carl Gauss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que demostró que se puede construir una geometría deductiva consistente si se cambia algunos de los postulados de Eucli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or ejemplo el axioma que sólo se puede trazar una paralela a una recta dada, que pase por un punto dado, puede ser reemplazado diciendo que se pueden trazar muchas o ningu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os matemáticos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Nicolai Lobachevskii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(1792-1856), ruso y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János Bolyai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(1802-1860), húngaro, derivaron muchas de las consecuencias de geometrías no-euclidianas donde muchas paralelas pueden ser construid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Otro tipo de geometrías no-euclidianas donde no se pueden trazar paralelas las desarrolló </a:t>
            </a:r>
            <a:r>
              <a:rPr b="1" lang="es-ES" sz="2800" spc="-1" strike="noStrike">
                <a:solidFill>
                  <a:srgbClr val="fffe06"/>
                </a:solidFill>
                <a:latin typeface="Arial"/>
              </a:rPr>
              <a:t>Georg Friedrich Bernhard Riemann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(1826-186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A medida que el campo de las geometrías no-euclidianas se popularizó nuevas técnicas matemáticas fueron desarrolladas para las descripciones analíticas de las diversas geometrías, incluyendo el cálculo tenso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De esta manera Einstein dispuso de las herramientas matemáticas para desarrollar sus nuevas concepciones fís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1905 Albert Einstein, un desconocido funcionario de la Oficina de Patentes en Berna, Suiza, publica la teoría Especial de la Relativ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Con ello da cuenta del resultado negativo del experimento de Michelson y Morl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Relatividad especial representa una gran ruptura con la mecánica newtoniana pero sólo se refiere a la cinemá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instein buscó por años una generalización de su teoría que incluyera la dinámica y los campos gravitator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Durante los años 1912-1914 Einstein trabajó con un amigo suizo-alemán Marcel Grossman aplicando geometrías no-euclidianas a los conceptos del espacio-tiem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Como resultado el pudo describir la gravitación como una deformación de la geometría del espacio-tiempo en la vecindad de un cuerpo masiv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lo simplifica la gravitación desde un punto de vista conceptual, pues ya no se necesitan fuerzas o acciones a dista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Sin embargo la matemática para describir la gravitación se hace más comple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ese a ello la nueva teoría de la gravitación posibilita abordar la cosmolog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Un resultado de estos años son las llamadas ecuaciones de campo de Einstein, que expresan la estructura geométrica general del Univer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13:30:55Z</dcterms:created>
  <dc:creator>Jose  Maza</dc:creator>
  <dc:description/>
  <dc:language>en-US</dc:language>
  <cp:lastModifiedBy>Jose  Maza</cp:lastModifiedBy>
  <dcterms:modified xsi:type="dcterms:W3CDTF">2009-01-26T22:50:03Z</dcterms:modified>
  <cp:revision>173</cp:revision>
  <dc:subject/>
  <dc:title>EH 28B: Historia de la Astronomía II 2.02.   Piazzi y el Descubrimiento de los Pequeños Planetas.</dc:title>
</cp:coreProperties>
</file>