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E73-2BDC-4139-92EA-DB1E36C0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8FE-C2B8-47AF-937E-C8823687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3FA-1743-45F5-B7CB-BF95BBF1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741-41C8-4F0E-8147-28EFF899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6639-1DF2-4E32-815D-EC8869BE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467D-BA2B-48A0-A9A2-6EB45394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0F3A-CA04-4136-A532-C82852E2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9E1B-03E6-4C84-AC44-6E29214F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FD42-5894-4A3E-90BD-B5692223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0151-6553-4A1C-B297-FD0820B6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3D04-DA2C-48CD-A9BB-AA0BE0BC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A85-32E7-4AC0-9296-DAF98B32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5E46-510C-40C7-A98E-3CAE1E1C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161C-74ED-4A92-BF2F-EB1F88FE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1C11-08C2-44D5-B92D-ECFBB231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3FED-1F06-4A29-9885-107993BF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9639-0556-400F-92FA-EA7E0F87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8FF-C8FE-4E98-892C-C080D843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666-BD3D-4258-BEED-03FEACC0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558-169C-4391-BBB6-91E4958D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0CA-991A-4E75-AE04-9BA8A2FE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803-833B-4E61-902C-76E9A856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8ED-1E09-4D87-B33A-ED5CF84B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B5C-6D13-4C34-9581-3A1DB8AB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6608-0A2C-45AC-821C-6C088A8AA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858F-9A01-4059-9140-E54B8A813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Escuela de Verano</a:t>
            </a:r>
            <a:br>
              <a:rPr sz="3600"/>
            </a:b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Clase # 2</a:t>
            </a:r>
            <a:br>
              <a:rPr sz="3600"/>
            </a:b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 Cosmología: Einstein, de Sitter y Lemaître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Profesor: José Maza San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6"/>
                </a:solidFill>
                <a:latin typeface="Arial"/>
              </a:rPr>
              <a:t>23 Enero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estaba plenamente consciente de las dificultades involucradas en la aproximación newtoniana a la cosm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fin de evitar los problemas de un universo infinito Einstein introdujo una constante arbitraria,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, que se conoce hasta ahora como la constante cosmológ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Desde un punto de vista matemático la introducción de la constante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es impecable pues es el resultado de la primera integración de las ecuaciones y para preservar el carácter general de la solución es necesario conservar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Inicialmente Einstein la había excluido (hecho nula) para que su teoría no tuviese nuevas constantes que deberían ser determinadas empíricamen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sin embargo si hacía nula la constante no podía encontrar un modelo para el universo que fuese está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Obviamente su disgusto por una nueva constante era menor que el que le debe haber producido un modelo no-está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efecto, en 1917 Einstein escribe que el término </a:t>
            </a:r>
            <a:r>
              <a:rPr b="0" i="1" lang="es-ES" sz="3200" spc="-1" strike="noStrike">
                <a:solidFill>
                  <a:srgbClr val="fffe06"/>
                </a:solidFill>
                <a:latin typeface="Arial"/>
              </a:rPr>
              <a:t>“es necesario sólo para el propósito de producir una distribución cuasi-estática de materia”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término gravitacional planteado por la constante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corresponde a una fuerza repulsiva que aumenta con la dista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e este modo, según Einstein, dos masas se atraerían con una fuerza que disminuye con el cuadrado de la distancia (proporcional a 1/r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 y al mismo tiempo se repelerían con una fuerza que aumenta linealmente con la distancia (proporcional a </a:t>
            </a:r>
            <a:r>
              <a:rPr b="0" i="1" lang="es-ES" sz="3200" spc="-1" strike="noStrike">
                <a:solidFill>
                  <a:srgbClr val="fffe06"/>
                </a:solidFill>
                <a:latin typeface="Arial"/>
              </a:rPr>
              <a:t>r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nde hay una distancia a la cual las dos fuerzas se anularí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fuese lo suficientemente pequeña su efecto sería imperceptible a nivel del sistema solar y de la Vía Láctea; sólo a escalas cosmológicas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ostraría su influ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unque resuelve un problema, su modelo no está exento de 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universo cerrado en un espacio curvo le permitió a Einstein resolver de una manera elegante los problemas asociados con un universo infin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structura del espacio tiempo en un universo finito, ilimitado, sujeto a la geometría no-euclidiana, permite una solución estática al modelo cosmológico, que está libre de los problemas de otros mode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882800" y="0"/>
          <a:ext cx="5376960" cy="6477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82800" y="0"/>
                    <a:ext cx="5376960" cy="6477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¿Qué significa espacio-tiempo curv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ejemplo en una geometría bi-dimensional es un casquete esfé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a criatura plana que viviese en la superficie de una esfera puede hacer varias medidas para determinar la naturaleza geométrica de su mun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drías hacer un triángulo y medir sus ángulos interior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ara su sorpresa encontraría que la suma de los tres ángulos interiores de un triángulo alcanza a más de 180 g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Revisando sus libros de geometría (plana por supuesto) se daría cuenta que vive en un mundo bi-dimensional curvo, esfé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universo de Einstein es curvo, esférico, de modo que viajando siempre en la misma dirección llegaríamos al mismo punto de part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un mundo bi-dimensional construido sobre una superficie que fuese parte de un paraboloide hiperbólico (una silla de montar) la suma de los ángulos interiores de un triángulo es menor que 180 g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principio, si viviésemos en un mundo bi-dimensional, bastaría construir un triángulo, medir sus ángulos y sabríamos de inmediato si el mundo es plano, esférico o hiperból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sí se podría demostrar, en principio, que la superficie de la Tierra no es pla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1.- Introducci</a:t>
            </a:r>
            <a:r>
              <a:rPr b="1" lang="es-ES" sz="44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solución a los problemas encontrados por la física newtoniana para abordar la cosmología vino a manos de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lbert Einstein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79-1955) con su teoría general de la rela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introdujo el uso de geometrías no-euclidianas para describir las propiedades del espacio y el tiemp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l astrónomo holandés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Willem de Sitter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72-1935) en 1917 resolvió las ecuaciones de Einstein y obtiene tres soluciones para el universo: la solución de Einstein, una segunda solución para un universo sin masa con constante cosmológica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que representa un universo con corrimiento al rojo (en expansión) pero sin m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l tercer modelo no tiene ni masa ni constante cosmológica. El modelo de de Sitter sin masa (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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= 0) y con 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 0 es una interesante variación del Universo de Einst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22 el científico ruso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lexandr Friedmann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88-1925) publica una solución de las ecuaciones de Einstein para un caso más gen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riedmann acepta que la curvatura del universo pueda variar en el tiempo (cosa que no hacen ni Einstein ni de Sitter) y posteriormente, en 1924, publica en una revista alemana una versión donde se consideran universos en expansión y en contracción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particular estudia universos con curvatura negativa que él demuestra que pueden contener materia, evitando la dificultad de los universos vacíos de de Si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riedmann murió prematuramente en 1925 por lo cual su trabajo no llegó más lej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n 1927 el jesuita belga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Georges Lemaître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94-1966) que había estudiado con Eddington en Inglaterra entre 1923-24 y luego se había dirigido al Harvard College Observatory en Estados Unidos, publica una crítica al modelo de de Sitter y desarrolla modelos muy similares a los de Friedmann pero permitiendo expansión, contracción y la presencia de la constante cosmoló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stos modelos de Lemaître son los más generales que se pueden derivar de la ecuaciones de Einste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34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Edward Arthur Miln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96-1950) y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William H. McRa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 dieron cuenta que era posible rescatar las principales características de los modelos de Friedmann y de Lemaître utilizando la mecánica newtoni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n esta formulación es de gran simpleza comparada con la formulación exacta de la relatividad general se la presenta a continu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185920" y="380880"/>
          <a:ext cx="4770360" cy="571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5920" y="380880"/>
                    <a:ext cx="4770360" cy="5715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s geometrías no-euclidianas habían sido desarrolladas durante el siglo XIX por varios matemáticos empezando por el mismo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Carl Gauss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que demostró que se puede construir una geometría deductiva consistente si se cambia algunos de los postulados de Euc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jemplo el axioma que sólo se puede trazar una paralela a una recta dada, que pase por un punto dado, puede ser reemplazado diciendo que se pueden trazar muchas o ningu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os matemáticos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Nicolai Lobachevskii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792-1856), ruso y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János Bolyai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02-1860), húngaro, derivaron muchas de las consecuencias de geometrías no-euclidianas donde muchas paralelas pueden ser construid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Otro tipo de geometrías no-euclidianas donde no se pueden trazar paralelas las desarrolló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Georg Friedrich Bernhard Riemann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26-186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A medida que el campo de las geometrías no-euclidianas se popularizó nuevas técnicas matemáticas fueron desarrolladas para las descripciones analíticas de las diversas geometrías, incluyendo el cálculo tenso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De esta manera Einstein dispuso de las herramientas matemáticas para desarrollar sus nuevas concepciones fís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05 Albert Einstein, un desconocido funcionario de la Oficina de Patentes en Berna, Suiza, publica la teoría Especial de la Rela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n ello da cuenta del resultado negativo del experimento de Michelson y Morl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Relatividad especial representa una gran ruptura con la mecánica newtoniana pero sólo se refiere a la cinemá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buscó por años una generalización de su teoría que incluyera la dinámica y los campos gravitato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urante los años 1912-1914 Einstein trabajó con un amigo suizo-alemán Marcel Grossman aplicando geometrías no-euclidianas a los conceptos del espacio-tiem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mo resultado el pudo describir la gravitación como una deformación de la geometría del espacio-tiempo en la vecindad de un cuerpo mas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lo simplifica la gravitación desde un punto de vista conceptual, pues ya no se necesitan fuerzas o acciones a dista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n embargo la matemática para describir la gravitación se hace más comple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ese a ello la nueva teoría de la gravitación posibilita abordar la cosm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resultado de estos años son las llamadas ecuaciones de campo de Einstein, que expresan la estructura geométrica general d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3:30:55Z</dcterms:created>
  <dc:creator>Jose  Maza</dc:creator>
  <dc:description/>
  <dc:language>en-US</dc:language>
  <cp:lastModifiedBy>Jose  Maza</cp:lastModifiedBy>
  <dcterms:modified xsi:type="dcterms:W3CDTF">2009-01-26T22:50:03Z</dcterms:modified>
  <cp:revision>173</cp:revision>
  <dc:subject/>
  <dc:title>EH 28B: Historia de la Astronomía II 2.02.   Piazzi y el Descubrimiento de los Pequeños Planetas.</dc:title>
</cp:coreProperties>
</file>