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14.png" ContentType="image/png"/>
  <Override PartName="/ppt/media/image23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102475" cy="9388475"/>
  <p:custShowLst>
    <p:custShow name="Presentación personalizada 1" id="0">
      <p:sldLst>
        <p:sld r:id="rId21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DB1-78E8-4F37-BDB5-D3C7130D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82B7-F5AC-4B96-92C5-51D5792B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641D-A26D-4E61-8CA8-60E02EDA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C6F6-4EF6-4B73-9EBF-494E018E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7F0-1EEC-4800-8B2F-F1039582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C74-94E7-435E-B9B2-43AFFD94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90F-BF81-49A9-9E6F-57193297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CD4C-D1D6-44FD-9521-D0041D38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A51-2DC3-4B42-A209-9856F64E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A796-B932-451C-A1AE-D50982B8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4CED-44B7-4C8F-B9E3-E869170C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C57-2820-478A-AFCF-17550B65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8961-5B31-4677-991F-7E2EA5480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cl.uwc.org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03280" y="1628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1844640"/>
            <a:ext cx="78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ReservoirGrunge"/>
              </a:rPr>
              <a:t>Intercambio de Gases alveolar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5516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8000"/>
                </a:solidFill>
                <a:latin typeface="Century Gothic"/>
              </a:rPr>
              <a:t>Al. Rodrigo Díaz Pera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6240" cy="1655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116000" y="692280"/>
            <a:ext cx="2592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Escuela de Verano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Barrera Hematogase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4170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Alveo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0920" y="2087640"/>
            <a:ext cx="4465440" cy="3562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9280" y="2076480"/>
            <a:ext cx="4033800" cy="3578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292720" y="1557360"/>
            <a:ext cx="18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so Sanguín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191628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623736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spacio Alveol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7236000" y="4508640"/>
            <a:ext cx="72720" cy="1728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Ventilación Pulmon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aire pulmonar se va renovando mediante la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Ventilación Pulmon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 cada ciclo respiratorio entra (durante la fase de inspiración) y sale (durante la fase de espiración) un volumen que en condiciones de reposo es de aproximadamente 500 ml de aire: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olumen Corriente (VC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Ventilación Pulmon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 denomina ventilación pulmonar total (V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al volumen de aire que sale del pulmón por unidad de tiempo (min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= VC • f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= 6 L/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n embargo sólo una parte de este flujo participa en la renovación del gas alveolar: la </a:t>
            </a:r>
            <a:r>
              <a:rPr b="0" lang="es-ES" sz="2400" spc="-1" strike="noStrike">
                <a:solidFill>
                  <a:srgbClr val="00ff00"/>
                </a:solidFill>
                <a:latin typeface="Arial"/>
              </a:rPr>
              <a:t>Ventilación Alveol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V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= f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• [ VC – EM ] = 4,2 L/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92720" y="342900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3645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2637000"/>
            <a:ext cx="21607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C = 50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v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12 min</a:t>
            </a:r>
            <a:r>
              <a:rPr b="0" lang="es-ES" sz="18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59280" y="2565360"/>
            <a:ext cx="144360" cy="10080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9280" y="4581360"/>
            <a:ext cx="1873080" cy="1368720"/>
          </a:xfrm>
          <a:prstGeom prst="ellipse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4869000"/>
            <a:ext cx="647640" cy="647640"/>
          </a:xfrm>
          <a:prstGeom prst="ellipse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547280" y="5734080"/>
            <a:ext cx="360360" cy="287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59280" y="5445000"/>
            <a:ext cx="1081080" cy="57636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602136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Volumen de aire que sale desde los alveolos en cada espiración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6021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spacio Mu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00720" y="4941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 = 150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4724280"/>
            <a:ext cx="73080" cy="792360"/>
          </a:xfrm>
          <a:custGeom>
            <a:avLst/>
            <a:gdLst>
              <a:gd name="textAreaLeft" fmla="*/ 46800 w 73080"/>
              <a:gd name="textAreaRight" fmla="*/ 73440 w 7308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Espacio Mu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766880" y="1800360"/>
            <a:ext cx="561024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Clasificación del Espacio Mu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pacio Muer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2133720"/>
            <a:ext cx="3960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Britannic Bold"/>
              </a:rPr>
              <a:t>Anatómi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Vías Aé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645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ritannic Bold"/>
              </a:rPr>
              <a:t>Fisiológic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Cambios en V/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325000">
            <a:off x="3755520" y="3351240"/>
            <a:ext cx="863640" cy="288720"/>
          </a:xfrm>
          <a:prstGeom prst="rightArrow">
            <a:avLst>
              <a:gd name="adj1" fmla="val 50000"/>
              <a:gd name="adj2" fmla="val 7478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9867800">
            <a:off x="3779640" y="2565360"/>
            <a:ext cx="863280" cy="289080"/>
          </a:xfrm>
          <a:prstGeom prst="rightArrow">
            <a:avLst>
              <a:gd name="adj1" fmla="val 50000"/>
              <a:gd name="adj2" fmla="val 74658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0720" y="2349360"/>
            <a:ext cx="433440" cy="144720"/>
          </a:xfrm>
          <a:prstGeom prst="rightArrow">
            <a:avLst>
              <a:gd name="adj1" fmla="val 50000"/>
              <a:gd name="adj2" fmla="val 74876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27640" y="3860640"/>
            <a:ext cx="433440" cy="144720"/>
          </a:xfrm>
          <a:prstGeom prst="rightArrow">
            <a:avLst>
              <a:gd name="adj1" fmla="val 50000"/>
              <a:gd name="adj2" fmla="val 74876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275000"/>
            <a:ext cx="3024360" cy="2583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00720" y="479736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599160" y="4292640"/>
            <a:ext cx="25448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Cambios V/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249800" cy="3394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643280" y="1773360"/>
            <a:ext cx="4316400" cy="3236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26920" y="551664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En reposo la mayor parte del aire está en la parte superior del pulm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48360" y="5445000"/>
            <a:ext cx="331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Arial"/>
              </a:rPr>
              <a:t>Por el contrario, la distribución del flujo sanguíneo es mayor hacia las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¿Qué importancia tiene la relación V/Q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89280"/>
            <a:ext cx="4038480" cy="394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3280" y="1969920"/>
            <a:ext cx="4032360" cy="3770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19280" y="6093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Britannic Bold"/>
              </a:rPr>
              <a:t>Neumo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1640" y="602136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Britannic Bold"/>
              </a:rPr>
              <a:t>Tuberculo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Don Miguel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3960720" cy="2851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0" y="2185920"/>
            <a:ext cx="4321080" cy="3457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63640" y="609300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¿Qué pasó con su Espacio Muerto? 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¿Cómo podemos obtener aire alveolar no contaminado con aire del espacio muert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9280" y="3212640"/>
            <a:ext cx="40388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 puede colectar la fracción de aire que sale del pulmón hacia el final de la espi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3810240" cy="30477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Características del Pulm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pulmón es un órgano diseñado para el intercambio gaseo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809960" y="2052720"/>
            <a:ext cx="3714840" cy="3619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8000" y="3573360"/>
            <a:ext cx="64800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437000"/>
            <a:ext cx="3673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Mecanismos involucrad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Vent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Difusión alveolo – capi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Transporte de gases en san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Regu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Intercambio de Gases Alveol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estra atmósfera tiene un mayor porcentaje de gas Nitrógeno que del resto de los gases (80%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 el segundo en importancia con casi un 2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el gas más importante para l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es v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as mitocondrias no respiran         sin respiración no hay ATP        sin ATP no hay energía celular y éstas sin energía química se mueren.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1186200" y="3141000"/>
            <a:ext cx="576360" cy="431640"/>
          </a:xfrm>
          <a:custGeom>
            <a:avLst/>
            <a:gdLst>
              <a:gd name="textAreaLeft" fmla="*/ 192240 w 576360"/>
              <a:gd name="textAreaRight" fmla="*/ 493920 w 576360"/>
              <a:gd name="textAreaTop" fmla="*/ 248760 h 431640"/>
              <a:gd name="textAreaBottom" fmla="*/ 3697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7890000">
            <a:off x="1313640" y="4023360"/>
            <a:ext cx="610920" cy="574560"/>
          </a:xfrm>
          <a:custGeom>
            <a:avLst/>
            <a:gdLst>
              <a:gd name="textAreaLeft" fmla="*/ 95400 w 610920"/>
              <a:gd name="textAreaRight" fmla="*/ 534600 w 610920"/>
              <a:gd name="textAreaTop" fmla="*/ 143640 h 574560"/>
              <a:gd name="textAreaBottom" fmla="*/ 430920 h 57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96000" y="472428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5084640"/>
            <a:ext cx="433440" cy="216000"/>
          </a:xfrm>
          <a:prstGeom prst="rightArrow">
            <a:avLst>
              <a:gd name="adj1" fmla="val 50000"/>
              <a:gd name="adj2" fmla="val 501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El alvéolo pulmonar es donde se produce el intercambio de 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ritannic Bol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 y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Britannic Bold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 entre la atmósfera y la sangre alve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258920" y="1708200"/>
            <a:ext cx="676764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Ley de Dalt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33cc33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cc33"/>
                </a:solidFill>
                <a:uFillTx/>
                <a:latin typeface="Showcard Gothic"/>
              </a:rPr>
              <a:t>Ley de Dalto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establece que la presión total de una mezcla de gases es igual a la suma de las presiones parciales de cada uno de los componentes de la mezc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P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Pb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... +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Pt: Presión total. Pa + Pb + Pn: son las presiones parciales de los gases a, b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i="1" lang="es-ES" sz="2000" spc="-1" strike="noStrike">
                <a:solidFill>
                  <a:srgbClr val="33cc33"/>
                </a:solidFill>
                <a:latin typeface="Arial"/>
              </a:rPr>
              <a:t>Presión Parcia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de un gas en la atmósfera es la presión a la que se encuentra ese gas dentro de la mezcla de gases de la atmósf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ún Dalton a nivel del mar la presión atmosférica 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º atm. = PN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P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PCO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+ PH</a:t>
            </a:r>
            <a:r>
              <a:rPr b="0" lang="es-E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 = 760 mmHg =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Gases Atmosfé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la atmósfera, la presión de cualquier gas dependerá de la altura y de la temperatura ambien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n Santiago, a 20º C, las presiones parciales de los gases serán aproximad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H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O = 5,7 mmHg (0,7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C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0,3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mmHg (0,03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N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596 mmHg (78,44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158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mmHg (20,7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•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mo la presión total es igual a la suma de las presiones parciales cada vez que aumenta alguna de las presiones parciales de un gas en particular lo hace a expensas del resto de los gases!!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356000" y="37162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 total = 760 mmHg (10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51280" y="3213000"/>
            <a:ext cx="144360" cy="1368360"/>
          </a:xfrm>
          <a:custGeom>
            <a:avLst/>
            <a:gdLst>
              <a:gd name="textAreaLeft" fmla="*/ 0 w 144360"/>
              <a:gd name="textAreaRight" fmla="*/ 5220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10"/>
                </a:lnTo>
                <a:cubicBezTo>
                  <a:pt x="10800" y="9910"/>
                  <a:pt x="16200" y="10810"/>
                  <a:pt x="21600" y="10810"/>
                </a:cubicBezTo>
                <a:cubicBezTo>
                  <a:pt x="16200" y="10810"/>
                  <a:pt x="10800" y="11710"/>
                  <a:pt x="10800" y="1261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5411880" cy="5472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940360" y="836640"/>
            <a:ext cx="2765520" cy="5102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11280" y="6308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Britannic Bold"/>
              </a:rPr>
              <a:t>A mayor altitud ¿qué pasa con la presión parcial de los ga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6121440" cy="5113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987640" y="836640"/>
            <a:ext cx="647640" cy="4316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27640" y="2205000"/>
            <a:ext cx="503280" cy="432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89000"/>
            <a:ext cx="1619280" cy="34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La PO</a:t>
            </a:r>
            <a:r>
              <a:rPr b="0" lang="es-ES" sz="1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  atmosférica es 158 mmHg, ésta disminuye cuando el aire entra al alvéo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s-ES" sz="1400" spc="-1" strike="noStrike">
                <a:solidFill>
                  <a:srgbClr val="33cc33"/>
                </a:solidFill>
                <a:latin typeface="Century Gothic"/>
              </a:rPr>
              <a:t>↑ PCO</a:t>
            </a:r>
            <a:r>
              <a:rPr b="0" lang="es-ES" sz="1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: por intercambio gaseos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- </a:t>
            </a:r>
            <a:r>
              <a:rPr b="0" lang="es-ES" sz="1400" spc="-1" strike="noStrike">
                <a:solidFill>
                  <a:srgbClr val="33cc33"/>
                </a:solidFill>
                <a:latin typeface="Century Gothic"/>
              </a:rPr>
              <a:t>↑ PH</a:t>
            </a:r>
            <a:r>
              <a:rPr b="0" lang="es-ES" sz="1800" spc="-1" strike="noStrike" baseline="-25000">
                <a:solidFill>
                  <a:srgbClr val="33cc33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33cc33"/>
                </a:solidFill>
                <a:latin typeface="Century Gothic"/>
              </a:rPr>
              <a:t>O</a:t>
            </a:r>
            <a:r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: Humedificación del ai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1557360"/>
            <a:ext cx="288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403280" y="1125360"/>
            <a:ext cx="1584360" cy="648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03280" y="1773360"/>
            <a:ext cx="3024360" cy="57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56000" y="2133720"/>
            <a:ext cx="647640" cy="6476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933720"/>
            <a:ext cx="1979640" cy="270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Century Gothic"/>
              </a:rPr>
              <a:t>A pesar de la disminución atmósfera – alvéolo pulmonar, todavía existe una diferencia de 60 mmHg con el O</a:t>
            </a:r>
            <a:r>
              <a:rPr b="0" lang="es-ES" sz="1400" spc="-1" strike="noStrike" baseline="-25000">
                <a:solidFill>
                  <a:srgbClr val="333399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333399"/>
                </a:solidFill>
                <a:latin typeface="Century Gothic"/>
              </a:rPr>
              <a:t> del capilar venoso pulmonar (40 mmHg), suficiente para que difunda el O</a:t>
            </a:r>
            <a:r>
              <a:rPr b="0" lang="es-ES" sz="1400" spc="-1" strike="noStrike" baseline="-25000">
                <a:solidFill>
                  <a:srgbClr val="333399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333399"/>
                </a:solidFill>
                <a:latin typeface="Century Gothic"/>
              </a:rPr>
              <a:t> a la sangre venosa capi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692360" y="2565000"/>
            <a:ext cx="2663640" cy="165564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4005360"/>
            <a:ext cx="360360" cy="360360"/>
          </a:xfrm>
          <a:prstGeom prst="ellipse">
            <a:avLst/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380360" y="1197000"/>
            <a:ext cx="1763640" cy="53442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El aumento de la PCO</a:t>
            </a:r>
            <a:r>
              <a:rPr b="0" lang="es-ES" sz="1400" spc="-1" strike="noStrike" baseline="-25000">
                <a:solidFill>
                  <a:srgbClr val="ffff66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 alveolar se debe a la excreción de CO</a:t>
            </a:r>
            <a:r>
              <a:rPr b="0" lang="es-ES" sz="1400" spc="-1" strike="noStrike" baseline="-25000">
                <a:solidFill>
                  <a:srgbClr val="ffff66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 a través de la membrana alveolo – capilar al capilar arterial alveo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Existe un gradiente de 6 mmHg entre la PCO</a:t>
            </a:r>
            <a:r>
              <a:rPr b="0" lang="es-ES" sz="1400" spc="-1" strike="noStrike" baseline="-25000">
                <a:solidFill>
                  <a:srgbClr val="ffff66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 venosa y la alveol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A pesar de esta mínima diferencia, el CO</a:t>
            </a:r>
            <a:r>
              <a:rPr b="0" lang="es-ES" sz="1400" spc="-1" strike="noStrike" baseline="-25000">
                <a:solidFill>
                  <a:srgbClr val="ffff66"/>
                </a:solidFill>
                <a:latin typeface="Century Gothic"/>
              </a:rPr>
              <a:t>2</a:t>
            </a:r>
            <a:r>
              <a:rPr b="0" lang="es-ES" sz="1400" spc="-1" strike="noStrike">
                <a:solidFill>
                  <a:srgbClr val="ffff66"/>
                </a:solidFill>
                <a:latin typeface="Century Gothic"/>
              </a:rPr>
              <a:t> sigue siendo el gas más difusible en la membrana respirato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01080" y="321300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01080" y="4724280"/>
            <a:ext cx="28728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2916360" y="3357720"/>
            <a:ext cx="4535280" cy="79200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2708280"/>
            <a:ext cx="2663640" cy="64944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042920" y="27813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itannic Bold"/>
              </a:rPr>
              <a:t>Un poco de aplicación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Apnea Volunt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Showcard Gothic"/>
              </a:rPr>
              <a:t>Apnea</a:t>
            </a:r>
            <a:r>
              <a:rPr b="0" lang="en-US" sz="2400" spc="-1" strike="noStrike">
                <a:solidFill>
                  <a:srgbClr val="0066ff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Es la detención completa de lo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ovimientos respiratorios (asfixia)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1773360"/>
            <a:ext cx="576360" cy="144360"/>
          </a:xfrm>
          <a:custGeom>
            <a:avLst/>
            <a:gdLst>
              <a:gd name="textAreaLeft" fmla="*/ 0 w 576360"/>
              <a:gd name="textAreaRight" fmla="*/ 576720 w 57636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3284640"/>
            <a:ext cx="43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¿Qué pasa con los gases alveolares en este ca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9461600">
            <a:off x="1763280" y="2133720"/>
            <a:ext cx="432000" cy="1295280"/>
          </a:xfrm>
          <a:prstGeom prst="downArrow">
            <a:avLst>
              <a:gd name="adj1" fmla="val 50000"/>
              <a:gd name="adj2" fmla="val 7495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5084640"/>
            <a:ext cx="12952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↓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↑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4221000"/>
            <a:ext cx="576000" cy="792360"/>
          </a:xfrm>
          <a:prstGeom prst="downArrow">
            <a:avLst>
              <a:gd name="adj1" fmla="val 50000"/>
              <a:gd name="adj2" fmla="val 3439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9493400">
            <a:off x="5651280" y="5013000"/>
            <a:ext cx="30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8945000">
            <a:off x="5539320" y="4730040"/>
            <a:ext cx="31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Showcard Gothic"/>
              </a:rPr>
              <a:t>¿POR QUÉ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Hiperventi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Century Gothic"/>
              </a:rPr>
              <a:t>Hiperventilación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          Es una respiración rápida 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       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profunda, generalment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                                         </a:t>
            </a:r>
            <a:r>
              <a:rPr b="0" lang="es-ES" sz="2400" spc="-1" strike="noStrike">
                <a:solidFill>
                  <a:srgbClr val="ffffff"/>
                </a:solidFill>
                <a:latin typeface="Century Gothic"/>
              </a:rPr>
              <a:t>causada por ansiedad o pán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1676520"/>
            <a:ext cx="35892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00360" y="371628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entury Gothic"/>
              </a:rPr>
              <a:t>¿Qué cambios tendrán los gases alveol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5373720"/>
            <a:ext cx="129528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↑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↓ </a:t>
            </a: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P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9159800">
            <a:off x="2003040" y="2076120"/>
            <a:ext cx="503280" cy="1728720"/>
          </a:xfrm>
          <a:prstGeom prst="downArrow">
            <a:avLst>
              <a:gd name="adj1" fmla="val 50000"/>
              <a:gd name="adj2" fmla="val 8587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4724280"/>
            <a:ext cx="576000" cy="576360"/>
          </a:xfrm>
          <a:prstGeom prst="downArrow">
            <a:avLst>
              <a:gd name="adj1" fmla="val 50000"/>
              <a:gd name="adj2" fmla="val 25016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9493400">
            <a:off x="5247000" y="4985640"/>
            <a:ext cx="371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howcard Gothic"/>
              </a:rPr>
              <a:t>¿POR QUÉ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ritannic Bold"/>
              </a:rPr>
              <a:t>Ejercicio Isotón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Font typeface="Showcard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ff"/>
                </a:solidFill>
                <a:uFillTx/>
                <a:latin typeface="Showcard Gothic"/>
              </a:rPr>
              <a:t>Ejercicio Físic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entury Gothic"/>
              </a:rPr>
              <a:t>¿Qué efectos tie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198900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32360" y="1844640"/>
            <a:ext cx="29527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Se produce más CO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 por el aumento del trabajo mus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3068640"/>
            <a:ext cx="2879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↓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O 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porque aumenta su consu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8166000">
            <a:off x="4140360" y="2349360"/>
            <a:ext cx="868320" cy="843120"/>
          </a:xfrm>
          <a:custGeom>
            <a:avLst/>
            <a:gdLst>
              <a:gd name="textAreaLeft" fmla="*/ 249120 w 868320"/>
              <a:gd name="textAreaRight" fmla="*/ 743760 w 868320"/>
              <a:gd name="textAreaTop" fmla="*/ 485640 h 843120"/>
              <a:gd name="textAreaBottom" fmla="*/ 722160 h 84312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87280" y="4581360"/>
            <a:ext cx="244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Sin embargo, esta composición de los gases en sangre provoca una </a:t>
            </a:r>
            <a:r>
              <a:rPr b="1" i="1" lang="en-US" sz="1800" spc="-1" strike="noStrike">
                <a:solidFill>
                  <a:srgbClr val="33cc33"/>
                </a:solidFill>
                <a:latin typeface="Century Gothic"/>
              </a:rPr>
              <a:t>HIPERVENTI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631600">
            <a:off x="3563640" y="3429000"/>
            <a:ext cx="431640" cy="1150920"/>
          </a:xfrm>
          <a:prstGeom prst="downArrow">
            <a:avLst>
              <a:gd name="adj1" fmla="val 50000"/>
              <a:gd name="adj2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84720" y="4508640"/>
            <a:ext cx="23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Esto impide que se acumulen en el alvéolo, manteniendo su equilib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24360" y="5084640"/>
            <a:ext cx="1728720" cy="505080"/>
          </a:xfrm>
          <a:prstGeom prst="rightArrow">
            <a:avLst>
              <a:gd name="adj1" fmla="val 50000"/>
              <a:gd name="adj2" fmla="val 855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Fisiología de la Ventilación Pulmon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860480"/>
            <a:ext cx="828036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908000" y="2637000"/>
            <a:ext cx="35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DUDAS?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95680" y="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l.uwc.or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5335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3300"/>
                </a:solidFill>
                <a:latin typeface="Arial"/>
              </a:rPr>
              <a:t>UNITED WORLD COLLE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itannic Bold"/>
              </a:rPr>
              <a:t>Músculos Involucr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8036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ritannic Bold"/>
              </a:rPr>
              <a:t>Ventilación: Presión Intratorác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749016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ritannic Bold"/>
              </a:rPr>
              <a:t>Barrera Hematogaseo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ntercambio de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urre ent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ire que ocupa los alvé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ngre de los capilares pulmon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BARRERA HEMATOGASE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3600360" cy="5111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24000" y="4365720"/>
            <a:ext cx="432000" cy="647640"/>
          </a:xfrm>
          <a:prstGeom prst="downArrow">
            <a:avLst>
              <a:gd name="adj1" fmla="val 50000"/>
              <a:gd name="adj2" fmla="val 374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24000" y="2133720"/>
            <a:ext cx="433440" cy="647640"/>
          </a:xfrm>
          <a:prstGeom prst="downArrow">
            <a:avLst>
              <a:gd name="adj1" fmla="val 50000"/>
              <a:gd name="adj2" fmla="val 373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2296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0581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352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7T03:11:11Z</dcterms:created>
  <dc:creator>Olga</dc:creator>
  <dc:description/>
  <dc:language>en-US</dc:language>
  <cp:lastModifiedBy>Medicina</cp:lastModifiedBy>
  <dcterms:modified xsi:type="dcterms:W3CDTF">2008-01-10T15:14:40Z</dcterms:modified>
  <cp:revision>38</cp:revision>
  <dc:subject/>
  <dc:title>Intercambio de Gases</dc:title>
</cp:coreProperties>
</file>