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9388475"/>
  <p:custShowLst>
    <p:custShow name="Presentación personalizada 1" id="0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6AE-4B0E-4E64-BC6A-F6BC5B2B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29F-7C50-4FC0-9CF8-4C7861D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61B-2F05-42F1-89CC-338B0942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03F-8C86-4AD7-9D65-9DC719F8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1B4-2144-458C-88A3-1999CF57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EBA-DAA4-4D78-AEF2-E83E277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E26-D3B8-4821-9B2A-71E56A1F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917-132E-4F66-94A9-5498572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918-C512-47A5-AD6D-B6BDE384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0FA-451C-4368-8BD8-FEA97A8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6AF-9DEF-4117-82F8-452D2D93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E5E-0BED-40F6-A472-1F6E8D3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A03-F93B-44D9-AB46-382D31E9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cl.uwc.or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4464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eservoirGrunge"/>
              </a:rPr>
              <a:t>Intercambio de Gases alveola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516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Century Gothic"/>
              </a:rPr>
              <a:t>Al. Rodrigo Díaz Pera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6240" cy="165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692280"/>
            <a:ext cx="25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Escuela de Verano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Alve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087640"/>
            <a:ext cx="4465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2076480"/>
            <a:ext cx="4033800" cy="3578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155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so Sanguín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91628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6237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pacio Alve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236000" y="4508640"/>
            <a:ext cx="72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aire pulmonar se va renovando mediante l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ada ciclo respiratorio entra (durante la fase de inspiración) y sale (durante la fase de espiración) un volumen que en condiciones de reposo es de aproximadamente 500 ml de aire: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olumen Corriente (VC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nomina ventilación pulmonar total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al volumen de aire que sale del pulmón por unidad de tiempo (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VC •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6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n embargo sólo una parte de este flujo participa en la renovación del gas alveolar: la 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Ventilación Alveol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• [ VC – EM ] = 4,2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3429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6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2637000"/>
            <a:ext cx="2160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C = 5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12 min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56536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581360"/>
            <a:ext cx="1873080" cy="1368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869000"/>
            <a:ext cx="647640" cy="64764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547280" y="5734080"/>
            <a:ext cx="360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45000"/>
            <a:ext cx="1081080" cy="576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021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Volumen de aire que sale desde los alveolos en cada espir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602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 = 1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72428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6880" y="1800360"/>
            <a:ext cx="5610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lasificación del 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133720"/>
            <a:ext cx="396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Anatóm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Vías Aé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Fisiológ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Cambios en V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325000">
            <a:off x="3755520" y="3351240"/>
            <a:ext cx="863640" cy="288720"/>
          </a:xfrm>
          <a:prstGeom prst="rightArrow">
            <a:avLst>
              <a:gd name="adj1" fmla="val 50000"/>
              <a:gd name="adj2" fmla="val 747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867800">
            <a:off x="3779640" y="2565360"/>
            <a:ext cx="863280" cy="289080"/>
          </a:xfrm>
          <a:prstGeom prst="rightArrow">
            <a:avLst>
              <a:gd name="adj1" fmla="val 50000"/>
              <a:gd name="adj2" fmla="val 7465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34936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386064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75000"/>
            <a:ext cx="3024360" cy="258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4797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99160" y="4292640"/>
            <a:ext cx="2544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mbios V/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249800" cy="339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316400" cy="3236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551664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n reposo la mayor parte del aire está en la parte superior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544500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or el contrario, la distribución del flujo sanguíneo es mayor hacia la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Qué importancia tiene la relación V/Q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89280"/>
            <a:ext cx="4038480" cy="39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969920"/>
            <a:ext cx="4032360" cy="377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Britannic Bold"/>
              </a:rPr>
              <a:t>Neu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6021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ritannic Bold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Don Migue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960720" cy="285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2185920"/>
            <a:ext cx="4321080" cy="34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63640" y="6093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¿Qué pasó con su Espacio Muerto?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Cómo podemos obtener aire alveolar no contaminado con aire del espacio mue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3212640"/>
            <a:ext cx="4038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 colectar la fracción de aire que sale del pulmón hacia el final de la espi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racterísticas del Pulm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ulmón es un órgano diseñado para el intercambio gaseo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9960" y="2052720"/>
            <a:ext cx="3714840" cy="361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357336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37000"/>
            <a:ext cx="367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ecanismos involucr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ifusión alveolo – ca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ansporte de gases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Intercambio de Gases Alve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stra atmósfera tiene un mayor porcentaje de gas Nitrógeno que del resto de los gases (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segundo en importancia con casi un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gas más importante para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s mitocondrias no respiran         sin respiración no hay ATP        sin ATP no hay energía celular y éstas sin energía química se mueren.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186200" y="3141000"/>
            <a:ext cx="576360" cy="431640"/>
          </a:xfrm>
          <a:custGeom>
            <a:avLst/>
            <a:gdLst>
              <a:gd name="textAreaLeft" fmla="*/ 192240 w 576360"/>
              <a:gd name="textAreaRight" fmla="*/ 493920 w 576360"/>
              <a:gd name="textAreaTop" fmla="*/ 248760 h 431640"/>
              <a:gd name="textAreaBottom" fmla="*/ 369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7890000">
            <a:off x="1313640" y="4023360"/>
            <a:ext cx="610920" cy="574560"/>
          </a:xfrm>
          <a:custGeom>
            <a:avLst/>
            <a:gdLst>
              <a:gd name="textAreaLeft" fmla="*/ 95400 w 610920"/>
              <a:gd name="textAreaRight" fmla="*/ 534600 w 61092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472428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5084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El alvéolo pulmonar es donde se produce el intercambio de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y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entre la atmósfera y la sangre alve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708200"/>
            <a:ext cx="676764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Ley de Dal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cc33"/>
                </a:solidFill>
                <a:uFillTx/>
                <a:latin typeface="Showcard Gothic"/>
              </a:rPr>
              <a:t>Ley de Dalto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tablece que la presión total de una mezcla de gases es igual a la suma de las presiones parciales de cada uno de los componentes de la mezc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...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t: Presión total. Pa + Pb + Pn: son las presiones parciales de los gases a, b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33cc33"/>
                </a:solidFill>
                <a:latin typeface="Arial"/>
              </a:rPr>
              <a:t>Presión Parci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un gas en la atmósfera es la presión a la que se encuentra ese gas dentro de la mezcla de gases de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ún Dalton a nivel del mar la presión atmosférica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º atm. = PN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H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 = 760 mmHg =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Gases Atmosf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atmósfera, la presión de cualquier gas dependerá de la altura y de la temperatura ambien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Santiago, a 20º C, las presiones parciales de los gases serán aproximad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= 5,7 mmHg (0,7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C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0,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0,0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N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596 mmHg (78,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158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20,7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la presión total es igual a la suma de las presiones parciales cada vez que aumenta alguna de las presiones parciales de un gas en particular lo hace a expensas del resto de los gases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71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total = 760 mmHg (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321300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16200" y="10810"/>
                  <a:pt x="21600" y="10810"/>
                </a:cubicBezTo>
                <a:cubicBezTo>
                  <a:pt x="162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411880" cy="547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65520" cy="5102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6308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Britannic Bold"/>
              </a:rPr>
              <a:t>A mayor altitud ¿qué pasa con la presión parcial de los ga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12144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87640" y="836640"/>
            <a:ext cx="64764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2205000"/>
            <a:ext cx="503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89000"/>
            <a:ext cx="161928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La PO</a:t>
            </a:r>
            <a:r>
              <a:rPr b="0" lang="es-ES" sz="1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  atmosférica es 158 mmHg, ésta disminuye cuando el aire entra al alvé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CO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por intercambio gaseo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H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O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Humedificación d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557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03280" y="1125360"/>
            <a:ext cx="1584360" cy="6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1773360"/>
            <a:ext cx="3024360" cy="57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2133720"/>
            <a:ext cx="647640" cy="647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33720"/>
            <a:ext cx="1979640" cy="270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A pesar de la disminución atmósfera – alvéolo pulmonar, todavía existe una diferencia de 60 mmHg con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del capilar venoso pulmonar (40 mmHg), suficiente para que difunda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a la sangre venosa capi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92360" y="2565000"/>
            <a:ext cx="2663640" cy="16556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005360"/>
            <a:ext cx="360360" cy="36036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1197000"/>
            <a:ext cx="1763640" cy="5344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l aumento d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lveolar se debe a la excreción de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 través de la membrana alveolo – capilar al capilar arterial alve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xiste un gradiente de 6 mmHg entr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venosa y la alve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A pesar de esta mínima diferencia, el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sigue siendo el gas más difusible en la membrana respira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321300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47242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916360" y="3357720"/>
            <a:ext cx="4535280" cy="792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2708280"/>
            <a:ext cx="2663640" cy="649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2781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Un poco de aplicació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Apnea Volun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Showcard Gothic"/>
              </a:rPr>
              <a:t>Apnea</a:t>
            </a:r>
            <a:r>
              <a:rPr b="0" lang="en-US" sz="2400" spc="-1" strike="noStrike">
                <a:solidFill>
                  <a:srgbClr val="0066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Es la detención completa de l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vimientos respiratorios (asfixia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1773360"/>
            <a:ext cx="576360" cy="144360"/>
          </a:xfrm>
          <a:custGeom>
            <a:avLst/>
            <a:gdLst>
              <a:gd name="textAreaLeft" fmla="*/ 0 w 576360"/>
              <a:gd name="textAreaRight" fmla="*/ 576720 w 576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3284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pasa con los gases alveolares en este ca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61600">
            <a:off x="1763280" y="2133720"/>
            <a:ext cx="432000" cy="129528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508464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4221000"/>
            <a:ext cx="576000" cy="792360"/>
          </a:xfrm>
          <a:prstGeom prst="downArrow">
            <a:avLst>
              <a:gd name="adj1" fmla="val 50000"/>
              <a:gd name="adj2" fmla="val 3439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493400">
            <a:off x="5651280" y="5013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8945000">
            <a:off x="5539320" y="4730040"/>
            <a:ext cx="31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Showcard Gothic"/>
              </a:rPr>
              <a:t>¿POR 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Hiper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Century Gothic"/>
              </a:rPr>
              <a:t>Hiperventilación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Es una respiración rápid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profunda, generalm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ausada por ansiedad o pán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167652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371628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cambios tendrán los gases alveol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537372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159800">
            <a:off x="2003040" y="2076120"/>
            <a:ext cx="503280" cy="1728720"/>
          </a:xfrm>
          <a:prstGeom prst="downArrow">
            <a:avLst>
              <a:gd name="adj1" fmla="val 50000"/>
              <a:gd name="adj2" fmla="val 8587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72428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493400">
            <a:off x="5247000" y="4985640"/>
            <a:ext cx="37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howcard Gothic"/>
              </a:rPr>
              <a:t>¿POR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jercicio Iso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Showcard Gothic"/>
              </a:rPr>
              <a:t>Ejercicio Físi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¿Qué efectos t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89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1844640"/>
            <a:ext cx="2952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Se produce más C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 por el aumento del trabajo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068640"/>
            <a:ext cx="287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porque aumenta su 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8166000">
            <a:off x="4140360" y="2349360"/>
            <a:ext cx="868320" cy="843120"/>
          </a:xfrm>
          <a:custGeom>
            <a:avLst/>
            <a:gdLst>
              <a:gd name="textAreaLeft" fmla="*/ 249120 w 868320"/>
              <a:gd name="textAreaRight" fmla="*/ 743760 w 868320"/>
              <a:gd name="textAreaTop" fmla="*/ 485640 h 843120"/>
              <a:gd name="textAreaBottom" fmla="*/ 722160 h 843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581360"/>
            <a:ext cx="24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n embargo, esta composición de los gases en sangre provoca una </a:t>
            </a:r>
            <a:r>
              <a:rPr b="1" i="1" lang="en-US" sz="1800" spc="-1" strike="noStrike">
                <a:solidFill>
                  <a:srgbClr val="33cc33"/>
                </a:solidFill>
                <a:latin typeface="Century Gothic"/>
              </a:rPr>
              <a:t>HIPER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631600">
            <a:off x="3563640" y="3429000"/>
            <a:ext cx="431640" cy="1150920"/>
          </a:xfrm>
          <a:prstGeom prst="downArrow">
            <a:avLst>
              <a:gd name="adj1" fmla="val 50000"/>
              <a:gd name="adj2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450864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to impide que se acumulen en el alvéolo, manteniendo su 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084640"/>
            <a:ext cx="1728720" cy="505080"/>
          </a:xfrm>
          <a:prstGeom prst="rightArrow">
            <a:avLst>
              <a:gd name="adj1" fmla="val 50000"/>
              <a:gd name="adj2" fmla="val 85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Fisiología de la Ventilación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860480"/>
            <a:ext cx="82803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08000" y="2637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DUDA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95680" y="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l.uwc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Arial"/>
              </a:rPr>
              <a:t>UNITED WORLD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Músculos Involuc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ritannic Bold"/>
              </a:rPr>
              <a:t>Ventilación: Presión Intratorác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urre en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e que ocupa los alvé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gre de los capilares pulmo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RRERA HEMATOGASE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600360" cy="511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436572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296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058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3:11:11Z</dcterms:created>
  <dc:creator>Olga</dc:creator>
  <dc:description/>
  <dc:language>en-US</dc:language>
  <cp:lastModifiedBy>Medicina</cp:lastModifiedBy>
  <dcterms:modified xsi:type="dcterms:W3CDTF">2008-01-10T15:14:40Z</dcterms:modified>
  <cp:revision>38</cp:revision>
  <dc:subject/>
  <dc:title>Intercambio de Gases</dc:title>
</cp:coreProperties>
</file>