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1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102475" cy="9388475"/>
  <p:custShowLst>
    <p:custShow name="Presentación personalizada 1" id="0">
      <p:sldLst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9AB6-F63F-4E05-96A5-375DEA8A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C48-8CFB-499A-A68D-74582736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240-9EDA-46E7-A40B-B73F5E8B8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2E7F-CD5B-4AE1-8D71-49B83D2E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ADCE-4949-4A01-8CE1-F590EA15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0CF-B3A2-418B-BB29-E8554F48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7DB-21F9-4F55-A668-78E53068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970-2FA1-4C94-8F34-A8F6A108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0018-468C-4C43-80B0-43865B2C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62A-2A5E-45B4-81C1-93E2D42F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25C-ED68-42B6-A60F-DB68FBA6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20D-377D-4A70-B411-FF769282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5E7F-B166-4015-9EF4-151E6C36C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cl.uwc.org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1628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84464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eservoirGrunge"/>
              </a:rPr>
              <a:t>Intercambio de Gases alveolar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5516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Century Gothic"/>
              </a:rPr>
              <a:t>Al. Rodrigo Díaz Pera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6240" cy="165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16000" y="692280"/>
            <a:ext cx="2592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Escuela de Verano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Barrera Hematogase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4170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Alve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2087640"/>
            <a:ext cx="4465440" cy="356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9280" y="2076480"/>
            <a:ext cx="4033800" cy="3578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92720" y="1557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so Sanguín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191628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6237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pacio Alve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7236000" y="4508640"/>
            <a:ext cx="72720" cy="172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Ventilación Pulmo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aire pulmonar se va renovando mediante la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entilación Pulmon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cada ciclo respiratorio entra (durante la fase de inspiración) y sale (durante la fase de espiración) un volumen que en condiciones de reposo es de aproximadamente 500 ml de aire: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olumen Corriente (VC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Ventilación Pulmo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denomina ventilación pulmonar total (V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al volumen de aire que sale del pulmón por unidad de tiempo (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= VC • f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= 6 L/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n embargo sólo una parte de este flujo participa en la renovación del gas alveolar: la </a:t>
            </a: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Ventilación Alveol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V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• [ VC – EM ] = 4,2 L/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3429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36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2637000"/>
            <a:ext cx="2160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C = 5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12 min</a:t>
            </a:r>
            <a:r>
              <a:rPr b="0" lang="es-ES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56536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4581360"/>
            <a:ext cx="1873080" cy="1368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4869000"/>
            <a:ext cx="647640" cy="64764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547280" y="5734080"/>
            <a:ext cx="360360" cy="287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9280" y="5445000"/>
            <a:ext cx="1081080" cy="576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602136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Volumen de aire que sale desde los alveolos en cada espiración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602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cio Mu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0072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 = 1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4724280"/>
            <a:ext cx="73080" cy="792360"/>
          </a:xfrm>
          <a:custGeom>
            <a:avLst/>
            <a:gdLst>
              <a:gd name="textAreaLeft" fmla="*/ 46800 w 73080"/>
              <a:gd name="textAreaRight" fmla="*/ 73440 w 730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Espacio Mu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6880" y="1800360"/>
            <a:ext cx="56102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Clasificación del Espacio Mu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acio Mue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2133720"/>
            <a:ext cx="3960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ritannic Bold"/>
              </a:rPr>
              <a:t>Anatómi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Vías Aé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6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itannic Bold"/>
              </a:rPr>
              <a:t>Fisiológi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Cambios en V/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325000">
            <a:off x="3755520" y="3351240"/>
            <a:ext cx="863640" cy="288720"/>
          </a:xfrm>
          <a:prstGeom prst="rightArrow">
            <a:avLst>
              <a:gd name="adj1" fmla="val 50000"/>
              <a:gd name="adj2" fmla="val 747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9867800">
            <a:off x="3779640" y="2565360"/>
            <a:ext cx="863280" cy="289080"/>
          </a:xfrm>
          <a:prstGeom prst="rightArrow">
            <a:avLst>
              <a:gd name="adj1" fmla="val 50000"/>
              <a:gd name="adj2" fmla="val 74658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349360"/>
            <a:ext cx="433440" cy="144720"/>
          </a:xfrm>
          <a:prstGeom prst="rightArrow">
            <a:avLst>
              <a:gd name="adj1" fmla="val 50000"/>
              <a:gd name="adj2" fmla="val 7487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27640" y="3860640"/>
            <a:ext cx="433440" cy="144720"/>
          </a:xfrm>
          <a:prstGeom prst="rightArrow">
            <a:avLst>
              <a:gd name="adj1" fmla="val 50000"/>
              <a:gd name="adj2" fmla="val 7487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275000"/>
            <a:ext cx="3024360" cy="2583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0720" y="479736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99160" y="4292640"/>
            <a:ext cx="2544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Cambios V/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249800" cy="3394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316400" cy="3236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551664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En reposo la mayor parte del aire está en la parte superior del pul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5445000"/>
            <a:ext cx="33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or el contrario, la distribución del flujo sanguíneo es mayor hacia las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¿Qué importancia tiene la relación V/Q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89280"/>
            <a:ext cx="4038480" cy="39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1969920"/>
            <a:ext cx="4032360" cy="3770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19280" y="609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Britannic Bold"/>
              </a:rPr>
              <a:t>Neumo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6021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Britannic Bold"/>
              </a:rPr>
              <a:t>Tubercu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Don Miguel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3960720" cy="2851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0" y="2185920"/>
            <a:ext cx="4321080" cy="34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63640" y="6093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¿Qué pasó con su Espacio Muerto?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¿Cómo podemos obtener aire alveolar no contaminado con aire del espacio muer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3212640"/>
            <a:ext cx="40388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puede colectar la fracción de aire que sale del pulmón hacia el final de la espi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Características del Pulm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pulmón es un órgano diseñado para el intercambio gaseo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9960" y="2052720"/>
            <a:ext cx="3714840" cy="3619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8000" y="3573360"/>
            <a:ext cx="648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437000"/>
            <a:ext cx="3673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ecanismos involucr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Vent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Difusión alveolo – cap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Transporte de gases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Intercambio de Gases Alve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estra atmósfera tiene un mayor porcentaje de gas Nitrógeno que del resto de los gases (8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el segundo en importancia con casi un 2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el gas más importante para l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e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s mitocondrias no respiran         sin respiración no hay ATP        sin ATP no hay energía celular y éstas sin energía química se mueren.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186200" y="3141000"/>
            <a:ext cx="576360" cy="431640"/>
          </a:xfrm>
          <a:custGeom>
            <a:avLst/>
            <a:gdLst>
              <a:gd name="textAreaLeft" fmla="*/ 192240 w 576360"/>
              <a:gd name="textAreaRight" fmla="*/ 493920 w 576360"/>
              <a:gd name="textAreaTop" fmla="*/ 248760 h 431640"/>
              <a:gd name="textAreaBottom" fmla="*/ 3697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7890000">
            <a:off x="1313640" y="4023360"/>
            <a:ext cx="610920" cy="574560"/>
          </a:xfrm>
          <a:custGeom>
            <a:avLst/>
            <a:gdLst>
              <a:gd name="textAreaLeft" fmla="*/ 95400 w 610920"/>
              <a:gd name="textAreaRight" fmla="*/ 534600 w 610920"/>
              <a:gd name="textAreaTop" fmla="*/ 143640 h 574560"/>
              <a:gd name="textAreaBottom" fmla="*/ 430920 h 57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472428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508464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El alvéolo pulmonar es donde se produce el intercambio de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ritannic Bol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 y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ritannic Bol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 entre la atmósfera y la sangre alve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708200"/>
            <a:ext cx="676764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Ley de Dal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cc33"/>
                </a:solidFill>
                <a:uFillTx/>
                <a:latin typeface="Showcard Gothic"/>
              </a:rPr>
              <a:t>Ley de Dalto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tablece que la presión total de una mezcla de gases es igual a la suma de las presiones parciales de cada uno de los componentes de la mezc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b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... +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t: Presión total. Pa + Pb + Pn: son las presiones parciales de los gases a, b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i="1" lang="es-ES" sz="2000" spc="-1" strike="noStrike">
                <a:solidFill>
                  <a:srgbClr val="33cc33"/>
                </a:solidFill>
                <a:latin typeface="Arial"/>
              </a:rPr>
              <a:t>Presión Parci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un gas en la atmósfera es la presión a la que se encuentra ese gas dentro de la mezcla de gases de la atmó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ún Dalton a nivel del mar la presión atmosférica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º atm. = PN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P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PC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PH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 = 760 mmHg =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Gases Atmosfé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a atmósfera, la presión de cualquier gas dependerá de la altura y de la temperatura ambien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Santiago, a 20º C, las presiones parciales de los gases serán aproximad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H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= 5,7 mmHg (0,7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C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0,3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mmHg (0,0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N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596 mmHg (78,4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158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mmHg (20,7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o la presión total es igual a la suma de las presiones parciales cada vez que aumenta alguna de las presiones parciales de un gas en particular lo hace a expensas del resto de los gases!!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3716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total = 760 mmHg (10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3213000"/>
            <a:ext cx="144360" cy="136836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16200" y="10810"/>
                  <a:pt x="21600" y="10810"/>
                </a:cubicBezTo>
                <a:cubicBezTo>
                  <a:pt x="162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5411880" cy="547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940360" y="836640"/>
            <a:ext cx="2765520" cy="5102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1280" y="6308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Britannic Bold"/>
              </a:rPr>
              <a:t>A mayor altitud ¿qué pasa con la presión parcial de los ga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6121440" cy="5113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87640" y="836640"/>
            <a:ext cx="647640" cy="431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2205000"/>
            <a:ext cx="50328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89000"/>
            <a:ext cx="161928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La PO</a:t>
            </a:r>
            <a:r>
              <a:rPr b="0" lang="es-ES" sz="1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  atmosférica es 158 mmHg, ésta disminuye cuando el aire entra al alvé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s-ES" sz="1400" spc="-1" strike="noStrike">
                <a:solidFill>
                  <a:srgbClr val="33cc33"/>
                </a:solidFill>
                <a:latin typeface="Century Gothic"/>
              </a:rPr>
              <a:t>↑ PCO</a:t>
            </a:r>
            <a:r>
              <a:rPr b="0" lang="es-ES" sz="1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: por intercambio gaseo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s-ES" sz="1400" spc="-1" strike="noStrike">
                <a:solidFill>
                  <a:srgbClr val="33cc33"/>
                </a:solidFill>
                <a:latin typeface="Century Gothic"/>
              </a:rPr>
              <a:t>↑ PH</a:t>
            </a:r>
            <a:r>
              <a:rPr b="0" lang="es-ES" sz="1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33cc33"/>
                </a:solidFill>
                <a:latin typeface="Century Gothic"/>
              </a:rPr>
              <a:t>O</a:t>
            </a: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: Humedificación del ai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1557360"/>
            <a:ext cx="288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403280" y="1125360"/>
            <a:ext cx="1584360" cy="64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1773360"/>
            <a:ext cx="3024360" cy="57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2133720"/>
            <a:ext cx="647640" cy="647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933720"/>
            <a:ext cx="1979640" cy="270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Century Gothic"/>
              </a:rPr>
              <a:t>A pesar de la disminución atmósfera – alvéolo pulmonar, todavía existe una diferencia de 60 mmHg con el O</a:t>
            </a:r>
            <a:r>
              <a:rPr b="0" lang="es-ES" sz="1400" spc="-1" strike="noStrike" baseline="-25000">
                <a:solidFill>
                  <a:srgbClr val="333399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333399"/>
                </a:solidFill>
                <a:latin typeface="Century Gothic"/>
              </a:rPr>
              <a:t> del capilar venoso pulmonar (40 mmHg), suficiente para que difunda el O</a:t>
            </a:r>
            <a:r>
              <a:rPr b="0" lang="es-ES" sz="1400" spc="-1" strike="noStrike" baseline="-25000">
                <a:solidFill>
                  <a:srgbClr val="333399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333399"/>
                </a:solidFill>
                <a:latin typeface="Century Gothic"/>
              </a:rPr>
              <a:t> a la sangre venosa capi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692360" y="2565000"/>
            <a:ext cx="2663640" cy="16556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4005360"/>
            <a:ext cx="360360" cy="36036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80360" y="1197000"/>
            <a:ext cx="1763640" cy="5344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El aumento de la PCO</a:t>
            </a:r>
            <a:r>
              <a:rPr b="0" lang="es-ES" sz="1400" spc="-1" strike="noStrike" baseline="-25000">
                <a:solidFill>
                  <a:srgbClr val="ffff66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 alveolar se debe a la excreción de CO</a:t>
            </a:r>
            <a:r>
              <a:rPr b="0" lang="es-ES" sz="1400" spc="-1" strike="noStrike" baseline="-25000">
                <a:solidFill>
                  <a:srgbClr val="ffff66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 a través de la membrana alveolo – capilar al capilar arterial alve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Existe un gradiente de 6 mmHg entre la PCO</a:t>
            </a:r>
            <a:r>
              <a:rPr b="0" lang="es-ES" sz="1400" spc="-1" strike="noStrike" baseline="-25000">
                <a:solidFill>
                  <a:srgbClr val="ffff66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 venosa y la alve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A pesar de esta mínima diferencia, el CO</a:t>
            </a:r>
            <a:r>
              <a:rPr b="0" lang="es-ES" sz="1400" spc="-1" strike="noStrike" baseline="-25000">
                <a:solidFill>
                  <a:srgbClr val="ffff66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 sigue siendo el gas más difusible en la membrana respirato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01080" y="321300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01080" y="472428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916360" y="3357720"/>
            <a:ext cx="4535280" cy="792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2708280"/>
            <a:ext cx="2663640" cy="649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42920" y="27813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Un poco de aplicación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Apnea Volunt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Showcard Gothic"/>
              </a:rPr>
              <a:t>Apnea</a:t>
            </a:r>
            <a:r>
              <a:rPr b="0" lang="en-US" sz="2400" spc="-1" strike="noStrike">
                <a:solidFill>
                  <a:srgbClr val="0066ff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Es la detención completa de l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ovimientos respiratorios (asfixia)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1773360"/>
            <a:ext cx="576360" cy="144360"/>
          </a:xfrm>
          <a:custGeom>
            <a:avLst/>
            <a:gdLst>
              <a:gd name="textAreaLeft" fmla="*/ 0 w 576360"/>
              <a:gd name="textAreaRight" fmla="*/ 576720 w 576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328464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¿Qué pasa con los gases alveolares en este ca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61600">
            <a:off x="1763280" y="2133720"/>
            <a:ext cx="432000" cy="129528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5084640"/>
            <a:ext cx="1295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↓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↑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4221000"/>
            <a:ext cx="576000" cy="792360"/>
          </a:xfrm>
          <a:prstGeom prst="downArrow">
            <a:avLst>
              <a:gd name="adj1" fmla="val 50000"/>
              <a:gd name="adj2" fmla="val 3439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9493400">
            <a:off x="5651280" y="501300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8945000">
            <a:off x="5539320" y="4730040"/>
            <a:ext cx="31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Showcard Gothic"/>
              </a:rPr>
              <a:t>¿POR QU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Hiperventi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Century Gothic"/>
              </a:rPr>
              <a:t>Hiperventilación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          Es una respiración rápida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       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profunda, generalmen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       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causada por ansiedad o pán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1676520"/>
            <a:ext cx="35892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371628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¿Qué cambios tendrán los gases alveol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5373720"/>
            <a:ext cx="1295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↑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↓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9159800">
            <a:off x="2003040" y="2076120"/>
            <a:ext cx="503280" cy="1728720"/>
          </a:xfrm>
          <a:prstGeom prst="downArrow">
            <a:avLst>
              <a:gd name="adj1" fmla="val 50000"/>
              <a:gd name="adj2" fmla="val 8587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4724280"/>
            <a:ext cx="576000" cy="576360"/>
          </a:xfrm>
          <a:prstGeom prst="downArrow">
            <a:avLst>
              <a:gd name="adj1" fmla="val 50000"/>
              <a:gd name="adj2" fmla="val 2501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9493400">
            <a:off x="5247000" y="4985640"/>
            <a:ext cx="371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howcard Gothic"/>
              </a:rPr>
              <a:t>¿POR QU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Ejercicio Isotó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Showcard Gothic"/>
              </a:rPr>
              <a:t>Ejercicio Físic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entury Gothic"/>
              </a:rPr>
              <a:t>¿Qué efectos tie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198900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1844640"/>
            <a:ext cx="2952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Se produce más C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 por el aumento del trabajo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3068640"/>
            <a:ext cx="2879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↓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porque aumenta su consu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8166000">
            <a:off x="4140360" y="2349360"/>
            <a:ext cx="868320" cy="843120"/>
          </a:xfrm>
          <a:custGeom>
            <a:avLst/>
            <a:gdLst>
              <a:gd name="textAreaLeft" fmla="*/ 249120 w 868320"/>
              <a:gd name="textAreaRight" fmla="*/ 743760 w 868320"/>
              <a:gd name="textAreaTop" fmla="*/ 485640 h 843120"/>
              <a:gd name="textAreaBottom" fmla="*/ 722160 h 8431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4581360"/>
            <a:ext cx="244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in embargo, esta composición de los gases en sangre provoca una </a:t>
            </a:r>
            <a:r>
              <a:rPr b="1" i="1" lang="en-US" sz="1800" spc="-1" strike="noStrike">
                <a:solidFill>
                  <a:srgbClr val="33cc33"/>
                </a:solidFill>
                <a:latin typeface="Century Gothic"/>
              </a:rPr>
              <a:t>HIPERVENT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631600">
            <a:off x="3563640" y="3429000"/>
            <a:ext cx="431640" cy="1150920"/>
          </a:xfrm>
          <a:prstGeom prst="downArrow">
            <a:avLst>
              <a:gd name="adj1" fmla="val 50000"/>
              <a:gd name="adj2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84720" y="4508640"/>
            <a:ext cx="23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sto impide que se acumulen en el alvéolo, manteniendo su equilib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084640"/>
            <a:ext cx="1728720" cy="505080"/>
          </a:xfrm>
          <a:prstGeom prst="rightArrow">
            <a:avLst>
              <a:gd name="adj1" fmla="val 50000"/>
              <a:gd name="adj2" fmla="val 855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Fisiología de la Ventilación Pulmo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860480"/>
            <a:ext cx="82803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08000" y="263700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DUDA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95680" y="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l.uwc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533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3300"/>
                </a:solidFill>
                <a:latin typeface="Arial"/>
              </a:rPr>
              <a:t>UNITED WORLD COL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Músculos Involucr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036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ritannic Bold"/>
              </a:rPr>
              <a:t>Ventilación: Presión Intratorác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901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Barrera Hematogase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cambio de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urre ent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e que ocupa los alvé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ngre de los capilares pulmon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BARRERA HEMATOGASE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3600360" cy="5111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24000" y="436572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2133720"/>
            <a:ext cx="433440" cy="647640"/>
          </a:xfrm>
          <a:prstGeom prst="downArrow">
            <a:avLst>
              <a:gd name="adj1" fmla="val 50000"/>
              <a:gd name="adj2" fmla="val 373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296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0581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2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03:11:11Z</dcterms:created>
  <dc:creator>Olga</dc:creator>
  <dc:description/>
  <dc:language>en-US</dc:language>
  <cp:lastModifiedBy>Medicina</cp:lastModifiedBy>
  <dcterms:modified xsi:type="dcterms:W3CDTF">2008-01-10T15:14:40Z</dcterms:modified>
  <cp:revision>38</cp:revision>
  <dc:subject/>
  <dc:title>Intercambio de Gases</dc:title>
</cp:coreProperties>
</file>