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336-1CC0-4DD9-99BC-21E74A0A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247-5BB4-405A-876E-9F837D82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CA4-074E-49E7-B62C-7206BB93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B37-DA24-4965-97F8-C9B67787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52B8-E298-4DE9-9162-D0D6B5B7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6B88-0339-4084-BDC0-EDA22DB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4BB6-13EA-477E-9007-429E057B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958A-615A-437D-8708-F3B51DB2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5EC0-6C0B-4D1E-99CD-1EB3E3C3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AB93-A83F-4DF7-9CCF-02BF6E03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49D2-8840-4DFD-A40C-3EC8873C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D2D-C277-4FB9-B7CC-F2A01866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838F-9587-48DF-BFF1-11EDC17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D94C-58A2-401F-8BA2-00828B30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A87B-6737-4C26-B052-5E45C4F1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46EF-0436-42B6-8223-9B99AAD6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73DB-CD53-4FDF-9E52-AA7D0C0D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F5A-13D9-4C0A-96B6-A0A8D6FF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2C5-2A2F-4356-8109-07A6BDAC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679-CA79-4D4C-8A9E-435A1B10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7FA-777F-4342-885D-1A26CED4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C9B-8D6D-42F5-81BE-8A83AA8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DB3-F8A1-45DB-B9B5-5DC6C46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E7E-C627-4132-9B7A-25DC6266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3C51-37AE-474E-BC0A-E372CD3579B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10D2-E88A-438A-B49D-3C0823034AC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1267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Times New Roman"/>
              </a:rPr>
              <a:t>FUNCION</a:t>
            </a:r>
            <a:br>
              <a:rPr sz="4400"/>
            </a:br>
            <a:r>
              <a:rPr b="1" lang="en-US" sz="4400" spc="-1" strike="noStrike">
                <a:solidFill>
                  <a:srgbClr val="004c2b"/>
                </a:solidFill>
                <a:latin typeface="Times New Roman"/>
              </a:rPr>
              <a:t>CARDIOVASCULA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24000" y="306828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Prof. Guillermo Ormeño 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ra. Carmen Palazzi F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Fac.Medicina - ICB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Escuela de Veran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129564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12956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4328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2  0  0  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8000" y="2852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33"/>
                </a:solidFill>
                <a:latin typeface="comic"/>
              </a:rPr>
              <a:t>CICLO CARDIAC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 entiende por ciclo cardíaco, a la serie de eventos eléctricos y mecánicos que ocurren durante una sístole y una diástole cardíacas sucesiva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En un adulto joven de 70Kg de peso, 1.70m de estatura y una frecuencia cardíaca de 75latidos/min. la duración del ciclo en reposo es de 0.8segund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Duración de la Sístole:1/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Duración de la Diástole: 2/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Arial"/>
              </a:rPr>
              <a:t>CICLO CARDÍAC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Arial"/>
              </a:rPr>
              <a:t>El periodo es el tiempo que tarda en efectuarse el ciclo cardíac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Arial"/>
              </a:rPr>
              <a:t>Para un sujeto sano, en reposo y con una frecuencia cardíaca de 75latidos/minuto, el periodo es igual a 0.8segund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Arial"/>
              </a:rPr>
              <a:t>Cálculo de la frecuencia cardíaca en base al periodo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Arial"/>
              </a:rPr>
              <a:t>FC =1/0.8seg x 60seg/min =75min</a:t>
            </a:r>
            <a:r>
              <a:rPr b="1" lang="es-ES_tradnl" sz="2800" spc="-1" strike="noStrike" baseline="30000">
                <a:solidFill>
                  <a:srgbClr val="333333"/>
                </a:solidFill>
                <a:latin typeface="Arial"/>
              </a:rPr>
              <a:t>-1 </a:t>
            </a:r>
            <a:r>
              <a:rPr b="1" lang="es-ES_tradnl" sz="2800" spc="-1" strike="noStrike">
                <a:solidFill>
                  <a:srgbClr val="333333"/>
                </a:solidFill>
                <a:latin typeface="Arial"/>
              </a:rPr>
              <a:t>o lat./m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</a:rPr>
              <a:t>ETAPAS BÁSICAS DEL CICLO CARDÍACO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Arial"/>
              </a:rPr>
              <a:t>PERIODO  DE DIÁSTOL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0520" indent="-290520">
              <a:lnSpc>
                <a:spcPct val="16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Arial"/>
              </a:rPr>
              <a:t>SUBFASE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05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PROTODIÁSTOL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052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RELAJACIÓN ISOVOLUMÉTR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0520" indent="-290520">
              <a:lnSpc>
                <a:spcPct val="1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LLENE RÁPIDO:70%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0520" indent="-290520">
              <a:lnSpc>
                <a:spcPct val="13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LLENE LENTO: 5%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0520" indent="-290520">
              <a:lnSpc>
                <a:spcPct val="14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SíSTOLE AURICULAR:25%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PERIODO DE SÍSTOL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SUBFASE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TRACCIÓN ISOVOLUMÉTR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PULSIÓN RÁPID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PULSIÓN LEN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CICLO CARDÍACO</a:t>
            </a:r>
            <a:br>
              <a:rPr sz="3200"/>
            </a:b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Variaciones del volumen Ventricular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VOLUMEN DIASTÓLICO FINAL: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140 a160m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(VDF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VOLUMEN EXPULSIVO: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70 a 80m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(VE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VOLUMEN RESIDUAL: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70 a 80m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(VR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CICLO CARDÍACO</a:t>
            </a:r>
            <a:br>
              <a:rPr sz="3200"/>
            </a:b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VARIACIONES DE PRESIÓ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AURICULAR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NDAS: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v, a y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ARTERIAL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esión Diastólica o Mínima: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70 a80mmH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esión Diferencial o de Pulso: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40mmH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esión Sistólica o Máxima: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120mmH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esión Arterial Media: 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93mmH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VENTRICULAR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 0mmHg a + de120mmHg aproximadamen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210960"/>
            <a:ext cx="91440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403280" y="4149720"/>
            <a:ext cx="5400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lectrocardiograma 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2766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33"/>
                </a:solidFill>
                <a:latin typeface="comic"/>
              </a:rPr>
              <a:t>PRIMERA     PARTE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3192480" cy="4952880"/>
          </a:xfrm>
          <a:prstGeom prst="rect">
            <a:avLst/>
          </a:prstGeom>
          <a:ln w="9360">
            <a:solidFill>
              <a:srgbClr val="578963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038480" y="228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ERIVACIONES ELECTROCARDIOGRÁFICAS ESTÁNDAR (BIPOLAR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167652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8963"/>
                </a:solidFill>
                <a:latin typeface="Arial"/>
              </a:rPr>
              <a:t>DERIVACIÓN</a:t>
            </a:r>
            <a:r>
              <a:rPr b="0" lang="es-ES_tradnl" sz="2400" spc="-1" strike="noStrike">
                <a:solidFill>
                  <a:srgbClr val="578963"/>
                </a:solidFill>
                <a:latin typeface="Arial"/>
              </a:rPr>
              <a:t>:</a:t>
            </a: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es la disposición de cada par de  conexiones de 2 puntos del cuerpo al electrocardiógrafo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2666880"/>
            <a:ext cx="4495680" cy="35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Arial"/>
              </a:rPr>
              <a:t>DERIVACIÓN I</a:t>
            </a: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razo Derecho conectado a terminal(-) y Brazo Izquierdo a terminal (+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789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Arial"/>
              </a:rPr>
              <a:t>DERIVACIÓN II</a:t>
            </a: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Comic Sans MS"/>
              </a:rPr>
              <a:t>Brazo Derecho conectado a terminal(-) y Pierna Izquierda a terminal (+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Arial"/>
              </a:rPr>
              <a:t>DERIVACIÓN III</a:t>
            </a: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Brazo Derecho conectado a terminal(-) y Pierna Izquierda a terminal (+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38080" y="312840"/>
            <a:ext cx="7391520" cy="6103800"/>
          </a:xfrm>
          <a:prstGeom prst="rect">
            <a:avLst/>
          </a:prstGeom>
          <a:ln w="9360">
            <a:solidFill>
              <a:srgbClr val="5789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</a:rPr>
              <a:t>SISTEMA CARDIOVASCULA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78963"/>
                </a:solidFill>
                <a:latin typeface="Arial"/>
              </a:rPr>
              <a:t>ES UN CIRCUITO CERRA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78963"/>
                </a:solidFill>
                <a:latin typeface="Arial"/>
              </a:rPr>
              <a:t>FORMADO POR UN CIRCUITO MAYOR O GRAN CIRCUITO Y UN CIRCUITO MENOR O PULMON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78963"/>
                </a:solidFill>
                <a:latin typeface="Arial"/>
              </a:rPr>
              <a:t>FUNCIÓN MÁS IMPORTANTE: TRANSPORTE DE MATERIAS Y ENERGÍA DESDE Y HACIA LA CÉLUL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78963"/>
                </a:solidFill>
                <a:latin typeface="Arial"/>
              </a:rPr>
              <a:t>Ej:O</a:t>
            </a:r>
            <a:r>
              <a:rPr b="1" lang="es-ES_tradnl" sz="2800" spc="-1" strike="noStrike" baseline="-25000">
                <a:solidFill>
                  <a:srgbClr val="578963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578963"/>
                </a:solidFill>
                <a:latin typeface="Arial"/>
              </a:rPr>
              <a:t>, CO</a:t>
            </a:r>
            <a:r>
              <a:rPr b="1" lang="es-ES_tradnl" sz="2800" spc="-1" strike="noStrike" baseline="-25000">
                <a:solidFill>
                  <a:srgbClr val="578963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578963"/>
                </a:solidFill>
                <a:latin typeface="Arial"/>
              </a:rPr>
              <a:t>, HORMONAS , VITAMINAS, NEUROTRANSMISORES, METALES,etc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ECG NORMAL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33"/>
                </a:solidFill>
                <a:latin typeface="Arial"/>
              </a:rPr>
              <a:t>Onda P: Depolarización Auricul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581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33333"/>
                </a:solidFill>
                <a:latin typeface="Arial"/>
              </a:rPr>
              <a:t>Ondas QRS: Depolarización Ventricul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53341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Monotype Sort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33333"/>
                </a:solidFill>
                <a:latin typeface="Arial"/>
              </a:rPr>
              <a:t>Onda T: Repolarización Ventricul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1200" y="380880"/>
            <a:ext cx="4070520" cy="4419720"/>
          </a:xfrm>
          <a:prstGeom prst="rect">
            <a:avLst/>
          </a:prstGeom>
          <a:ln w="9360">
            <a:solidFill>
              <a:srgbClr val="578963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4495680" y="3808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ERIVACIONES UNIPOLARES O PRECORDI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13372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Registro de la actividad eléctrica del corazón(diferencia de potencial) entre un electrodo explorador y un electrodo indiferent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029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57896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, V</a:t>
            </a:r>
            <a:r>
              <a:rPr b="1" lang="en-US" sz="2400" spc="-1" strike="noStrike" baseline="-25000">
                <a:solidFill>
                  <a:srgbClr val="578963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578963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, V</a:t>
            </a:r>
            <a:r>
              <a:rPr b="1" lang="en-US" sz="2400" spc="-1" strike="noStrike" baseline="-25000">
                <a:solidFill>
                  <a:srgbClr val="578963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, V</a:t>
            </a:r>
            <a:r>
              <a:rPr b="1" lang="en-US" sz="2400" spc="-1" strike="noStrike" baseline="-25000">
                <a:solidFill>
                  <a:srgbClr val="578963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y V</a:t>
            </a:r>
            <a:r>
              <a:rPr b="1" lang="en-US" sz="2400" spc="-1" strike="noStrike" baseline="-25000">
                <a:solidFill>
                  <a:srgbClr val="578963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772400" cy="4091040"/>
          </a:xfrm>
          <a:prstGeom prst="rect">
            <a:avLst/>
          </a:prstGeom>
          <a:ln w="9360">
            <a:solidFill>
              <a:srgbClr val="578963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09520" y="49680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DERIVACIONES PRECORDI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4495680" cy="2365200"/>
          </a:xfrm>
          <a:prstGeom prst="rect">
            <a:avLst/>
          </a:prstGeom>
          <a:ln w="9360">
            <a:solidFill>
              <a:srgbClr val="578963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304920" y="31240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ara este registro se conectan 2 de las extremidades mediante resistencias eléctricas a  la terminal negativa del electrocardiógrafo, y la 3ª extremidad se conecta a la terminal positiva del electrocardiógraf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38088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ERIVACIONES UNIPOLARES AUMENTADAS DE MIEMBR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876920"/>
            <a:ext cx="815364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aV</a:t>
            </a:r>
            <a:r>
              <a:rPr b="1" lang="es-ES_tradnl" sz="2400" spc="-1" strike="noStrike" baseline="-25000">
                <a:solidFill>
                  <a:srgbClr val="333333"/>
                </a:solidFill>
                <a:latin typeface="Arial"/>
              </a:rPr>
              <a:t>R</a:t>
            </a: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: Brazo Derecho conectado a terminal  (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aV</a:t>
            </a:r>
            <a:r>
              <a:rPr b="1" lang="es-ES_tradnl" sz="2400" spc="-1" strike="noStrike" baseline="-25000">
                <a:solidFill>
                  <a:srgbClr val="333333"/>
                </a:solidFill>
                <a:latin typeface="Arial"/>
              </a:rPr>
              <a:t>L</a:t>
            </a: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: Brazo Izquierdo conectado a terminal (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aV</a:t>
            </a:r>
            <a:r>
              <a:rPr b="1" lang="es-ES_tradnl" sz="2400" spc="-1" strike="noStrike" baseline="-25000">
                <a:solidFill>
                  <a:srgbClr val="333333"/>
                </a:solidFill>
                <a:latin typeface="Arial"/>
              </a:rPr>
              <a:t>F</a:t>
            </a: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: Pierna izquierda conectada a terminal (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89548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997440" cy="5105520"/>
          </a:xfrm>
          <a:prstGeom prst="rect">
            <a:avLst/>
          </a:prstGeom>
          <a:ln w="9360">
            <a:solidFill>
              <a:srgbClr val="578963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685800" y="228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VÁLVULAS CARDÍAC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1447920"/>
            <a:ext cx="37339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Arial"/>
              </a:rPr>
              <a:t>AURICULOVENTRICULARES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 abren pasivamente permitiendo el paso de sangre desde aurícula hacia el ventrículo y se cierran casi completamente antes del inicio de la contracción ventricula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Arial"/>
              </a:rPr>
              <a:t>SEMILUNARES AÓRTICA Y PULMONAR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 abren vaciando sangre a gran velocidad desde el ventrículo hacia la arteria y se cierran muy secamente debido a la presión arterial elevada al final de la sístol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250920"/>
            <a:ext cx="9144000" cy="6357960"/>
          </a:xfrm>
          <a:prstGeom prst="rect">
            <a:avLst/>
          </a:prstGeom>
          <a:ln w="9360">
            <a:solidFill>
              <a:srgbClr val="5789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RUIDOS CARDÍACOS</a:t>
            </a:r>
            <a:br>
              <a:rPr sz="32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Se pueden registrar median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El método de </a:t>
            </a:r>
            <a:r>
              <a:rPr b="1" lang="es-ES_tradnl" sz="2400" spc="-1" strike="noStrike">
                <a:solidFill>
                  <a:srgbClr val="578963"/>
                </a:solidFill>
                <a:latin typeface="Arial"/>
              </a:rPr>
              <a:t>Auscultación,</a:t>
            </a: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 usando un estetoscopio colocado en la pared anterior del tórax. Los ruidos auriculoventriculares se transmiten a la pared torácica siguiendo a cada ventrículo respectivo, y los ruidos semilunares lo hacen siguiendo los grandes vasos que salen del corazón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Por medio del</a:t>
            </a:r>
            <a:r>
              <a:rPr b="1" lang="es-ES_tradn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578963"/>
                </a:solidFill>
                <a:latin typeface="Arial"/>
              </a:rPr>
              <a:t>Fonocardiograma,</a:t>
            </a: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 usando un micrófono en la pared anterior del tórax,  amplificandolos y registrandolos en papel, ORC, computador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RUIDOS CARDÍACOS NORMALE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PRIMER RUIDO CARDÍA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URACIÓN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4c2b"/>
                </a:solidFill>
                <a:latin typeface="Arial"/>
              </a:rPr>
              <a:t>0.14- 0.15se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ONO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4c2b"/>
                </a:solidFill>
                <a:latin typeface="Arial"/>
              </a:rPr>
              <a:t>Bajo y Prolongad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RECUENCIA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5-45Hz</a:t>
            </a:r>
            <a:r>
              <a:rPr b="1" lang="en-US" sz="2000" spc="-1" strike="noStrike">
                <a:solidFill>
                  <a:srgbClr val="004c2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TENSIDAD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uave, en reposo y a baja frecuencia cardía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SEGUNDO RUIDO CARDÍA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URACIÓN: 0.11- 0.12se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ONO: Alto y Cort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RCUENCIA: 50Hz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6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TENSIDAD: Fuerte y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aro, cuando la presión Diastólica arterial está elevad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76360" y="2708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33"/>
                </a:solidFill>
                <a:latin typeface="comic"/>
              </a:rPr>
              <a:t>PRESION ARTERIAL MEDI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7315200" cy="6678720"/>
          </a:xfrm>
          <a:prstGeom prst="rect">
            <a:avLst/>
          </a:prstGeom>
          <a:ln w="9360">
            <a:solidFill>
              <a:srgbClr val="578963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140360" y="333360"/>
            <a:ext cx="36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Arial"/>
              </a:rPr>
              <a:t>MEDICION INDIREC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Arial"/>
              </a:rPr>
              <a:t>DE LA PRESION ARTERI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1844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sfingomanòmetro de H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Mang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5445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Fonendoscop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270828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Insuflando      ai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CARACTERÍSTICAS SISTEMA CARDIOVASCULAR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LACIÓN ESTRECHA CON LOS OTROS SISTEM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PORTA EL FLUJO ADECUADO A LOS DIFERENTES ÓRGA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¿CUÁNTO ES EL FLUJO ADECUADO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GASTO CARDÍACO</a:t>
            </a: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: es el volumen  de sangre que sale del corazón en la unidad de tiempo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En un adulto promedio es de 5.5L/Min.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EFECTORES DEL SISTEMA CARDIOVASCULAR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IOCARDIO ESPECÍFICO:</a:t>
            </a:r>
            <a:r>
              <a:rPr b="0" lang="es-ES_tradnl" sz="3200" spc="-1" strike="noStrike">
                <a:solidFill>
                  <a:srgbClr val="578963"/>
                </a:solidFill>
                <a:latin typeface="Times New Roman"/>
              </a:rPr>
              <a:t>F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IOCARDIO CONTRÁCTIL: </a:t>
            </a:r>
            <a:r>
              <a:rPr b="0" lang="es-ES_tradnl" sz="3200" spc="-1" strike="noStrike">
                <a:solidFill>
                  <a:srgbClr val="578963"/>
                </a:solidFill>
                <a:latin typeface="Times New Roman"/>
              </a:rPr>
              <a:t>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ÚSCULO LISO ARTERIOLAR: </a:t>
            </a:r>
            <a:r>
              <a:rPr b="0" lang="es-ES_tradnl" sz="3200" spc="-1" strike="noStrike">
                <a:solidFill>
                  <a:srgbClr val="578963"/>
                </a:solidFill>
                <a:latin typeface="Times New Roman"/>
              </a:rPr>
              <a:t>RP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ÚSCULO LISO VENOSO: </a:t>
            </a:r>
            <a:r>
              <a:rPr b="0" lang="es-ES_tradnl" sz="3200" spc="-1" strike="noStrike">
                <a:solidFill>
                  <a:srgbClr val="578963"/>
                </a:solidFill>
                <a:latin typeface="Times New Roman"/>
              </a:rPr>
              <a:t>PV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s-ES_tradnl" sz="3200" spc="-1" strike="noStrike">
                <a:solidFill>
                  <a:srgbClr val="578963"/>
                </a:solidFill>
                <a:latin typeface="Times New Roman"/>
              </a:rPr>
              <a:t>R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440" y="3240"/>
            <a:ext cx="9136080" cy="6850080"/>
          </a:xfrm>
          <a:prstGeom prst="rect">
            <a:avLst/>
          </a:prstGeom>
          <a:ln w="9360">
            <a:solidFill>
              <a:srgbClr val="b3e1b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9360">
            <a:solidFill>
              <a:srgbClr val="57896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Comic Sans MS"/>
              </a:rPr>
              <a:t>PRESIONES</a:t>
            </a:r>
            <a:r>
              <a:rPr b="1" lang="en-US" sz="2000" spc="-1" strike="noStrike">
                <a:solidFill>
                  <a:srgbClr val="450ef4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578963"/>
                </a:solidFill>
                <a:latin typeface="Comic Sans MS"/>
              </a:rPr>
              <a:t>ARTERIALES DURANTE EL CICLO CARDÍACO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Times New Roman"/>
              </a:rPr>
              <a:t>Presión Mínima o Diastólica depende de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FC. Si &gt; FC, &gt; la PD. Se adelanta la sístole siguient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Resistencia Arteriolar: Al &gt; ,&lt;el volumen que sale de las arteriolas, &gt; el volumen de sangre que queda en el territorio arterial, &gt; la P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Distensibilidad: si &lt; la distensibilidad, &gt; la P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Times New Roman"/>
              </a:rPr>
              <a:t>Presión Diferencial o de Pulso depende de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VE: al &gt; el VE , &gt; la Presión Diferenci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Flujo Expulsivo: Velocidad con que se expulsa la sangre. Direct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Distensibilidad= VE/ Presión Diferencial. Más rigidez de la pared arterial, &gt; Presión Diferenci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Times New Roman"/>
              </a:rPr>
              <a:t>Presión Sistólica o Máxima depende de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Todos los factores que modifican las presiones diastólica y diferenci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Times New Roman"/>
              </a:rPr>
              <a:t>Presión Arterial Media</a:t>
            </a: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 es el valor medio de presión durante el ciclo cardíaco. PM =1PS + 2PD/3 =</a:t>
            </a:r>
            <a:r>
              <a:rPr b="1" lang="es-ES_tradnl" sz="2000" spc="-1" strike="noStrike">
                <a:solidFill>
                  <a:srgbClr val="333333"/>
                </a:solidFill>
                <a:latin typeface="Symbol"/>
                <a:ea typeface="Symbol"/>
              </a:rPr>
              <a:t></a:t>
            </a: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 93,33mmH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7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PM &gt; al &gt;el GC o al &gt; la RP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FACTORES DETERMINANTES DEL VOLUMEN EXPULSIVO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50ef4"/>
                </a:solidFill>
                <a:latin typeface="Arial"/>
              </a:rPr>
              <a:t>PRECARGA :</a:t>
            </a:r>
            <a:r>
              <a:rPr b="1" lang="es-ES_tradnl" sz="24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Generación de Mayor N° de Puentes por cambios en la Longitud de la Fibra Miocárd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Longitud de Reposo de la Fibra Moicárdica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450ef4"/>
                </a:solidFill>
                <a:latin typeface="Arial"/>
              </a:rPr>
              <a:t>1.9</a:t>
            </a:r>
            <a:r>
              <a:rPr b="1" lang="es-ES_tradnl" sz="2000" spc="-1" strike="noStrike">
                <a:solidFill>
                  <a:srgbClr val="450ef4"/>
                </a:solidFill>
                <a:latin typeface="Symbol"/>
                <a:ea typeface="Symbol"/>
              </a:rPr>
              <a:t></a:t>
            </a:r>
            <a:r>
              <a:rPr b="1" lang="es-ES_tradnl" sz="2000" spc="-1" strike="noStrike">
                <a:solidFill>
                  <a:srgbClr val="450ef4"/>
                </a:solidFill>
                <a:latin typeface="Arial"/>
              </a:rPr>
              <a:t> Mide el Sarcómer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Longitud Óptima(Lo) de la Fibra Miocárdica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450ef4"/>
                </a:solidFill>
                <a:latin typeface="Arial"/>
              </a:rPr>
              <a:t>2.4</a:t>
            </a:r>
            <a:r>
              <a:rPr b="1" lang="es-ES_tradnl" sz="2000" spc="-1" strike="noStrike">
                <a:solidFill>
                  <a:srgbClr val="450ef4"/>
                </a:solidFill>
                <a:latin typeface="Symbol"/>
                <a:ea typeface="Symbol"/>
              </a:rPr>
              <a:t></a:t>
            </a:r>
            <a:r>
              <a:rPr b="1" lang="es-ES_tradnl" sz="2000" spc="-1" strike="noStrike">
                <a:solidFill>
                  <a:srgbClr val="450ef4"/>
                </a:solidFill>
                <a:latin typeface="Arial"/>
              </a:rPr>
              <a:t> Mide el Sarcómero(160ml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Ley de Starling:</a:t>
            </a: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 A &gt; VDF, &gt; VE porque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VDF Normal+Lleno el Ventrículo+Larga la Fibra+Tensión+V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VDF &gt;, Fibras Estiradas más allá de Lo, VE&lt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50ef4"/>
                </a:solidFill>
                <a:latin typeface="Arial"/>
              </a:rPr>
              <a:t>FACTORES DETERMINANTES DEL VDF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PTM al Final de la Diástol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Distensibilidad de la Pared Ventricular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Presión de la Aurícula (25%del Llenado Ventricular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89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133200"/>
            <a:ext cx="739152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FACTORES DETERMINANTES DEL VOLUMEN EXPULSIVO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578963"/>
                </a:solidFill>
                <a:latin typeface="Times New Roman"/>
              </a:rPr>
              <a:t>INOTROPISMO:</a:t>
            </a: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Cambios de la Concentración de Calcio dentro de la Célula Miocárdica.  </a:t>
            </a:r>
            <a:r>
              <a:rPr b="1" lang="es-ES_tradnl" sz="2000" spc="-1" strike="noStrike">
                <a:solidFill>
                  <a:srgbClr val="578963"/>
                </a:solidFill>
                <a:latin typeface="Times New Roman"/>
              </a:rPr>
              <a:t>Al &gt; el Inotropismo, &gt; el V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En el Miocardio la Liberación de Calcio es Graduad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Times New Roman"/>
              </a:rPr>
              <a:t>PROCEDENCIA DEL CALCIO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8963"/>
                </a:solidFill>
                <a:latin typeface="Times New Roman"/>
              </a:rPr>
              <a:t>CALCIO EXTRACELULAR:</a:t>
            </a:r>
            <a:r>
              <a:rPr b="1" lang="es-ES_tradnl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4c2b"/>
                </a:solidFill>
                <a:latin typeface="Times New Roman"/>
              </a:rPr>
              <a:t>entra a la célula por canales de Ca</a:t>
            </a:r>
            <a:r>
              <a:rPr b="1" lang="es-ES_tradnl" sz="2000" spc="-1" strike="noStrike" baseline="30000">
                <a:solidFill>
                  <a:srgbClr val="004c2b"/>
                </a:solidFill>
                <a:latin typeface="Times New Roman"/>
              </a:rPr>
              <a:t>++   </a:t>
            </a:r>
            <a:r>
              <a:rPr b="1" lang="es-ES_tradnl" sz="2000" spc="-1" strike="noStrike">
                <a:solidFill>
                  <a:srgbClr val="004c2b"/>
                </a:solidFill>
                <a:latin typeface="Times New Roman"/>
              </a:rPr>
              <a:t>que se abren en la meseta del potencial de ac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8963"/>
                </a:solidFill>
                <a:latin typeface="Times New Roman"/>
              </a:rPr>
              <a:t>CALCIO DEL RETÍCULO SARCOPLASMÁTICO:</a:t>
            </a:r>
            <a:r>
              <a:rPr b="1" lang="es-ES_tradnl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4c2b"/>
                </a:solidFill>
                <a:latin typeface="Times New Roman"/>
              </a:rPr>
              <a:t>a través de canales que hay en la membrana del retícul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8963"/>
                </a:solidFill>
                <a:latin typeface="Times New Roman"/>
              </a:rPr>
              <a:t>LA LIBERACIÓN DE CALCIO DEPENDE DE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Times New Roman"/>
              </a:rPr>
              <a:t>Magnitud de la Corriente de Calcio del Sarcolem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Times New Roman"/>
              </a:rPr>
              <a:t>Contenido de Calcio del Retícul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4c2b"/>
                </a:solidFill>
                <a:latin typeface="Times New Roman"/>
              </a:rPr>
              <a:t>Ej:Efecto Inótropo (+) de las Catecolamin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Times New Roman"/>
              </a:rPr>
              <a:t>Al &gt; la Concentración de Ca</a:t>
            </a:r>
            <a:r>
              <a:rPr b="1" lang="es-ES_tradnl" sz="2000" spc="-1" strike="noStrike" baseline="30000">
                <a:solidFill>
                  <a:srgbClr val="578963"/>
                </a:solidFill>
                <a:latin typeface="Times New Roman"/>
              </a:rPr>
              <a:t>++</a:t>
            </a:r>
            <a:r>
              <a:rPr b="1" lang="es-ES_tradnl" sz="2000" spc="-1" strike="noStrike">
                <a:solidFill>
                  <a:srgbClr val="578963"/>
                </a:solidFill>
                <a:latin typeface="Times New Roman"/>
              </a:rPr>
              <a:t>Intracelular,&gt;N° de Puentes, &gt;Tension generada y/o &gt;VE por Acortamiento Rápido de las Fibr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89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12840" y="250920"/>
            <a:ext cx="671688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89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93920" y="368280"/>
            <a:ext cx="635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FACTORES DETERMINANTES DEL VOLUMEN EXPULSIV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578963"/>
                </a:solidFill>
                <a:latin typeface="Arial"/>
              </a:rPr>
              <a:t>POSTCARGA:</a:t>
            </a:r>
            <a:r>
              <a:rPr b="1" lang="es-ES_tradnl" sz="24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Tensión que debe generar el Ventrículo para Expulsar la Sangr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Arial"/>
              </a:rPr>
              <a:t>FACTORES QUE DETERMINAN LA POSTCARGA</a:t>
            </a:r>
            <a:r>
              <a:rPr b="1" lang="es-ES_tradnl" sz="2400" spc="-1" strike="noStrike">
                <a:solidFill>
                  <a:srgbClr val="57896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Presión de la Aorta: A &gt; Presión, &gt;Postcarga, &lt;V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Radio Ventricular: A &gt; Radio, &gt;Tensión, Mayor Postcarg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Arial"/>
              </a:rPr>
              <a:t>EL RADIO VENTRICULAR ESTÁ DETERMINADO POR EL LLENADO VENTRICULAR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A MAYOR POSTCARGA, MENOR VE PORQUE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578963"/>
                </a:solidFill>
                <a:latin typeface="Arial"/>
              </a:rPr>
              <a:t>A &gt; Tensión, &lt; es la Velocidad de Acortamiento de la Fibra Miocárd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Arial"/>
              </a:rPr>
              <a:t>Los Puentes Formados se usan para Generar Tens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Arial"/>
              </a:rPr>
              <a:t>No hay Expulsión de Sang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78963"/>
                </a:solidFill>
                <a:latin typeface="Arial"/>
              </a:rPr>
              <a:t>El VE es Menor o es igual a cer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5512" t="0" r="3678" b="5767"/>
          <a:stretch/>
        </p:blipFill>
        <p:spPr>
          <a:xfrm>
            <a:off x="231768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ipos de Contracción Muscular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57896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racción Isométrica: L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ngitud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l músculo se mantiene constante y varía la </a:t>
            </a:r>
            <a:r>
              <a:rPr b="0" lang="en-US" sz="3200" spc="-1" strike="noStrike">
                <a:solidFill>
                  <a:srgbClr val="578963"/>
                </a:solidFill>
                <a:latin typeface="Times New Roman"/>
              </a:rPr>
              <a:t>Tensión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sarrolla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ntracción Isotónica: La </a:t>
            </a:r>
            <a:r>
              <a:rPr b="0" lang="en-US" sz="3200" spc="-1" strike="noStrike">
                <a:solidFill>
                  <a:srgbClr val="578963"/>
                </a:solidFill>
                <a:latin typeface="Times New Roman"/>
              </a:rPr>
              <a:t>Longitud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del músculo varía y l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nsión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 mantiene constan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EJERCICIO ISOMÉTRICO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EFECTOS DEL AUMENTO DEL TONO SIMPÁTICO EN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578963"/>
                </a:solidFill>
                <a:uFillTx/>
                <a:latin typeface="Arial"/>
              </a:rPr>
              <a:t>EL CORAZÓN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AUMENTA LA FRECUENCIA CARDÍA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AUMENTA EL VOLUMEN EXPULSIV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578963"/>
                </a:solidFill>
                <a:uFillTx/>
                <a:latin typeface="Arial"/>
              </a:rPr>
              <a:t>LOS VASOS SANGUÍNEOS</a:t>
            </a:r>
            <a:r>
              <a:rPr b="1" lang="es-ES_tradnl" sz="2000" spc="-1" strike="noStrike">
                <a:solidFill>
                  <a:srgbClr val="57896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AUMENTA LA PRESIÓN EXTERNA POR CONTRACCIÓN MUSCULAR PERMANEN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AUMENTA LA RP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AUMENTA LA PAM, POR AUMENTO DE LA PD y Pr. Diferenci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Arial"/>
              </a:rPr>
              <a:t>VASODILATACIÓN LOCAL  DEL INICIO DEL EJERCICIO NO SE MANIFIESTA (SIMPÁTICO COLINÉRGiCO y FACTORES VASODILATADORES LOCALE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EJERCICIO</a:t>
            </a:r>
            <a:r>
              <a:rPr b="0" lang="en-US" sz="3200" spc="-1" strike="noStrike">
                <a:solidFill>
                  <a:srgbClr val="004c2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ISOTÓNICO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578963"/>
                </a:solidFill>
                <a:latin typeface="Arial"/>
              </a:rPr>
              <a:t>ACCIÓN DEL SIMPÁTICO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UMENTA EL VE POR AUMENTO D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OTROPISM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UMENTA LA F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UMENTA LA PRESIÓN DIFERENCIAL y 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EFECTOS LOCAL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VASODILATACIÓN LOCAL por Acción del Simpático  Colinérgico y de Factores locales que la mantienen como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denosina, K+,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O2,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+,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º;  estos efectos provocan: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PT,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D y PAM estará igu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CONSUMO DE O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4c2b"/>
                </a:solidFill>
                <a:latin typeface="Arial"/>
              </a:rPr>
              <a:t> y TRABAJO REALIZAD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AL AUMENTAR EL CONSUMO DE O</a:t>
            </a:r>
            <a:r>
              <a:rPr b="1" lang="en-US" sz="2400" spc="-1" strike="noStrike" baseline="-25000">
                <a:solidFill>
                  <a:srgbClr val="57896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, AUMENTA EL GASTO CARDÍA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L CONSUMO DE O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EN REPOSO ES DE 250ml/min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DURANTE EL TRABAJO, EL CONSUMO DE O</a:t>
            </a:r>
            <a:r>
              <a:rPr b="1" lang="en-US" sz="2400" spc="-1" strike="noStrike" baseline="-25000">
                <a:solidFill>
                  <a:srgbClr val="57896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  PUEDE AUMENTAR A 4L/min.(&gt;16 vec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L GASTO CARDÍACO EN REPOSO ES DE 5.5L/min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8963"/>
                </a:solidFill>
                <a:latin typeface="Arial"/>
              </a:rPr>
              <a:t>EL GASTO CARDÍACO DURANTE EL EJERCICIO PUEDE ALCANZAR A 25L/min.(&gt;±5 a 6 vec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Arial"/>
              </a:rPr>
              <a:t>DISTRIBUCIÓN DEL FLUJO EN LOS DIFERENTES ÓRGANOS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23a"/>
                </a:solidFill>
                <a:latin typeface="Times New Roman"/>
              </a:rPr>
              <a:t>GASTO CARDÍACO EN REPOSO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Riñones:± 1/4 parte (consume ± 10% de O</a:t>
            </a:r>
            <a:r>
              <a:rPr b="1" lang="en-US" sz="2000" spc="-1" strike="noStrike" baseline="-25000">
                <a:solidFill>
                  <a:srgbClr val="57896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Cerebro:± 15% (consume ± 10% de O</a:t>
            </a:r>
            <a:r>
              <a:rPr b="1" lang="en-US" sz="2000" spc="-1" strike="noStrike" baseline="-25000">
                <a:solidFill>
                  <a:srgbClr val="57896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Hígado:± 15% (consume ± 15% de O</a:t>
            </a:r>
            <a:r>
              <a:rPr b="1" lang="en-US" sz="2000" spc="-1" strike="noStrike" baseline="-25000">
                <a:solidFill>
                  <a:srgbClr val="57896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Músculo Esquelético:20% (±50% de la masa corporal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23a"/>
                </a:solidFill>
                <a:latin typeface="Times New Roman"/>
              </a:rPr>
              <a:t>GASTO CARDÍACO EN EJERCICIO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Músculos Esqueléticos reciben: ± 80% del GC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No varia el Flujo Sanguíneo en el Cerebr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Aumenta el Flujo Sanguíneo en el Músculo cardíac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Disminuye el Flujo Sanguíneo en Riñones y Víscer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Arial"/>
              </a:rPr>
              <a:t>Disipa Temperatura, Aumentando el Flujo Sanguíneo en la Pi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¿CÓMO ORGANIZA ESTOS CAMBIOS EL SISTEMA CARDIOVASCULAR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3123a"/>
                </a:solidFill>
                <a:latin typeface="Times New Roman"/>
              </a:rPr>
              <a:t>Aumentando Globalmente el Flujo Sanguíneo: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Aumentando el Gasto Cardíac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123a"/>
                </a:solidFill>
                <a:latin typeface="Times New Roman"/>
              </a:rPr>
              <a:t>Distribución Heterogénea del Flujo Sanguíneo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Aumento del flujo en órganos con gran actividad metabólica: Músculos Esquelétic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No Cambia el Flujo Cerebr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78963"/>
                </a:solidFill>
                <a:latin typeface="Times New Roman"/>
              </a:rPr>
              <a:t>Disminuye el Flujo en órganos con bajas  necesidades metabólicas: Víscer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¿CÓMO AUMENTA GLOBALMENTE EL GASTO CARDÍACO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13123a"/>
                </a:solidFill>
                <a:latin typeface="Times New Roman"/>
              </a:rPr>
              <a:t>Aumentando la Frecuencia Cardíaca:</a:t>
            </a: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578963"/>
                </a:solidFill>
                <a:latin typeface="Times New Roman"/>
              </a:rPr>
              <a:t>&gt; el nº de contracciones por minu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13123a"/>
                </a:solidFill>
                <a:latin typeface="Times New Roman"/>
              </a:rPr>
              <a:t>Aumentando el Volumen Expulsivo:</a:t>
            </a: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578963"/>
                </a:solidFill>
                <a:latin typeface="Times New Roman"/>
              </a:rPr>
              <a:t>&gt; la cantidad de</a:t>
            </a:r>
            <a:r>
              <a:rPr b="1" lang="es-ES_tradnl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578963"/>
                </a:solidFill>
                <a:latin typeface="Times New Roman"/>
              </a:rPr>
              <a:t>sangre expulsada en cada sísto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3123a"/>
                </a:solidFill>
                <a:latin typeface="Times New Roman"/>
              </a:rPr>
              <a:t>Factores que determinan el Flujo Sanguíneo y el Gasto Cardíaco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78963"/>
                </a:solidFill>
                <a:latin typeface="Times New Roman"/>
              </a:rPr>
              <a:t>Diferencia de Presión: (Pi - Pf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8963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78963"/>
                </a:solidFill>
                <a:latin typeface="Times New Roman"/>
              </a:rPr>
              <a:t>Resistencia ofrecida por el circuito: 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13123a"/>
                </a:solidFill>
                <a:latin typeface="Times New Roman"/>
              </a:rPr>
              <a:t>Qº= </a:t>
            </a:r>
            <a:r>
              <a:rPr b="1" lang="es-ES_tradnl" sz="2400" spc="-1" strike="noStrike" u="sng">
                <a:solidFill>
                  <a:srgbClr val="13123a"/>
                </a:solidFill>
                <a:uFillTx/>
                <a:latin typeface="Times New Roman"/>
              </a:rPr>
              <a:t>Pi - Pf</a:t>
            </a:r>
            <a:r>
              <a:rPr b="1" lang="es-ES_tradnl" sz="2400" spc="-1" strike="noStrike">
                <a:solidFill>
                  <a:srgbClr val="13123a"/>
                </a:solidFill>
                <a:latin typeface="Times New Roman"/>
              </a:rPr>
              <a:t>                        GC= </a:t>
            </a:r>
            <a:r>
              <a:rPr b="1" lang="es-ES_tradnl" sz="2400" spc="-1" strike="noStrike" u="sng">
                <a:solidFill>
                  <a:srgbClr val="13123a"/>
                </a:solidFill>
                <a:uFillTx/>
                <a:latin typeface="Times New Roman"/>
              </a:rPr>
              <a:t>PAo - P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3123a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13123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13123a"/>
                </a:solidFill>
                <a:latin typeface="Arial"/>
              </a:rPr>
              <a:t>R  </a:t>
            </a:r>
            <a:r>
              <a:rPr b="1" lang="es-ES_tradnl" sz="1800" spc="-1" strike="noStrike">
                <a:solidFill>
                  <a:srgbClr val="13123a"/>
                </a:solidFill>
                <a:latin typeface="Arial"/>
              </a:rPr>
              <a:t>                                                 </a:t>
            </a:r>
            <a:r>
              <a:rPr b="1" lang="es-ES_tradnl" sz="2400" spc="-1" strike="noStrike">
                <a:solidFill>
                  <a:srgbClr val="13123a"/>
                </a:solidFill>
                <a:latin typeface="Arial"/>
              </a:rPr>
              <a:t>RP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RESISTENCIAS VASCULARES Y DISTRIBUCIÓN DE FLUJO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La Resistencia depende del  Diámetro vascular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578963"/>
                </a:solidFill>
                <a:latin typeface="Times New Roman"/>
              </a:rPr>
              <a:t>a &lt; Diámetro, &gt; Resistenc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istencias Vasculares y Distribución del Flujo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n Territorios donde el Flujo se mantiene constante: </a:t>
            </a:r>
            <a:r>
              <a:rPr b="1" lang="en-US" sz="2400" spc="-1" strike="noStrike">
                <a:solidFill>
                  <a:srgbClr val="578963"/>
                </a:solidFill>
                <a:latin typeface="Times New Roman"/>
              </a:rPr>
              <a:t>la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578963"/>
                </a:solidFill>
                <a:latin typeface="Times New Roman"/>
              </a:rPr>
              <a:t>Resistencia no camb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n Territorios donde Aumenta el Flujo : </a:t>
            </a:r>
            <a:r>
              <a:rPr b="1" lang="en-US" sz="2400" spc="-1" strike="noStrike">
                <a:solidFill>
                  <a:srgbClr val="578963"/>
                </a:solidFill>
                <a:latin typeface="Times New Roman"/>
              </a:rPr>
              <a:t>Disminuye la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578963"/>
                </a:solidFill>
                <a:latin typeface="Times New Roman"/>
              </a:rPr>
              <a:t>Resistencia, porque Aumenta el Diámetro Vascul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n Territorios donde Disminuye el Flujo : </a:t>
            </a:r>
            <a:r>
              <a:rPr b="1" lang="en-US" sz="2400" spc="-1" strike="noStrike">
                <a:solidFill>
                  <a:srgbClr val="578963"/>
                </a:solidFill>
                <a:latin typeface="Times New Roman"/>
              </a:rPr>
              <a:t>Aumenta la Resistencia, porque Disminuye el Diámetro Vascul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5:30:20Z</dcterms:created>
  <dc:creator> Carmen Palazzi F.</dc:creator>
  <dc:description/>
  <dc:language>en-US</dc:language>
  <cp:lastModifiedBy>DAICYNYER</cp:lastModifiedBy>
  <dcterms:modified xsi:type="dcterms:W3CDTF">2008-01-07T05:28:11Z</dcterms:modified>
  <cp:revision>69</cp:revision>
  <dc:subject/>
  <dc:title>CARDIOVASCULAR</dc:title>
</cp:coreProperties>
</file>