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860-5333-4C6B-AC11-DDEA30FE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2EE-CAAB-4D63-AAB0-9044E3DB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551-117C-4558-9224-0380D479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470-5329-4005-9AE3-7C0F8266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A513-2918-41F2-AA7B-679AA12B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B73B-63A5-4DEC-AFF5-A6D9219B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019E-E758-47C9-9571-CB90779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B98E-331B-4538-8B86-05DE1C19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3971-95FE-4FA8-9888-0D6CB77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CB40-1A00-471A-99D8-7762B8BC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D594-0AA0-46AB-92BB-A84311F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EBB-9FB4-402B-A00B-8B81A69D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35EB-406E-46BA-B1A7-5566502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24F1-7DE8-43C6-9780-AB33D0A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B581-27A4-4DAE-8D4D-BE2F2B35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114-7B62-4835-BAFD-A35B1065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1E05-196A-43B5-9114-735CEEB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859-C817-463A-9FB7-E9C1692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C42-7577-46CF-9269-51425F2C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DF2-DE73-458C-BDC1-289E3737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C31-EED3-4E37-9988-15379CFC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C78-8BA8-4B6F-9D5B-D4E4BBAF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47E-003A-4394-84E3-EE579DFA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759-12C3-4DBB-815B-98F11F6E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820E-B2FC-4C6B-A4BA-211815FC53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5420-0484-4DF0-ADC7-D40DFD8641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7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Carreñ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trabajo final de que tendrá carácter evalua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990720"/>
            <a:ext cx="874872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E. Carreño) 0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 “Elementos de Teoría Política”,(Cap. 10, La Política). Ed. Alianza, Madrid 1992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E. 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E. Araya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E. Araya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. La gestión y las políticas públicas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E. Araya)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c Graw-Hill, Madrid 1994.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Carreño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Carreñ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) 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VII. Actividad de Integración y evalu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ación universitaria en los estudios políticos en Chile y el mundo 23 (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Panel: Los jóvenes y la política. 24 (Araya-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Panel: Los jóvenes y la política 25 (Araya-Carreñ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Uchile</cp:lastModifiedBy>
  <dcterms:modified xsi:type="dcterms:W3CDTF">2008-01-02T14:39:06Z</dcterms:modified>
  <cp:revision>23</cp:revision>
  <dc:subject/>
  <dc:title>Presentación de PowerPoint</dc:title>
</cp:coreProperties>
</file>