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E230-5991-4EE9-8BB6-52616C41F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872C-F62D-4BE4-80F1-23CAE3893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5FA0-251E-4260-A813-07BBC55AF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7693-BB36-4A92-80C9-57430DFDD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0F714-EAB1-4574-95C1-308CD05DA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46B4C-4EC4-4EBB-ADA0-90DC8C551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8C1AE-4838-4F83-A701-851EE8181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CDD8F-2C22-4476-85A4-F6FDF722D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CC1BD-509F-4F54-BE8E-541834E70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74C23-30DD-4E1B-9FBE-7CDB10165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ACB16-99FE-4096-BB9B-C0F472F99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07EA-8DBA-4EE2-A7E6-006C68CB4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2D713-6B9E-413D-8C8B-83A1D6B9C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8443F-74A7-43E1-BD8A-97B26029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F4236-C909-4F08-92EE-999A94624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D0CAF-DB1C-4416-81CA-7973B9CB8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32328-019D-464F-91F3-B2DBB34A6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C2C7-7881-4944-9E55-BDC38566F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309F-9CD0-4752-ACE1-CFFFE73A9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09F1-3E94-460D-B4BF-686FFCC3F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646B-6D7E-4B8D-AFEF-79FA7CF6B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1D2D-2215-402B-85AD-8ABE1B507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1504-CC2A-4643-B3A1-012FC5C0C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C383-B081-434F-AFC4-3D4160BBE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B0905-431A-4839-8FFA-E64E30F13D9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0C742-10F0-4326-BD4E-8972D5ABDB2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28600" y="45720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60600" y="3075120"/>
            <a:ext cx="9151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467480" cy="12873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0" y="1371600"/>
            <a:ext cx="8534520" cy="25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Escuela de verano 2007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Georgia"/>
              </a:rPr>
              <a:t>FUNDAMENTOS DE LA CIENCIA POLÍTICA Y EL GOBIERN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4757760"/>
            <a:ext cx="7696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ROFESORES:   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 Eduardo Araya M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 Eduardo Carreño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914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Fundamentos de la Ciencia Política y  el Gobier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172200" cy="1063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133720" y="106668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PROGRAMA DEL CURS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1523880"/>
            <a:ext cx="845820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4568"/>
                </a:solidFill>
                <a:latin typeface="Arial"/>
                <a:ea typeface="Arial"/>
              </a:rPr>
              <a:t>Objetivo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El Curso tiene por f</a:t>
            </a:r>
            <a:r>
              <a:rPr b="1" i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inalidad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 objetivo, entregar a los alumnos elementos para comprender la vida política a partir del estudio de conceptos</a:t>
            </a:r>
            <a:r>
              <a:rPr b="1" i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 básicos 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de la Ciencia Política y el Gobiern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Al final del curso el estudiante estará en condiciones de comprender, en términos generales, la problemática, que se plantea en el mundo moderno, en torno al poder y distinguir los elementos valóricos y técnicos que entran en juego en el sistema  político nacional e internacional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4568"/>
                </a:solidFill>
                <a:latin typeface="Arial"/>
                <a:ea typeface="Arial"/>
              </a:rPr>
              <a:t>Metodología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Las clases serán principalmente expositivas con apoyo en material visual y lecturas obligatorias.  </a:t>
            </a:r>
            <a:r>
              <a:rPr b="1" i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Se estimulará la participación y la discusión a partir de las interrogantes e inquietudes de los estudian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4568"/>
                </a:solidFill>
                <a:latin typeface="Arial"/>
                <a:ea typeface="Arial"/>
              </a:rPr>
              <a:t>Evaluación: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 Se realizará una trabajo final de que tendrá carácter evaluativ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212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Fundamentos de la  Ciencia Política y el Gobier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172200" cy="10638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0" y="76212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Fundamentos de la  Ciencia Política y el Gobier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143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4568"/>
                </a:solidFill>
                <a:latin typeface="Times New Roman"/>
              </a:rPr>
              <a:t>Tem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990720"/>
            <a:ext cx="8748720" cy="41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II.- La Política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La Política como actividad humana (E. Araya ) 02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La política como conocimiento científico (E. Carreño) 03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BBibliografía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Giovanni Sartori “Elementos de Teoría Política”,(Cap. 10, La Política). Ed. Alianza, Madrid 1992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Robert Dahl, “Análisis Político Actual”, Ed. Universitaria de B. Aires, Buenos Aires 1983.  (Cap. I ¿Qué es la Política?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Giovanni Sartori, “La Política, lógica y método en las ciencias sociales”, Ed. Fondo de Cultura Económica, México 1987. (Cap VIII “La política como cienci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172200" cy="10638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0" y="76212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Fundamentos de la  Ciencia Política y el Gobier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" y="1523880"/>
            <a:ext cx="8153280" cy="46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II.- El Pensamiento Político en la Histori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Período clásico y Edad Media  (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E. Carreño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) 0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Modernidad y Posmodernidad  (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E. Carreño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) 0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Bibliografía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Botella, Cañeque y Gonzalo (editores), “El Pensamiento Político en sus Textos. De Platón a Marx”, Ed. Tecnos, Madrid, 1998. Paginas: 17-59,  71-80,  87-110, 119-130,  169-183, 195-211,  260-280,  424- 453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Karl Deutsch, “Política y Gobierno”, Ed. Fondo de Cultura Económica México DF, 1977. (Cáp. IV. Imágenes de la Política: Algunas teorías clásicas del comportamiento y la comunidad” Pág. 87-119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28600" y="1371600"/>
            <a:ext cx="7772400" cy="51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III.- El Sistema Político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El sistema Político como modelo (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E. Carreño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) 0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Elementos y actores del sistema político (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E. Carreño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) 0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Cultura Política, Instituciones, Elecciones, Votos, Alianza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La democracia (E. Araya) 1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Los Partidos Políticos (E. Araya) 1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Bibliografía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</a:t>
            </a:r>
            <a:r>
              <a:rPr b="1" lang="es-CL" sz="1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   </a:t>
            </a:r>
            <a:r>
              <a:rPr b="1" lang="es-CL" sz="1600" spc="-1" strike="noStrike" u="sng">
                <a:solidFill>
                  <a:srgbClr val="ccec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David Easton, “ El enfoque sistémico de la vida política”  .  en Ramón García Cotarello y Juan Luis Paniagua Soto (comp.)“ Introducción a la Ciencia Política”, Ed. Universidad Nacional de Educación a Distancia, Madrid, 1989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Jacques Lagroye, “ Sociología Política”, Ed. Fondo de Cultura Económica, Buenos Aires 1994. (Cap 3. La Política como sistema)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172200" cy="10638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0" y="76212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Fundamentos de la  Ciencia Política y el Gobier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172200" cy="1063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0" y="76212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Fundamentos de la  Ciencia Política y el Gobier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1828800"/>
            <a:ext cx="7848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1752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143000"/>
            <a:ext cx="8381880" cy="48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IV.-  Estado, Gobierno, Administración Públic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0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-Concepto y Evolución, Funciones, Roles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El Estado en el S. XXI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 (E, Araya ) 1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Las instituciones de Gobierno y Administración. La gestión y las políticas públicas  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(E. Araya) 1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Bibliografía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Gianfranco Pasquino, “ Manual de Ciencia Política”, Ed. Alianza Universidad Textos, Madrid 1996. Cap 8 “ Los Gobiernos” por Mauricio Cotta. Pág. 311-359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</a:t>
            </a:r>
            <a:r>
              <a:rPr b="1" lang="es-CL" sz="1600" spc="-1" strike="noStrike" u="sng">
                <a:solidFill>
                  <a:srgbClr val="ccecff"/>
                </a:solidFill>
                <a:uFillTx/>
                <a:latin typeface="Times New Roman"/>
                <a:ea typeface="Times New Roman"/>
              </a:rPr>
              <a:t>  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Manuel Pastor, “Fundamentos de Ciencia Política”, Ed.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Mc Graw-Hill, Madrid 1994. 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Cap1 “Estado Nación y Gobierno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Hugo Palacios Mejía, “ Introducción a la Teoría del Estado” , Ed. Temis, Bogotá 1980. Cap II ¿Qué es el Estado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Eugenio Lahera, “Introducción a las políticas públicas”, Ed. Fondo de Cultura Económica, Santiago 2002. Pág. 13-71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1447920"/>
            <a:ext cx="9144000" cy="48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VI.- La Sociedad Civil y el Estado en el Siglo XXI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 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¿Qué es la sociedad civil? (E. Araya 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Estado y Sociedad Civil (E. Araya ) 1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Las organizaciones civiles y su impacto en las decisiones de gobierno. El fenómeno de la              participación política ( E. Araya ). 1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Bibliografí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</a:t>
            </a:r>
            <a:r>
              <a:rPr b="1" lang="es-E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Eduardo Araya Moreno" La construcción del Estado regulador y la relación Estado sociedad civil" en Revista Estado, Gobierno, Gestión Pública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Revista Chilena de Administración Pública. Año I- N°1 Marzo 2002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Luís Ortega, “El Estado Como Instrumento de la Sociedad” en Revista Sistema, Madrid 199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Nuria Cunnill y Luiz  Bresser, “Lo Público No Estatal en La Reforma del Estado”, Ed. Piados, Buenos Aires 1998. (Cap. 1 Entre el Mercado y El Estado: lo público no estatal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172200" cy="10638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0" y="76212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Fundamentos de la  Ciencia Política y el Gobier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172200" cy="10638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0" y="76212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Fundamentos de la  Ciencia Política y el Gobier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447920"/>
            <a:ext cx="754380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V.- Las Relaciones Internacionales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Actores del sistema internacional (Carreño) 1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El Estado nación en crisis (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Carreño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) 2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Problemas emergentes en la política mundial (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Carreño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) 2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Bibliografía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Fulvio Attina , “El sistema Político Global. Introducción a las relaciones internacionales”” Ed. Piados, Barcelona 2001. Cap 4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Alberto Sepúlveda, “Globalización y Orden Mundial: un análisis político”, en Revista Diplomacia nº 80, Santiago 1999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VII. Actividad de Integración y evalu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Formación universitaria en los estudios políticos en Chile y el mundo 23 (Carreñ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Panel: Los jóvenes y la política. 24 (Araya-Carreñ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Panel: Los jóvenes y la política 25 (Araya-Carreñ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58800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5T22:02:39Z</dcterms:created>
  <dc:creator>Escuela de Gobierno</dc:creator>
  <dc:description/>
  <dc:language>en-US</dc:language>
  <cp:lastModifiedBy>Uchile</cp:lastModifiedBy>
  <dcterms:modified xsi:type="dcterms:W3CDTF">2008-01-02T14:39:06Z</dcterms:modified>
  <cp:revision>23</cp:revision>
  <dc:subject/>
  <dc:title>Presentación de PowerPoint</dc:title>
</cp:coreProperties>
</file>