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0DC-94C1-4F7D-8480-E19520A3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933-F1A5-47FD-A352-A7AEB6E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E66-B3E6-405D-B0F2-3F738DE4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F5E-B7DD-4208-A4A8-3092F1E3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C537-6748-41CB-9F8C-C4396AB6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3820-56A6-4DE2-8F9C-AA0DA359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8579-F21F-4DA1-B8E9-91D38FDE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A8FB-D74C-457D-9532-19BEA118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3B03-E758-4B78-9208-6041CEE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DA4F-8F82-40D6-A063-66C578AD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7B08-F539-4B92-8F13-4B79984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C1C-C024-43C8-B2B7-722B39F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0CA-5075-4706-8487-857DE3E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9CC-1E08-4E53-80B1-25FA20E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B124-ECB6-442A-BCB8-98A46CD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A66-34D7-4227-97BE-84AA2A84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3BF-56D5-4EC6-929A-76C3EFDA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53C-3AA7-4EED-ACE1-B1751CE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4A4-FC23-4616-B102-8A17C57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DFB-E36D-4693-8F33-19A26A6D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F65-9A6A-4979-9783-4DC5FD0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64B-7848-40AB-A277-8B623AF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EC9-EFC6-425F-807C-9D5867B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FF2-F29E-46D4-88BD-C181F4D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7660-E1D8-4328-902C-51E4136319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539-F42A-4570-B184-08E8FFB099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7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Carreñ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trabajo final de que tendrá carácter evalua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90720"/>
            <a:ext cx="874872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E. Carreño) 0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E. Araya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E. Araya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. La gestión y las políticas públicas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E. Araya)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Carreño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VII. Actividad de Integración y evalu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ación universitaria en los estudios políticos en Chile y el mundo 23 (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. 24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 25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Uchile</cp:lastModifiedBy>
  <dcterms:modified xsi:type="dcterms:W3CDTF">2008-01-02T14:39:06Z</dcterms:modified>
  <cp:revision>23</cp:revision>
  <dc:subject/>
  <dc:title>Presentación de PowerPoint</dc:title>
</cp:coreProperties>
</file>