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D44-6993-4E71-A5A3-46F5C454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172-A025-4FB3-9D3A-6A9DE9B8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674-3733-491A-8871-69372A0E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826-256F-42C8-9173-899DA1A4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9E2-4A14-4F8C-B924-AB5F0BF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090-9CC4-4523-BFE5-8CA4B339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661-AA5B-412E-904E-12FBA49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CD4-5A05-4E29-B425-179E8CE4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542-73BF-41F3-A831-C06998D2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292-9B54-4C83-B253-3F00B599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837-14AB-4739-ADAB-3E2A8A4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FED-3079-47B6-87FB-8C1D902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C0BB-D213-4ACC-84FC-32B6176100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A  CUANTIT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a. Lucía Cifuentes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un fenotipo cuantitativo ocurre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 diferencias fenotípicas entre individuos de distinto genotipo son 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pequeñas,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omparadas con la variación fenotípica que hay entre los individuos de un mismo geno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ncia multifactori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enotipo determinado por los </a:t>
            </a:r>
            <a:r>
              <a:rPr b="1" lang="es-ES" sz="3600" spc="-1" strike="noStrike">
                <a:solidFill>
                  <a:srgbClr val="ff4b21"/>
                </a:solidFill>
                <a:latin typeface="Arial"/>
              </a:rPr>
              <a:t>gen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herencia poligénica) y por el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dio ambient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ej: estatura, peso, colesterolemia,  presión arterial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¿Cómo medir la importancia relativa del genotipo y el ambi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red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orción de la variabilidad fenotípica observada en la población, que obedece a diferencias genotípicas entre los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rianza gen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=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rianza genética + Varianza amb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heredabilidad estimada  para un fenotipo varía según la población y el momento en que se 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2670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dabilidades para ciertos rasgos en el hombre (determinados por el estudio de  los geme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sgo                                                            Heredabilidad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                                                                     0,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ura sentado                                                           0,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                                                                          0,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cefálico                                                           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 mental de Binet                                               0,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de Binet                                                                0,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de Otis                                                                  0,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verbal                                                            0,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aritmética                                                     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para las ciencias                                           0,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para la historia y la literatura                        0,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 para deletrear                                           0,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dad de zapateo                                              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41120"/>
            <a:ext cx="8229600" cy="6699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9880" y="609588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286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480" y="601992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cep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05880" y="19414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bra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25146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495288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2360" y="2590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2280" y="4876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ncia multifactorial con umbral de ex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a la herencia de enfermedades complej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acterísticas de las enfermedades de herencia complej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937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 agregación familiar de la enferm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uen un patrón mendeliano de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tener distinta frecuencia en hombres que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 variabilidad en la expresión de los sínto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 de factores genéticos (varios genes con distinta importancia) y factore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Heredabilidad estimada para algunas enfermedades complej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99"/>
                </a:solidFill>
                <a:uFillTx/>
                <a:latin typeface="Arial"/>
              </a:rPr>
              <a:t>Patología                           Heredabilidad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squizofrenia                          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sma bronquial                       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bio leporino                          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plasia de caderas             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f. Coronaria                         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ipertensión arterial               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11484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úmero de porotos de diferentes pesos en la prog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las semillas de pesos diferentes pertene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s-ES" sz="2800" spc="-1" strike="noStrike">
                <a:solidFill>
                  <a:srgbClr val="ff4b21"/>
                </a:solidFill>
                <a:latin typeface="Arial"/>
              </a:rPr>
              <a:t>línea pura 1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Johannsen (1903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eso de las semillas       Número de la progenie                    Peso medio de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progenitoras (cg)                    de peso(cg)                             la progenie(cg)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2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2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3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3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4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4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5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5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6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7,5                                  1       5       6       11      4       8        5                        4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7,5                          1      2       6      27      43     45     27      11        2             45,3     47,5                                  5       9      18      28     19     21       3                        4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7,5                                  1       7      17      16     26     17       8         3             45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so promedio de los porotos de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ferentes líneas pur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Johann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eso de las semillas          Peso medio (cg) en la línea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      progenitoras(cg)                                  número                   .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                                             41,0                   45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5,8      40,7                                57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4,8      40,8        45,0     49,5     57,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5,1                 54,9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5,8     48,2     56,1    63,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0                                                                                   55,5    64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eso medio d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oda la progenie 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a misma línea      35,1      40,8        45,4     49,2     55,8     6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81040" y="1371600"/>
            <a:ext cx="5492880" cy="58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5840" y="6324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ilsson Ehle 1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8160" y="228600"/>
            <a:ext cx="2352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BBCC   x   aab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0920" y="148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04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304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838080"/>
            <a:ext cx="380880" cy="304920"/>
          </a:xfrm>
          <a:prstGeom prst="rect">
            <a:avLst/>
          </a:prstGeom>
          <a:solidFill>
            <a:srgbClr val="f7a7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4038480"/>
            <a:ext cx="21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ligé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d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imación del número de gene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 determinación de un fenotipo de herencia poligé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ast cruzó plantas cepas puras de 40,5 mms de altura con otras  de 93,3 mms de altura, también p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uvo alturas interm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F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colectó 444 plantas, pero ninguna de ellas era tan alta  o tan baja como los par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estuvieran participando  4 pares de genes, los individuos AABBCCDD serían tan altos como el parental alto y ellos tendrían una frecuencia de (½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la progenie del cruzamiento entre las plantas de la F1, o sea 1 de cada 256………..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 este c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ncia del color de la piel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70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610480" y="1600200"/>
            <a:ext cx="533520" cy="15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990720"/>
            <a:ext cx="457200" cy="67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8077320" cy="683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534520" y="380880"/>
            <a:ext cx="4572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582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63244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rasgo cuantitativo puede ser el resultado de los alelos de un solo gen más el efecto ambi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838080" y="1828800"/>
            <a:ext cx="998208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estos tres tipos de plantas se cultivan en ambiente homogéne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838080" y="1701720"/>
            <a:ext cx="9982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0:58Z</dcterms:created>
  <dc:creator> </dc:creator>
  <dc:description/>
  <dc:language>en-US</dc:language>
  <cp:lastModifiedBy>Fac. de Medicina</cp:lastModifiedBy>
  <dcterms:modified xsi:type="dcterms:W3CDTF">2008-01-10T13:46:55Z</dcterms:modified>
  <cp:revision>43</cp:revision>
  <dc:subject/>
  <dc:title>Diapositiva 1</dc:title>
</cp:coreProperties>
</file>