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F4C-B211-4AEC-9C79-EC3295D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5BB-1E29-444E-8A7E-E2BD154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D54-3424-4F33-BA73-4E036CF0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A1B-15AB-476E-8986-739A861E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70E-6F7E-4BFA-9635-BE75964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722-95FC-45C8-AF5B-E5944B95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4EA-B8B0-4626-8D3C-8480ACCA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A9-C8CE-4599-8C6F-C9A949F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B9E-8168-4F1A-A41B-DC46BA0D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A13-1CD3-46ED-951A-BC1BEFD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147-6C52-4038-B156-DEF0209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2FB-1A20-4219-A8E4-53D0CB4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F292-D55D-49BB-B8FA-0EAC302EB6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A  CUANTIT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Lucía Cifuentes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un fenotipo cuantitativo ocurre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 diferencias fenotípicas entre individuos de distinto genotipo son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equeñas,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aradas con la variación fenotípica que hay entre los individuos de un mismo geno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ncia multifactor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enotipo determinado por los </a:t>
            </a:r>
            <a:r>
              <a:rPr b="1" lang="es-ES" sz="3600" spc="-1" strike="noStrike">
                <a:solidFill>
                  <a:srgbClr val="ff4b21"/>
                </a:solidFill>
                <a:latin typeface="Arial"/>
              </a:rPr>
              <a:t>gen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herencia poligénica) y por el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dio ambien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j: estatura, peso, colesterolemia,  presión arte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¿Cómo medir la importancia relativa del genotipo y el ambi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red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ón de la variabilidad fenotípica observada en la población, que obedece a diferencias genotípicas entr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=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 + Varianza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heredabilidad estimada  para un fenotipo varía según la población y el momento en que se 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2670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dabilidades para ciertos rasgos en el hombre (determinados por el estudio de  los geme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sgo                                                            Heredabilidad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                                                                     0,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ura sentado                                                           0,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                                                                          0,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cefálico                                                           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 mental de Binet                                               0,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Binet    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Otis                                                                  0,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verbal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aritmética                                                     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s ciencias                                           0,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 historia y la literatura                        0,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 para deletrear                                           0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 de zapateo                                      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1120"/>
            <a:ext cx="8229600" cy="669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9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286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480" y="60199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cep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05880" y="19414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bra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5146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495288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2360" y="2590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2280" y="4876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multifactorial con umbral de ex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a la herencia de enfermedades comple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acterísticas de las enfermedades de herencia comple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agregación familiar de la enferm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uen un patrón mendeliano de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tener distinta frecuencia en hombres que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variabilidad en la expresión de los sínto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 de factores genéticos (varios genes con distinta importancia) y factor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Heredabilidad estimada para algunas enfermedades comple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99"/>
                </a:solidFill>
                <a:uFillTx/>
                <a:latin typeface="Arial"/>
              </a:rPr>
              <a:t>Patología                           Heredabilidad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quizofrenia                          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ma bronquial                       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bio leporino                         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plasia de caderas            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f. Coronaria                         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ipertensión arterial               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1148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úmero de porotos de diferentes pesos en la prog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las semillas de pesos diferentes pertene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s-ES" sz="2800" spc="-1" strike="noStrike">
                <a:solidFill>
                  <a:srgbClr val="ff4b21"/>
                </a:solidFill>
                <a:latin typeface="Arial"/>
              </a:rPr>
              <a:t>línea pura 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 (1903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eso de las semillas       Número de la progenie                    Peso medio de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progenitoras (cg)                    de peso(cg)                             la progenie(cg)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6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7,5                                  1       5       6       11      4       8        5                        4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,5                          1      2       6      27      43     45     27      11        2             45,3     47,5                                  5       9      18      28     19     21       3                        4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7,5                                  1       7      17      16     26     17       8         3             45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so promedio de los porotos d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ferentes líneas pur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eso de las semillas          Peso medio (cg) en la línea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     progenitoras(cg)                                  número                   .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                                             41,0                   45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,8      40,7                                5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4,8      40,8        45,0     49,5     57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1                 54,9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8     48,2     56,1    63,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0                                                                                   55,5    6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eso medio 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oda la progenie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a misma línea      35,1      40,8        45,4     49,2     55,8     6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81040" y="1371600"/>
            <a:ext cx="5492880" cy="58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5840" y="6324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ilsson Ehle 1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8160" y="228600"/>
            <a:ext cx="2352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   x   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09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04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304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38080"/>
            <a:ext cx="380880" cy="304920"/>
          </a:xfrm>
          <a:prstGeom prst="rect">
            <a:avLst/>
          </a:prstGeom>
          <a:solidFill>
            <a:srgbClr val="f7a7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038480"/>
            <a:ext cx="21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imación del número de gene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determinación de un fenotipo de herencia 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ast cruzó plantas cepas puras de 40,5 mms de altura con otras  de 93,3 mms de altura, también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uvo alturas interm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colectó 444 plantas, pero ninguna de ellas era tan alta  o tan baja como los par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stuvieran participando  4 pares de genes, los individuos AABBCCDD serían tan altos como el parental alto y ellos tendrían una frecuencia de (½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 progenie del cruzamiento entre las plantas de la F1, o sea 1 de cada 256………..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 este c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del color de la piel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70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10480" y="1600200"/>
            <a:ext cx="53352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990720"/>
            <a:ext cx="4572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8077320" cy="683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534520" y="380880"/>
            <a:ext cx="4572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63244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rasgo cuantitativo puede ser el resultado de los alelos de un solo gen más el efecto ambi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838080" y="1828800"/>
            <a:ext cx="998208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estos tres tipos de plantas se cultivan en ambiente homogé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838080" y="1701720"/>
            <a:ext cx="9982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0:58Z</dcterms:created>
  <dc:creator> </dc:creator>
  <dc:description/>
  <dc:language>en-US</dc:language>
  <cp:lastModifiedBy>Fac. de Medicina</cp:lastModifiedBy>
  <dcterms:modified xsi:type="dcterms:W3CDTF">2008-01-10T13:46:55Z</dcterms:modified>
  <cp:revision>43</cp:revision>
  <dc:subject/>
  <dc:title>Diapositiva 1</dc:title>
</cp:coreProperties>
</file>