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4EC-11A2-4315-964A-3BB0FE80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94F-404D-4580-BC40-5B62A90C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871-A539-49A7-9B34-0B83FFDE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CEA-FB5F-4102-B4E3-0F5CECED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91C-036D-41EB-B693-C35D405E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BE8-D26A-4A85-AD89-49BD14E2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8D8-584B-47C5-A41A-8294A2E7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9A9-5C51-4B6B-AE50-6FF00440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61C-D888-4573-A48D-85CD31CB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FF7-2061-46D5-9563-7A8BF71E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449-DC0C-4E04-822D-6EE2E2F0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BFE-210D-4309-B781-7F64DE26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E586-5A0D-4522-9D2B-C0E5EB7E8E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quenet.com/amigos/images/vaca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lfss.net/cpc/dico/s/s.htm3.gif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fao.org/docrep/U4900T/u4900T0o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uije.com/post/zoo/vac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earner.org/channel/courses/biology/images/archive/fullsize/1006_fs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cepes.org.pe/revista/r-agra44/campo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zunzun.cu/libros/banderas-africa/images/chad-algodon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A APLIC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iotecnología permite modificar genéticamente a los seres v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cterias (desarrollo de fármac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get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i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onocimiento del genoma proporciona una herramienta poderosa para el estudio de la individualidad genética y el análisis for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80880" y="14400"/>
            <a:ext cx="1013436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l conocimiento del genoma ha permitido desarrollar herramientas para individualizar genéticamente a un individuo o realizar análisis de parente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ólo el 0,5 % del genoma difiere entre un ser humano y otro, sin embargo esa diferencia  hace a cada uno de nosotros un ser único e irrepetible desde el punto de vista gen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El estudio de la individualidad genética es una poderosa herramienta en el análisis for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99"/>
                </a:solidFill>
                <a:latin typeface="Arial"/>
              </a:rPr>
              <a:t>Análisis de parentesco (estudios de paternidad</a:t>
            </a:r>
            <a:r>
              <a:rPr b="0" i="1" lang="es-ES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99"/>
                </a:solidFill>
                <a:latin typeface="Arial"/>
              </a:rPr>
              <a:t>Análisis criminalístico: Delitos sexuales, homicidios, robos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600" spc="-1" strike="noStrike">
                <a:solidFill>
                  <a:srgbClr val="000099"/>
                </a:solidFill>
                <a:latin typeface="Arial"/>
              </a:rPr>
              <a:t>Identificación humana: Identificación médico leg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RAZONES POR LAS CUALES EL DNA ES UNA MOLECULA UTIL PARA ESTUDIOS FOR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fef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c0fef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 polimórfico (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 e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 here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tá presente en todas las células    nucle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0320" y="762120"/>
            <a:ext cx="7772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urces of Biolog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352680" y="2514600"/>
          <a:ext cx="518184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14600"/>
                    <a:ext cx="5181840" cy="2346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OCUS TH01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microsatél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0840" y="247968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5´-AATG  AATG  AATG  AATG  AATG-3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27672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5´-AATG  AATG  AATG  AATG -3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1240" y="4800600"/>
            <a:ext cx="56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genotipo para TH01 será: 4 /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391880" y="434340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3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880" y="510552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5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6840" y="42735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11240" y="42735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400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56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68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12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25640" y="42735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41400" y="3360240"/>
            <a:ext cx="330840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INDIVIDUO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1720" y="151776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6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37680" y="243216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1447920"/>
            <a:ext cx="5473800" cy="1282680"/>
            <a:chOff x="1066680" y="1447920"/>
            <a:chExt cx="5473800" cy="1282680"/>
          </a:xfrm>
        </p:grpSpPr>
        <p:sp>
          <p:nvSpPr>
            <p:cNvPr id="125" name=""/>
            <p:cNvSpPr/>
            <p:nvPr/>
          </p:nvSpPr>
          <p:spPr>
            <a:xfrm>
              <a:off x="10666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831960" y="603360"/>
            <a:ext cx="2590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INDIVIDU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49568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765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6765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3341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51460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51460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53341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449568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ECUENCIAS GENICAS PARA EL LOCUS D12S1090 EN DADORES SEGUN ESTRATO SOCIO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5000" y="1362240"/>
          <a:ext cx="8920080" cy="49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362240"/>
                    <a:ext cx="8920080" cy="49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ada   la  gran  cantidad de alelos que existen para estos loci, la probabilidad de que 2 personas no emparentadas tengan el mismo genotipo es muy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La probabilidad de que 2 chilenos tengan el mismo genotipo en el minisatélite   D1S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  0.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se estudian 6 loci hipervariables (micro o minisatélites), sólo 1 de cada  45.000.000 de chilenos tendría el mismo gen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n miles de diabéticos en el mundo que requieren de una inyección diaria de insu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1981080"/>
            <a:ext cx="7621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18288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48604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981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1981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981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038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36576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4197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geniería genética para el desarrollo de fárm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ar el gen de la insulina en una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car la bacteria para fabricar insulina humana  en gran ca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1752480"/>
          <a:ext cx="358164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58164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ESTUDIOS  DE  PATERNIDAD:</a:t>
            </a:r>
            <a:br>
              <a:rPr sz="2800"/>
            </a:b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 confidencialidad  y  consentimiento informado  de  los  individuos  analizad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9144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-1526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Arial"/>
              </a:rPr>
              <a:t>En un estudio de pater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Arial"/>
              </a:rPr>
              <a:t>los resultados posibles 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Exclusión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de la                         </a:t>
            </a: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Atribución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paternidad biológica                la paternidad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2598840" cy="2819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41972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sibles resultados de un examen  de paternidad: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clus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tribu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836880" cy="464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81760" y="2057400"/>
            <a:ext cx="3697200" cy="4495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9200" y="338616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re Presu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63480" y="346248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re Presu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560" y="4572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840" y="4572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" y="544356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54100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-457200" y="1371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   análisis  de  microsatélites del DNA permite  atribuir  y  excluir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aternida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con alta  confiabilidad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o también atribuir la culpabilidad en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un crim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o excluir al acusado de é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743200" cy="249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638680" y="1447920"/>
            <a:ext cx="3505320" cy="20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304776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 recombinant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onación de un 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44751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60720" y="0"/>
            <a:ext cx="3565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LES TRANSGÉNICOS O GENÉTICAMENTE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mejorar la producción animal se ha recurrido históricamente a cruzamientos dirig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se puede modificar genéticamente al animal insertándole el gen dese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5181480"/>
            <a:ext cx="1828800" cy="142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5867280"/>
            <a:ext cx="685800" cy="56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2209680"/>
            <a:ext cx="1860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 de la hormona           aumenta               menor ca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crecimiento          producción leche               v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v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s h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r 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n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50292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800600"/>
            <a:ext cx="152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581280"/>
            <a:ext cx="4114800" cy="2975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ricultura genéticamente modifi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52576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43400" y="2819520"/>
            <a:ext cx="39783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l maíz que ho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onsumimos es producto de cruzami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irigidos entre variedades silvestres orig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getales genéticamente modificados o transgénicos 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ener plantas más resistentes a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gas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os uso de pesticida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ener vegetales más apetecibles y más nutri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3526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320" y="3733920"/>
            <a:ext cx="3049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Bacillus thuringiensis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ductor de toxina 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 Infectar a l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protege de los ins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que esta tox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ortal para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geniería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 de gen 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algo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523880"/>
            <a:ext cx="1066680" cy="70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495680"/>
            <a:ext cx="2819520" cy="1758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266688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3:15:41Z</dcterms:created>
  <dc:creator> </dc:creator>
  <dc:description/>
  <dc:language>en-US</dc:language>
  <cp:lastModifiedBy>Fac. de Medicina</cp:lastModifiedBy>
  <dcterms:modified xsi:type="dcterms:W3CDTF">2008-01-10T13:47:54Z</dcterms:modified>
  <cp:revision>19</cp:revision>
  <dc:subject/>
  <dc:title>GENETICA APLICADA</dc:title>
</cp:coreProperties>
</file>