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C9A1-8A81-44BA-BE2C-D35122EC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F140-75FE-40F0-8D2E-3595DC93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5BB6-3AF8-488E-A82D-89ED5C1EF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F71E-F083-40C5-B467-6ABCC5CE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BA3E-30A6-41C5-93C5-04C2A254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B34C-3309-41BB-8E48-3384BE43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928A-2BF3-4AF1-8681-E0712C69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EB39-0EF4-4AD6-82C5-58593584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1A05-2ED4-4462-B454-4E95A2B1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55FC-C804-46CD-AA60-578E896E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8899-35BA-4798-8D94-DBF5FE50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49BA-A676-4801-BEA3-D7836CDE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B973-ED8B-4588-AC7E-3CB6B645EBC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quenet.com/amigos/images/vaca.gif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lfss.net/cpc/dico/s/s.htm3.gif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fao.org/docrep/U4900T/u4900T0o.jpg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uije.com/post/zoo/vaca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learner.org/channel/courses/biology/images/archive/fullsize/1006_fs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cepes.org.pe/revista/r-agra44/campo.jp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www.zunzun.cu/libros/banderas-africa/images/chad-algodon.jpg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TICA APLIC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Biotecnología permite modificar genéticamente a los seres viv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acterias (desarrollo de fármaco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vegeta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ni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conocimiento del genoma proporciona una herramienta poderosa para el estudio de la individualidad genética y el análisis for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380880" y="14400"/>
            <a:ext cx="10134360" cy="68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El conocimiento del genoma ha permitido desarrollar herramientas para individualizar genéticamente a un individuo o realizar análisis de parentes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Sólo el 0,5 % del genoma difiere entre un ser humano y otro, sin embargo esa diferencia  hace a cada uno de nosotros un ser único e irrepetible desde el punto de vista gené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El estudio de la individualidad genética es una poderosa herramienta en el análisis for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0" y="320004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99"/>
                </a:solidFill>
                <a:latin typeface="Arial"/>
              </a:rPr>
              <a:t>Análisis de parentesco (estudios de paternidad</a:t>
            </a:r>
            <a:r>
              <a:rPr b="0" i="1" lang="es-ES" sz="36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99"/>
                </a:solidFill>
                <a:latin typeface="Arial"/>
              </a:rPr>
              <a:t>Análisis criminalístico: Delitos sexuales, homicidios, robos, e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s-ES_tradnl" sz="3600" spc="-1" strike="noStrike">
                <a:solidFill>
                  <a:srgbClr val="000099"/>
                </a:solidFill>
                <a:latin typeface="Arial"/>
              </a:rPr>
              <a:t>Identificación humana: Identificación médico leg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800000"/>
                </a:solidFill>
                <a:latin typeface="Arial"/>
              </a:rPr>
              <a:t>RAZONES POR LAS CUALES EL DNA ES UNA MOLECULA UTIL PARA ESTUDIOS FOR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21715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fef9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c0fef9"/>
                </a:solidFill>
                <a:latin typeface="Arial"/>
              </a:rPr>
              <a:t> </a:t>
            </a:r>
            <a:r>
              <a:rPr b="0" i="1" lang="es-ES_tradnl" sz="3200" spc="-1" strike="noStrike">
                <a:solidFill>
                  <a:srgbClr val="000099"/>
                </a:solidFill>
                <a:latin typeface="Arial"/>
              </a:rPr>
              <a:t>Es polimórfico (vari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s-ES_tradnl" sz="3200" spc="-1" strike="noStrike">
                <a:solidFill>
                  <a:srgbClr val="000099"/>
                </a:solidFill>
                <a:latin typeface="Arial"/>
              </a:rPr>
              <a:t>Es e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s-ES_tradnl" sz="3200" spc="-1" strike="noStrike">
                <a:solidFill>
                  <a:srgbClr val="000099"/>
                </a:solidFill>
                <a:latin typeface="Arial"/>
              </a:rPr>
              <a:t>Es here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s-ES_tradnl" sz="3200" spc="-1" strike="noStrike">
                <a:solidFill>
                  <a:srgbClr val="000099"/>
                </a:solidFill>
                <a:latin typeface="Arial"/>
              </a:rPr>
              <a:t>Está presente en todas las células    nucle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60320" y="762120"/>
            <a:ext cx="77724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ources of Biological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352680" y="2514600"/>
          <a:ext cx="5181840" cy="23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514600"/>
                    <a:ext cx="5181840" cy="2346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LOCUS TH01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(microsatél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50840" y="2479680"/>
            <a:ext cx="717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3399"/>
                </a:solidFill>
                <a:latin typeface="Times New Roman"/>
              </a:rPr>
              <a:t>5´-AATG  AATG  AATG  AATG  AATG-3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3276720"/>
            <a:ext cx="717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3399"/>
                </a:solidFill>
                <a:latin typeface="Times New Roman"/>
              </a:rPr>
              <a:t>5´-AATG  AATG  AATG  AATG -3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21240" y="4800600"/>
            <a:ext cx="56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genotipo para TH01 será: 4 /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391880" y="4343400"/>
            <a:ext cx="106092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fef9"/>
                </a:solidFill>
                <a:latin typeface="Arial"/>
              </a:rPr>
              <a:t>3 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91880" y="5105520"/>
            <a:ext cx="106092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fef9"/>
                </a:solidFill>
                <a:latin typeface="Arial"/>
              </a:rPr>
              <a:t>5 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6840" y="4273560"/>
            <a:ext cx="901800" cy="444600"/>
          </a:xfrm>
          <a:prstGeom prst="rightArrow">
            <a:avLst>
              <a:gd name="adj1" fmla="val 50000"/>
              <a:gd name="adj2" fmla="val 101426"/>
            </a:avLst>
          </a:prstGeom>
          <a:gradFill rotWithShape="0">
            <a:gsLst>
              <a:gs pos="0">
                <a:srgbClr val="000000"/>
              </a:gs>
              <a:gs pos="50000">
                <a:srgbClr val="fc0128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11240" y="4273560"/>
            <a:ext cx="901800" cy="444600"/>
          </a:xfrm>
          <a:prstGeom prst="rightArrow">
            <a:avLst>
              <a:gd name="adj1" fmla="val 50000"/>
              <a:gd name="adj2" fmla="val 101426"/>
            </a:avLst>
          </a:prstGeom>
          <a:gradFill rotWithShape="0">
            <a:gsLst>
              <a:gs pos="0">
                <a:srgbClr val="000000"/>
              </a:gs>
              <a:gs pos="50000">
                <a:srgbClr val="fc0128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40040" y="5111640"/>
            <a:ext cx="901800" cy="444600"/>
          </a:xfrm>
          <a:prstGeom prst="rightArrow">
            <a:avLst>
              <a:gd name="adj1" fmla="val 50000"/>
              <a:gd name="adj2" fmla="val 101426"/>
            </a:avLst>
          </a:prstGeom>
          <a:gradFill rotWithShape="0">
            <a:gsLst>
              <a:gs pos="0">
                <a:srgbClr val="000000"/>
              </a:gs>
              <a:gs pos="50000">
                <a:srgbClr val="fc0128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25640" y="5111640"/>
            <a:ext cx="901800" cy="444600"/>
          </a:xfrm>
          <a:prstGeom prst="rightArrow">
            <a:avLst>
              <a:gd name="adj1" fmla="val 50000"/>
              <a:gd name="adj2" fmla="val 101426"/>
            </a:avLst>
          </a:prstGeom>
          <a:gradFill rotWithShape="0">
            <a:gsLst>
              <a:gs pos="0">
                <a:srgbClr val="000000"/>
              </a:gs>
              <a:gs pos="50000">
                <a:srgbClr val="fc0128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96840" y="5111640"/>
            <a:ext cx="901800" cy="444600"/>
          </a:xfrm>
          <a:prstGeom prst="rightArrow">
            <a:avLst>
              <a:gd name="adj1" fmla="val 50000"/>
              <a:gd name="adj2" fmla="val 101426"/>
            </a:avLst>
          </a:prstGeom>
          <a:gradFill rotWithShape="0">
            <a:gsLst>
              <a:gs pos="0">
                <a:srgbClr val="000000"/>
              </a:gs>
              <a:gs pos="50000">
                <a:srgbClr val="fc0128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1240" y="5111640"/>
            <a:ext cx="901800" cy="444600"/>
          </a:xfrm>
          <a:prstGeom prst="rightArrow">
            <a:avLst>
              <a:gd name="adj1" fmla="val 50000"/>
              <a:gd name="adj2" fmla="val 101426"/>
            </a:avLst>
          </a:prstGeom>
          <a:gradFill rotWithShape="0">
            <a:gsLst>
              <a:gs pos="0">
                <a:srgbClr val="000000"/>
              </a:gs>
              <a:gs pos="50000">
                <a:srgbClr val="fc0128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5111640"/>
            <a:ext cx="901800" cy="444600"/>
          </a:xfrm>
          <a:prstGeom prst="rightArrow">
            <a:avLst>
              <a:gd name="adj1" fmla="val 50000"/>
              <a:gd name="adj2" fmla="val 101426"/>
            </a:avLst>
          </a:prstGeom>
          <a:gradFill rotWithShape="0">
            <a:gsLst>
              <a:gs pos="0">
                <a:srgbClr val="000000"/>
              </a:gs>
              <a:gs pos="50000">
                <a:srgbClr val="fc0128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25640" y="4273560"/>
            <a:ext cx="901800" cy="444600"/>
          </a:xfrm>
          <a:prstGeom prst="rightArrow">
            <a:avLst>
              <a:gd name="adj1" fmla="val 50000"/>
              <a:gd name="adj2" fmla="val 101426"/>
            </a:avLst>
          </a:prstGeom>
          <a:gradFill rotWithShape="0">
            <a:gsLst>
              <a:gs pos="0">
                <a:srgbClr val="000000"/>
              </a:gs>
              <a:gs pos="50000">
                <a:srgbClr val="fc0128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41400" y="3360240"/>
            <a:ext cx="330840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INDIVIDUO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61720" y="1517760"/>
            <a:ext cx="106092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fef9"/>
                </a:solidFill>
                <a:latin typeface="Arial"/>
              </a:rPr>
              <a:t>6 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37680" y="2432160"/>
            <a:ext cx="106092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fef9"/>
                </a:solidFill>
                <a:latin typeface="Arial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c0fef9"/>
                </a:solidFill>
                <a:latin typeface="Arial"/>
              </a:rPr>
              <a:t>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066680" y="1447920"/>
            <a:ext cx="5473800" cy="1282680"/>
            <a:chOff x="1066680" y="1447920"/>
            <a:chExt cx="5473800" cy="1282680"/>
          </a:xfrm>
        </p:grpSpPr>
        <p:sp>
          <p:nvSpPr>
            <p:cNvPr id="125" name=""/>
            <p:cNvSpPr/>
            <p:nvPr/>
          </p:nvSpPr>
          <p:spPr>
            <a:xfrm>
              <a:off x="1066680" y="1447920"/>
              <a:ext cx="901800" cy="444600"/>
            </a:xfrm>
            <a:prstGeom prst="rightArrow">
              <a:avLst>
                <a:gd name="adj1" fmla="val 50000"/>
                <a:gd name="adj2" fmla="val 101426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81080" y="1447920"/>
              <a:ext cx="901800" cy="444600"/>
            </a:xfrm>
            <a:prstGeom prst="rightArrow">
              <a:avLst>
                <a:gd name="adj1" fmla="val 50000"/>
                <a:gd name="adj2" fmla="val 101426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09880" y="2286360"/>
              <a:ext cx="901800" cy="444240"/>
            </a:xfrm>
            <a:prstGeom prst="rightArrow">
              <a:avLst>
                <a:gd name="adj1" fmla="val 50000"/>
                <a:gd name="adj2" fmla="val 101508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2286360"/>
              <a:ext cx="901800" cy="444240"/>
            </a:xfrm>
            <a:prstGeom prst="rightArrow">
              <a:avLst>
                <a:gd name="adj1" fmla="val 50000"/>
                <a:gd name="adj2" fmla="val 101508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6680" y="2286360"/>
              <a:ext cx="901800" cy="444240"/>
            </a:xfrm>
            <a:prstGeom prst="rightArrow">
              <a:avLst>
                <a:gd name="adj1" fmla="val 50000"/>
                <a:gd name="adj2" fmla="val 101508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24280" y="1447920"/>
              <a:ext cx="901800" cy="444600"/>
            </a:xfrm>
            <a:prstGeom prst="rightArrow">
              <a:avLst>
                <a:gd name="adj1" fmla="val 50000"/>
                <a:gd name="adj2" fmla="val 101426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9880" y="1447920"/>
              <a:ext cx="901800" cy="444600"/>
            </a:xfrm>
            <a:prstGeom prst="rightArrow">
              <a:avLst>
                <a:gd name="adj1" fmla="val 50000"/>
                <a:gd name="adj2" fmla="val 101426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81080" y="2286360"/>
              <a:ext cx="901800" cy="444240"/>
            </a:xfrm>
            <a:prstGeom prst="rightArrow">
              <a:avLst>
                <a:gd name="adj1" fmla="val 50000"/>
                <a:gd name="adj2" fmla="val 101508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680" y="1447920"/>
              <a:ext cx="901800" cy="444600"/>
            </a:xfrm>
            <a:prstGeom prst="rightArrow">
              <a:avLst>
                <a:gd name="adj1" fmla="val 50000"/>
                <a:gd name="adj2" fmla="val 101426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95480" y="1447920"/>
              <a:ext cx="901800" cy="444600"/>
            </a:xfrm>
            <a:prstGeom prst="rightArrow">
              <a:avLst>
                <a:gd name="adj1" fmla="val 50000"/>
                <a:gd name="adj2" fmla="val 101426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831960" y="603360"/>
            <a:ext cx="2590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INDIVIDU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4495680"/>
            <a:ext cx="13716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1676520"/>
            <a:ext cx="13716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1676520"/>
            <a:ext cx="13716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05520" y="5334120"/>
            <a:ext cx="13716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91120" y="2514600"/>
            <a:ext cx="13716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2514600"/>
            <a:ext cx="13716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5334120"/>
            <a:ext cx="13716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4495680"/>
            <a:ext cx="13716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153280" cy="1143000"/>
          </a:xfrm>
          <a:prstGeom prst="rect">
            <a:avLst/>
          </a:prstGeom>
          <a:noFill/>
          <a:ln w="0">
            <a:noFill/>
          </a:ln>
          <a:effectLst>
            <a:outerShdw dist="25560" dir="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RECUENCIAS GENICAS PARA EL LOCUS D12S1090 EN DADORES SEGUN ESTRATO SOCIOECONO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35000" y="1362240"/>
          <a:ext cx="8920080" cy="49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000" y="1362240"/>
                    <a:ext cx="8920080" cy="49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ada   la  gran  cantidad de alelos que existen para estos loci, la probabilidad de que 2 personas no emparentadas tengan el mismo genotipo es muy b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228240" y="22096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ejemplo: La probabilidad de que 2 chilenos tengan el mismo genotipo en el minisatélite   D1S8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  0.0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se estudian 6 loci hipervariables (micro o minisatélites), sólo 1 de cada  45.000.000 de chilenos tendría el mismo geno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en miles de diabéticos en el mundo que requieren de una inyección diaria de insu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1981080"/>
            <a:ext cx="7621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00800" y="182880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548604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9920" y="1981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1981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72200" y="1981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403848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3657600"/>
            <a:ext cx="396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441972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geniería genética para el desarrollo de fárma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ar el gen de la insulina en una 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icar la bacteria para fabricar insulina humana  en gran cant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09480" y="1752480"/>
          <a:ext cx="3581640" cy="24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358164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Arial"/>
              </a:rPr>
              <a:t>ESTUDIOS  DE  PATERNIDAD:</a:t>
            </a:r>
            <a:br>
              <a:rPr sz="2800"/>
            </a:br>
            <a:r>
              <a:rPr b="1" lang="es-ES_tradnl" sz="2800" spc="-1" strike="noStrike">
                <a:solidFill>
                  <a:srgbClr val="006600"/>
                </a:solidFill>
                <a:latin typeface="Arial"/>
              </a:rPr>
              <a:t> confidencialidad  y  consentimiento informado  de  los  individuos  analizado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91540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-9144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6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-15264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7a"/>
                </a:solidFill>
                <a:latin typeface="Arial"/>
              </a:rPr>
              <a:t>En un estudio de patern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7a"/>
                </a:solidFill>
                <a:latin typeface="Arial"/>
              </a:rPr>
              <a:t>los resultados posibles s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3200" spc="-1" strike="noStrike" u="sng">
                <a:solidFill>
                  <a:srgbClr val="990033"/>
                </a:solidFill>
                <a:uFillTx/>
                <a:latin typeface="Arial"/>
              </a:rPr>
              <a:t>Exclusión</a:t>
            </a:r>
            <a:r>
              <a:rPr b="1" lang="en-US" sz="3200" spc="-1" strike="noStrike">
                <a:solidFill>
                  <a:srgbClr val="00297a"/>
                </a:solidFill>
                <a:latin typeface="Arial"/>
              </a:rPr>
              <a:t> de la                         </a:t>
            </a:r>
            <a:r>
              <a:rPr b="1" lang="en-US" sz="3200" spc="-1" strike="noStrike" u="sng">
                <a:solidFill>
                  <a:srgbClr val="990033"/>
                </a:solidFill>
                <a:uFillTx/>
                <a:latin typeface="Arial"/>
              </a:rPr>
              <a:t>Atribución</a:t>
            </a:r>
            <a:r>
              <a:rPr b="1" lang="en-US" sz="3200" spc="-1" strike="noStrike">
                <a:solidFill>
                  <a:srgbClr val="00297a"/>
                </a:solidFill>
                <a:latin typeface="Arial"/>
              </a:rPr>
              <a:t>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7a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297a"/>
                </a:solidFill>
                <a:latin typeface="Arial"/>
              </a:rPr>
              <a:t>paternidad biológica                la paternidad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7a"/>
                </a:solidFill>
                <a:latin typeface="Arial"/>
              </a:rPr>
              <a:t>                                                       </a:t>
            </a:r>
            <a:r>
              <a:rPr b="1" lang="en-US" sz="3200" spc="-1" strike="noStrike">
                <a:solidFill>
                  <a:srgbClr val="00297a"/>
                </a:solidFill>
                <a:latin typeface="Arial"/>
              </a:rPr>
              <a:t>bi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486400" y="3733920"/>
            <a:ext cx="2598840" cy="2819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57200" y="3733920"/>
            <a:ext cx="4419720" cy="28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osibles resultados de un examen  de paternidad: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xclusió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tribució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3836880" cy="4648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081760" y="2057400"/>
            <a:ext cx="3697200" cy="4495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39200" y="338616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dre Presu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63480" y="346248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dre Presu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560" y="457200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840" y="457200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" y="544356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541008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-457200" y="13712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l   análisis  de  microsatélites del DNA permite  atribuir  y  excluir 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paternidad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con alta  confiabilidad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mo también atribuir la culpabilidad en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un crime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o excluir al acusado de é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172200" y="4114800"/>
            <a:ext cx="2743200" cy="2492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638680" y="1447920"/>
            <a:ext cx="3505320" cy="204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304776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NA recombinante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lonación de un 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733920" y="304920"/>
            <a:ext cx="447516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60720" y="0"/>
            <a:ext cx="356544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IMALES TRANSGÉNICOS O GENÉTICAMENTE MODIFIC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-164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 mejorar la producción animal se ha recurrido históricamente a cruzamientos dirigi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se puede modificar genéticamente al animal insertándole el gen dese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5181480"/>
            <a:ext cx="1828800" cy="1427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91120" y="5867280"/>
            <a:ext cx="685800" cy="567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81680" y="2209680"/>
            <a:ext cx="1860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 de la hormona           aumenta               menor cant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crecimiento          producción leche               va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v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os h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or ef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rnad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91320" y="502920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62920" y="4800600"/>
            <a:ext cx="1522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5029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5029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5029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5029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3581280"/>
            <a:ext cx="4114800" cy="2975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50532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722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960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6748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ricultura genéticamente modific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2525760" cy="5029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343400" y="2819520"/>
            <a:ext cx="397836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El maíz que ho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onsumimos es producto de cruzamien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dirigidos entre variedades silvestres origi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egetales genéticamente modificados o transgénicos  pa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2361960"/>
            <a:ext cx="81532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ener plantas más resistentes a l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gas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os uso de pesticidas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rotección del medio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ener vegetales más apetecibles y más nutritiv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3352680"/>
            <a:ext cx="8380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495320" y="3733920"/>
            <a:ext cx="30492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Bacillus thuringiensis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ductor de toxina B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l Infectar a la pl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protege de los ins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orque esta tox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 mortal para e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Ingeniería gen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troducción de gen B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 algod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523880"/>
            <a:ext cx="1066680" cy="701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4495680"/>
            <a:ext cx="2819520" cy="1758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95680" y="2666880"/>
            <a:ext cx="1219320" cy="1295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33720" y="510552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23:15:41Z</dcterms:created>
  <dc:creator> </dc:creator>
  <dc:description/>
  <dc:language>en-US</dc:language>
  <cp:lastModifiedBy>Fac. de Medicina</cp:lastModifiedBy>
  <dcterms:modified xsi:type="dcterms:W3CDTF">2008-01-10T13:47:54Z</dcterms:modified>
  <cp:revision>19</cp:revision>
  <dc:subject/>
  <dc:title>GENETICA APLICADA</dc:title>
</cp:coreProperties>
</file>