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5B4-82E4-4259-878F-C088D417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0FF-0C12-4BEA-B587-01FE711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D7D-0446-4FCB-8F2C-FBBB1503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941-979D-47A2-B70E-DEB1570A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D39-A197-466E-9F3D-3B8C2351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1F1-DECC-4B37-9AA5-DF0443B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6BA-B308-481E-82C1-7FAE694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4BD-4290-44F5-A96C-7DC87CD4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243-F89B-48CA-BAC5-4E6C815C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77E-A424-4CE7-913C-6A064D07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375-2B04-43B3-AE5B-22E4DA1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C78-D6E6-4E6E-939C-5E8A084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F4D-C4E6-4080-8593-312CAC7F3C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quenet.com/amigos/images/vac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fss.net/cpc/dico/s/s.htm3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fao.org/docrep/U4900T/u4900T0o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uije.com/post/zoo/vac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earner.org/channel/courses/biology/images/archive/fullsize/1006_fs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epes.org.pe/revista/r-agra44/campo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zunzun.cu/libros/banderas-africa/images/chad-algodon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A APLIC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tecnología permite modificar genéticamente a los seres v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cterias (desarrollo de fármaco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ege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nocimiento del genoma proporciona una herramienta poderosa para el estudio de la individualidad genética y el análisis for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80880" y="14400"/>
            <a:ext cx="1013436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l conocimiento del genoma ha permitido desarrollar herramientas para individualizar genéticamente a un individuo o realizar análisis de parente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ólo el 0,5 % del genoma difiere entre un ser humano y otro, sin embargo esa diferencia  hace a cada uno de nosotros un ser único e irrepetible desde el punto de vista gené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El estudio de la individualidad genética es una poderosa herramienta en el análisis for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99"/>
                </a:solidFill>
                <a:latin typeface="Arial"/>
              </a:rPr>
              <a:t>Análisis de parentesco (estudios de paternidad</a:t>
            </a:r>
            <a:r>
              <a:rPr b="0" i="1" lang="es-ES" sz="36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Análisis criminalístico: Delitos sexuales, homicidios, robos,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600" spc="-1" strike="noStrike">
                <a:solidFill>
                  <a:srgbClr val="000099"/>
                </a:solidFill>
                <a:latin typeface="Arial"/>
              </a:rPr>
              <a:t>Identificación humana: Identificación médico le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"/>
              </a:rPr>
              <a:t>RAZONES POR LAS CUALES EL DNA ES UNA MOLECULA UTIL PARA ESTUDIOS FOR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fef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c0fef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polimórfico (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e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 here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0099"/>
                </a:solidFill>
                <a:latin typeface="Arial"/>
              </a:rPr>
              <a:t>Está presente en todas las células    nucle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0320" y="76212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urces of Biolog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2514600"/>
          <a:ext cx="518184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5181840" cy="234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OCUS TH01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microsatél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0840" y="247968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 AATG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27672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3399"/>
                </a:solidFill>
                <a:latin typeface="Times New Roman"/>
              </a:rPr>
              <a:t>5´-AATG  AATG  AATG  AATG -3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1240" y="4800600"/>
            <a:ext cx="56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genotipo para TH01 será: 4 /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391880" y="434340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3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880" y="510552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5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68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12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400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56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68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12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511164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25640" y="42735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41400" y="3360240"/>
            <a:ext cx="330840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1720" y="15177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6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37680" y="2432160"/>
            <a:ext cx="1060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0fef9"/>
                </a:solidFill>
                <a:latin typeface="Arial"/>
              </a:rPr>
              <a:t>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1447920"/>
            <a:ext cx="5473800" cy="1282680"/>
            <a:chOff x="1066680" y="1447920"/>
            <a:chExt cx="5473800" cy="1282680"/>
          </a:xfrm>
        </p:grpSpPr>
        <p:sp>
          <p:nvSpPr>
            <p:cNvPr id="125" name=""/>
            <p:cNvSpPr/>
            <p:nvPr/>
          </p:nvSpPr>
          <p:spPr>
            <a:xfrm>
              <a:off x="1066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10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2286360"/>
              <a:ext cx="901800" cy="444240"/>
            </a:xfrm>
            <a:prstGeom prst="rightArrow">
              <a:avLst>
                <a:gd name="adj1" fmla="val 50000"/>
                <a:gd name="adj2" fmla="val 10150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447920"/>
              <a:ext cx="901800" cy="444600"/>
            </a:xfrm>
            <a:prstGeom prst="rightArrow">
              <a:avLst>
                <a:gd name="adj1" fmla="val 50000"/>
                <a:gd name="adj2" fmla="val 10142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31960" y="603360"/>
            <a:ext cx="2590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INDIVIDU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6765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51460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533412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495680"/>
            <a:ext cx="13716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ECUENCIAS GENICAS PARA EL LOCUS D12S1090 EN DADORES SEGUN ESTRATO SOCIO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5000" y="1362240"/>
          <a:ext cx="8920080" cy="49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362240"/>
                    <a:ext cx="892008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da   la  gran  cantidad de alelos que existen para estos loci, la probabilidad de que 2 personas no emparentadas tengan el mismo genotipo es muy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La probabilidad de que 2 chilenos tengan el mismo genotipo en el minisatélite   D1S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 0.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se estudian 6 loci hipervariables (micro o minisatélites), sólo 1 de cada  45.000.000 de chilenos tendría el mismo g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 miles de diabéticos en el mundo que requieren de una inyección diaria de 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981080"/>
            <a:ext cx="7621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182880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48604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981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038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36576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19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geniería genética para el desarrollo de fárm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ar el gen de la insulina en una 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car la bacteria para fabricar insulina humana  en gran ca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752480"/>
          <a:ext cx="358164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8164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STUDIOS  DE  PATERNIDAD:</a:t>
            </a:r>
            <a:br>
              <a:rPr sz="2800"/>
            </a:b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 confidencialidad  y  consentimiento informado  de  los  individuos  analizado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9144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-1526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En un estudio de pater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7a"/>
                </a:solidFill>
                <a:latin typeface="Arial"/>
              </a:rPr>
              <a:t>los resultados posibles 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Exclus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la                         </a:t>
            </a: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Atribución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paternidad biológica                la paternidad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                                                       </a:t>
            </a:r>
            <a:r>
              <a:rPr b="1" lang="en-US" sz="3200" spc="-1" strike="noStrike">
                <a:solidFill>
                  <a:srgbClr val="00297a"/>
                </a:solidFill>
                <a:latin typeface="Arial"/>
              </a:rPr>
              <a:t>b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2598840" cy="2819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41972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ibles resultados de un examen  de paternidad: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clus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tribu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836880" cy="464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81760" y="2057400"/>
            <a:ext cx="3697200" cy="4495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9200" y="338616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63480" y="346248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re Pres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56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840" y="4572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" y="544356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541008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-457200" y="1371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l   análisis  de  microsatélites del DNA permite  atribuir  y  excluir 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paternida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con alta  confiabilidad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o también atribuir la culpabilidad en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un crim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o excluir al acusado de é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74320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38680" y="1447920"/>
            <a:ext cx="3505320" cy="20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304776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NA recombinante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lonación de un 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44751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60720" y="0"/>
            <a:ext cx="3565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LES TRANSGÉNICOS O GENÉTICAMENTE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mejorar la producción animal se ha recurrido históricamente a cruzamientos dirig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e puede modificar genéticamente al animal insertándole el gen dese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5181480"/>
            <a:ext cx="1828800" cy="14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5867280"/>
            <a:ext cx="685800" cy="56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2209680"/>
            <a:ext cx="1860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 de la hormona           aumenta               menor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crecimiento          producción leche               va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s h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r ef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n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502920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800600"/>
            <a:ext cx="152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81280"/>
            <a:ext cx="411480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ricultura genéticamente modifi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2576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2819520"/>
            <a:ext cx="39783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l maíz que h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onsumimos es producto de cruza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rigidos entre variedades silvestres orig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getales genéticamente modificados o transgénicos 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plantas más resistentes a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gas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s uso de pesticida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ner vegetales más apetecibles y más nutri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3526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320" y="3733920"/>
            <a:ext cx="3049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Bacillus thuringiensis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ductor de toxina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 Infectar a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tege de los ins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que esta tox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mortal para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Ingeniería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troducción de gen 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algo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3880"/>
            <a:ext cx="1066680" cy="70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495680"/>
            <a:ext cx="2819520" cy="175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6668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51055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3:15:41Z</dcterms:created>
  <dc:creator> </dc:creator>
  <dc:description/>
  <dc:language>en-US</dc:language>
  <cp:lastModifiedBy>Fac. de Medicina</cp:lastModifiedBy>
  <dcterms:modified xsi:type="dcterms:W3CDTF">2008-01-10T13:47:54Z</dcterms:modified>
  <cp:revision>19</cp:revision>
  <dc:subject/>
  <dc:title>GENETICA APLICADA</dc:title>
</cp:coreProperties>
</file>