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519-5827-414C-9975-4AB49555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71B-B947-498E-8E99-E01877E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EF7-6A64-4E92-B398-D1FBEA61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CCD-8D3F-41DE-A2DE-84D5EF5A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B23-BCBE-4070-AD7D-1C4A40C6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A781-8843-4C6C-B549-2777EC5A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032-E661-4D89-9725-C077790C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D20-5582-43E6-A270-A2052164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2EF-B834-47A7-B54E-C5AF7BA4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096-B5C2-479E-AF7F-A1D47585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BF3-4D89-4441-9C8E-A42B4569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CB6-39EB-4E19-9B2F-A0224F45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43AE-5994-4681-AA7E-189BC338B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680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534520" cy="749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4000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ducción 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ón bacte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168560"/>
            <a:ext cx="6477120" cy="568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07520" y="28195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is bacter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8920" y="3733920"/>
            <a:ext cx="24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bacteriano 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2680" y="575136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transform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8560" y="-762120"/>
            <a:ext cx="64404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7120" y="-228600"/>
            <a:ext cx="536256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7160" y="-47520"/>
            <a:ext cx="5808600" cy="76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86080" y="0"/>
            <a:ext cx="570672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87400"/>
            <a:ext cx="93726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833480"/>
            <a:ext cx="89154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4348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jugación entre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cepa Hfr 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y</a:t>
            </a: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cepa F-  th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leu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Str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En un medio de cultivo mínimo, con estreptomicina, sólo sobrevivirán las bacterias recombinantes thr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leu</a:t>
            </a:r>
            <a:r>
              <a:rPr b="1" lang="es-E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1" lang="es-ES" sz="3200" spc="-1" strike="noStrike">
                <a:solidFill>
                  <a:srgbClr val="003399"/>
                </a:solidFill>
                <a:latin typeface="Arial"/>
              </a:rPr>
              <a:t>   y resistentes a la estreptomi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38400"/>
            <a:ext cx="93726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2:02:08Z</dcterms:created>
  <dc:creator> </dc:creator>
  <dc:description/>
  <dc:language>en-US</dc:language>
  <cp:lastModifiedBy>Fac. de Medicina</cp:lastModifiedBy>
  <dcterms:modified xsi:type="dcterms:W3CDTF">2008-01-04T13:04:46Z</dcterms:modified>
  <cp:revision>11</cp:revision>
  <dc:subject/>
  <dc:title>Diapositiva 1</dc:title>
</cp:coreProperties>
</file>