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AB59-C26F-454E-84D8-D23D520E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E60-1EEA-4E22-A14F-30300E16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1843-67AD-4E19-8EA0-F02C45CC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AA9C-9F80-4B8F-B3A1-CE1C9225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039E-EE29-4517-92F9-44A8F86D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3E6-08AB-46EC-9877-E13312A7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AF8-3C42-41C1-B56A-B690C4CE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5E39-099D-49C7-B041-BA2E7679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F720-BF6B-48FD-80FB-72D2EFC7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8DDE-DBC4-41C9-8DD3-C1F6A052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07C-750F-4A2D-910B-E411C5FF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A41-3897-4CCB-846E-CC7D2F96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61E1-F4B7-4B4B-8DA7-B8F223623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01520"/>
            <a:ext cx="868680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534520" cy="749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40000" y="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ducción  bacter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ón bacter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168560"/>
            <a:ext cx="6477120" cy="5689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707520" y="28195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is bacter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8920" y="373392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bacteriano 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2680" y="575136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a transform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8560" y="-762120"/>
            <a:ext cx="6440400" cy="73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7120" y="-228600"/>
            <a:ext cx="536256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97160" y="-47520"/>
            <a:ext cx="5808600" cy="76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86080" y="0"/>
            <a:ext cx="570672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887400"/>
            <a:ext cx="93726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833480"/>
            <a:ext cx="891540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343480" cy="70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jugación entre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cepa Hfr   thr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leu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Str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y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                           cepa F-  thr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leu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Str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En un medio de cultivo mínimo, con estreptomicina, sólo sobrevivirán las bacterias recombinantes thr</a:t>
            </a:r>
            <a:r>
              <a:rPr b="1" lang="es-E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  leu</a:t>
            </a:r>
            <a:r>
              <a:rPr b="1" lang="es-E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   y resistentes a la estreptomi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238400"/>
            <a:ext cx="937260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02:02:08Z</dcterms:created>
  <dc:creator> </dc:creator>
  <dc:description/>
  <dc:language>en-US</dc:language>
  <cp:lastModifiedBy>Fac. de Medicina</cp:lastModifiedBy>
  <dcterms:modified xsi:type="dcterms:W3CDTF">2008-01-04T13:04:46Z</dcterms:modified>
  <cp:revision>11</cp:revision>
  <dc:subject/>
  <dc:title>Diapositiva 1</dc:title>
</cp:coreProperties>
</file>