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AC2-810C-447C-AD98-DCC381AB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1C2-1B78-47A0-8BF7-F960623A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5E6-92AA-4E9C-886E-BCC38E55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515-414C-4DE2-AE10-E3C441C7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0E1-5376-4D4A-B483-78823B5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FB4-D94A-4148-9472-0A663986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F95-7F30-4296-A73C-A169B94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69C-A80C-4B47-9D99-14225515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187-D8BA-4040-8E9C-5306359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513-953A-4BE6-BFE9-48D74DD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BCE-7A4B-4C61-8F2F-80AA2A9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991-58BA-4996-9931-6C9078C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EC9F-7E86-4C18-AE44-4D8378C9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6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53452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4000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ducción 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68560"/>
            <a:ext cx="647712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07520" y="28195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is bacte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8920" y="37339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bacterian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680" y="5751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transfo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8560" y="-762120"/>
            <a:ext cx="6440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7120" y="-228600"/>
            <a:ext cx="536256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-47520"/>
            <a:ext cx="580860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57067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7400"/>
            <a:ext cx="9372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33480"/>
            <a:ext cx="89154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4348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jugación entre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cepa Hfr 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y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cepa F-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En un medio de cultivo mínimo, con estreptomicina, sólo sobrevivirán las bacterias recombinantes thr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 y resistentes a la estreptom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8400"/>
            <a:ext cx="9372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08Z</dcterms:created>
  <dc:creator> </dc:creator>
  <dc:description/>
  <dc:language>en-US</dc:language>
  <cp:lastModifiedBy>Fac. de Medicina</cp:lastModifiedBy>
  <dcterms:modified xsi:type="dcterms:W3CDTF">2008-01-04T13:04:46Z</dcterms:modified>
  <cp:revision>11</cp:revision>
  <dc:subject/>
  <dc:title>Diapositiva 1</dc:title>
</cp:coreProperties>
</file>