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9E7-B3E2-4D99-AE36-30F0A9CD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3B6-EDD1-4ECA-B03E-7FE36753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955-6E65-4C69-896C-11C3CD90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C8A-E3EB-4920-8CC8-2C873809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44F-9441-4924-9DE2-844424EC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6F90-E530-4249-BF6E-D39BA9BF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73E-A4D0-419E-B40D-29EFA595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DC4-8AC3-4B5F-BC4C-1A7C101F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BC6-C975-428A-BE5A-DF3F940E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6D3-7430-402F-9A2D-A6E4D0F3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D3E-E0A4-4419-8231-E6031BE8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BC5-0060-46EC-8BF0-CA3E69CC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A881-44D0-4A78-B7A5-D1996EF57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01520"/>
            <a:ext cx="86868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534520" cy="749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40000" y="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ducción  bacter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ón bacter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168560"/>
            <a:ext cx="6477120" cy="568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07520" y="28195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is bacter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8920" y="373392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bacteriano 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2680" y="575136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transform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8560" y="-762120"/>
            <a:ext cx="6440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7120" y="-228600"/>
            <a:ext cx="536256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97160" y="-47520"/>
            <a:ext cx="5808600" cy="76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86080" y="0"/>
            <a:ext cx="570672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87400"/>
            <a:ext cx="9372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833480"/>
            <a:ext cx="89154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34348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jugación entre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cepa Hfr   th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leu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St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y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                       cepa F-  th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leu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St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En un medio de cultivo mínimo, con estreptomicina, sólo sobrevivirán las bacterias recombinantes thr</a:t>
            </a:r>
            <a:r>
              <a:rPr b="1" lang="es-E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 leu</a:t>
            </a:r>
            <a:r>
              <a:rPr b="1" lang="es-E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  y resistentes a la estreptom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238400"/>
            <a:ext cx="937260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2:02:08Z</dcterms:created>
  <dc:creator> </dc:creator>
  <dc:description/>
  <dc:language>en-US</dc:language>
  <cp:lastModifiedBy>Fac. de Medicina</cp:lastModifiedBy>
  <dcterms:modified xsi:type="dcterms:W3CDTF">2008-01-04T13:04:46Z</dcterms:modified>
  <cp:revision>11</cp:revision>
  <dc:subject/>
  <dc:title>Diapositiva 1</dc:title>
</cp:coreProperties>
</file>