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AC5-C479-43CF-8F4D-9BF32E46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0AD-28F3-41B1-923E-7C1158E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6E8-EC82-4BDC-BA76-EBACA30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204-FA04-4E5A-8048-77719B3F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353-425F-494A-BDB0-B7357BB2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8DE-275A-49A1-9797-747684C0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EA0-A387-429A-AE45-985216B7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0A2-A5B0-4F4B-B174-AA9D787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048-025C-4B93-BD7B-D2C88CCC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DFC-7190-42A1-9680-9110420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218-5FC0-423C-9391-08D9A2D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256-04EC-4F4A-B4BF-A178319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061-01D2-4CA3-859E-38953103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8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351000"/>
            <a:ext cx="7543800" cy="650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17524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1752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3560" y="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ción del sexo masculino en la especie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mosomas sexuales y fenotipos sexuales en la especie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stitución cromosómica           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 XX                                      hembr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XY                                       macho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5,X                                         sind. de Tu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Y   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8,XXXY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X                                        he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YY                                        ma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terminación del sexo e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rosophila 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úmero  de                 Juegos de              Relación              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omosomas X           autosomas (A)          X/A                     sex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                              2                          1,5              metahe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2                          1              hembr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3                         0,67                  inter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2                         0,5               mach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3                         0,33                metam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1840" y="-63360"/>
            <a:ext cx="63403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335240"/>
            <a:ext cx="7467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6104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61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9706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28600" y="-731880"/>
            <a:ext cx="937260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9144000" cy="5549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77080" y="333360"/>
            <a:ext cx="70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erencia holándrica o ligada al cromoso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0:21:21Z</dcterms:created>
  <dc:creator>Facultad de Medicina</dc:creator>
  <dc:description/>
  <dc:language>en-US</dc:language>
  <cp:lastModifiedBy> </cp:lastModifiedBy>
  <dcterms:modified xsi:type="dcterms:W3CDTF">2008-01-03T02:54:54Z</dcterms:modified>
  <cp:revision>13</cp:revision>
  <dc:subject/>
  <dc:title>Presentación de PowerPoint</dc:title>
</cp:coreProperties>
</file>