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ECF-549D-45F2-8AA6-39B15456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51A-283A-4A42-B406-EC45A2BA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297-A5FD-4FFB-A143-BC4F0C17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0A2-5B4B-4257-B81D-C25EDADD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37F-C83C-4CB4-82FF-E8CC1642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010-2A30-48EE-BB9F-60AB7593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590-A94D-44EB-A68D-8E241BFD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243-A9E8-4941-848B-D15DB0E7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3CD-EF0D-46D6-938B-DAA691CF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46A-4072-4351-AFF8-80B7ACA6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563-80FE-4223-9A59-E7781683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FF9-85FE-4280-B47E-18DF9B60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8B10-8ADA-4F3A-99EE-07F4031BD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8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351000"/>
            <a:ext cx="7543800" cy="650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09680" y="1752480"/>
            <a:ext cx="5335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1752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93560" y="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ción del sexo masculino en la especie hu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mosomas sexuales y fenotipos sexuales en la especie hu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stitución cromosómica            Feno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6, XX                                      hembr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6,XY                                       macho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5,X                                         sind. de Tu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XY                                   sind.Klinef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8,XXXY                                sind.Klinef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XX                                        hem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7,XYY                                        mac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terminación del sexo en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rosophila melanog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úmero  de                 Juegos de              Relación               Fen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omosomas X           autosomas (A)          X/A                     sex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                              2                          1,5              metahe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                              2                          1              hembr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                              3                         0,67                  inter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                              2                         0,5               mach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                              3                         0,33                metam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1840" y="-63360"/>
            <a:ext cx="634032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335240"/>
            <a:ext cx="74674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963800"/>
            <a:ext cx="86104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95440" y="0"/>
            <a:ext cx="615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39880" y="0"/>
            <a:ext cx="59706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228600" y="-731880"/>
            <a:ext cx="9372600" cy="85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332000"/>
            <a:ext cx="91440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654120"/>
            <a:ext cx="9144000" cy="5549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77080" y="333360"/>
            <a:ext cx="70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erencia holándrica o ligada al cromoso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20:21:21Z</dcterms:created>
  <dc:creator>Facultad de Medicina</dc:creator>
  <dc:description/>
  <dc:language>en-US</dc:language>
  <cp:lastModifiedBy> </cp:lastModifiedBy>
  <dcterms:modified xsi:type="dcterms:W3CDTF">2008-01-03T02:54:54Z</dcterms:modified>
  <cp:revision>13</cp:revision>
  <dc:subject/>
  <dc:title>Presentación de PowerPoint</dc:title>
</cp:coreProperties>
</file>