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C7E-417E-440C-89D4-70D8CCFD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AC0-A579-4D69-B91D-74ADE0DB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30C-81BE-4976-BDAD-796A7BAB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B85-AE66-4FB8-ACBD-FE2BE88E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372-1445-4009-9803-4E113B1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A5B-A42C-48C1-AB51-4787654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56F-6D53-4A26-8214-2AC1B73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53B-CA16-49D4-AEAF-8BC9936B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000-7663-4B72-8904-B72365F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E5C-C282-4CBA-A07A-002056F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C0C-EAF2-4A19-AD87-B32613B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CD9-6DCB-40B8-88C1-DD06E7C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06CF-D98C-41A6-988A-E9B20D33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351000"/>
            <a:ext cx="7543800" cy="650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17524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752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3560" y="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ción del sexo masculino en la especie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mosomas sexuales y fenotipos sexuales en la especie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stitución cromosómica           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 XX                                      hembr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XY                                       mach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5,X                                         sind. de Tu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Y   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8,XXXY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X                                        he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YY                                        ma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terminación del sexo 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rosophila 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úmero  de                 Juegos de              Relación              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omosomas X           autosomas (A)          X/A                     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                             2                          1,5              metahe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2                          1              hembr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3                         0,67                  inter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2                         0,5               mach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3                         0,33                metam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1840" y="-63360"/>
            <a:ext cx="63403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335240"/>
            <a:ext cx="7467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6104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61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970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28600" y="-731880"/>
            <a:ext cx="937260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77080" y="333360"/>
            <a:ext cx="70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erencia holándrica o ligada al cromoso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0:21:21Z</dcterms:created>
  <dc:creator>Facultad de Medicina</dc:creator>
  <dc:description/>
  <dc:language>en-US</dc:language>
  <cp:lastModifiedBy> </cp:lastModifiedBy>
  <dcterms:modified xsi:type="dcterms:W3CDTF">2008-01-03T02:54:54Z</dcterms:modified>
  <cp:revision>13</cp:revision>
  <dc:subject/>
  <dc:title>Presentación de PowerPoint</dc:title>
</cp:coreProperties>
</file>