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8CE-256F-4237-8F2F-8B4CB7E9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91F-BA19-4C9E-BAC3-AA2C3D3C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FCE-D38C-4B81-8DC7-5134CB95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391-A29B-4E24-AD01-E52F743B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F4D-576C-4BC9-B095-9EB85323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B23-7264-4524-9E69-C42E39A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CD6-C6C2-4A7A-8E10-C02C892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3A8-3C3B-448A-9BC5-675DC726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14C-01D5-4F80-AB43-FE035865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8E7-C908-4733-B54D-FEFA8CE4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9E7-78F5-43B7-9870-85FD8F2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FB1-757B-459A-8A7D-1C610F7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DCD-C496-4E9D-B2CD-4F34732F63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14680" y="-228600"/>
            <a:ext cx="5715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353880"/>
            <a:ext cx="9296280" cy="75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257040"/>
            <a:ext cx="7315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54280" y="0"/>
            <a:ext cx="38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752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grpSp>
          <p:nvGrpSpPr>
            <p:cNvPr id="70" name="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3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 </cp:lastModifiedBy>
  <dcterms:modified xsi:type="dcterms:W3CDTF">2008-01-03T02:52:08Z</dcterms:modified>
  <cp:revision>17</cp:revision>
  <dc:subject/>
  <dc:title>Presentación de PowerPoint</dc:title>
</cp:coreProperties>
</file>