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35B-720C-4088-BD99-78128B64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947-A9E6-485E-B714-AFD75D27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488-A83E-4ABD-B5BA-003316A1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9AF-3520-44AF-B08A-13AC15B5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772-25B5-4BD8-9909-83ABA0A1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7EC-DC21-4105-A35E-18CE2E43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9EC-2C24-4BD0-B897-00572EE9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409-3130-4D51-8624-1FD7C237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DCC-0291-4FA7-8B11-06B40AFC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B6D-2D3C-41E9-98E2-D8BB7D71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080-2F2C-4CF6-ACB6-176BA370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974-DA03-4202-BB35-2BA75CEA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425D-F36C-4D58-9182-278A5D0729A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14680" y="-228600"/>
            <a:ext cx="5715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-353880"/>
            <a:ext cx="9296280" cy="75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14400" y="257040"/>
            <a:ext cx="7315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3880" y="1295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4864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46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55627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24816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429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4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0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34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54280" y="0"/>
            <a:ext cx="38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7520" y="0"/>
            <a:ext cx="56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96960" y="909720"/>
            <a:ext cx="7727760" cy="503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61840" y="1066680"/>
          <a:ext cx="7420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066680"/>
                    <a:ext cx="7420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diferencia entre una semil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a y una rugosa es la cantidad de almidó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lta concentración de almidón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poca sacarosa                                          semil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l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aja concentración de almidón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mucha sacarosa                                    semil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rugosa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 rol del gen L para carácter “liso”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Alelo “L”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zima que cataliza formación de enlace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entre moléculas de sacaro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carosa                                                                     almidó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Alelo “l”: inactivo, no se forma 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848720" y="1225440"/>
          <a:ext cx="9144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225440"/>
                    <a:ext cx="914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543800" y="2743200"/>
          <a:ext cx="1066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743200"/>
                    <a:ext cx="1066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80880" y="167652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2004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419720" y="1371600"/>
          <a:ext cx="60948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1371600"/>
                    <a:ext cx="609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14400" y="3352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75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67080" y="2971800"/>
          <a:ext cx="914400" cy="6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971800"/>
                    <a:ext cx="9144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4479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52360" y="0"/>
            <a:ext cx="6329520" cy="6864480"/>
            <a:chOff x="1152360" y="0"/>
            <a:chExt cx="6329520" cy="6864480"/>
          </a:xfrm>
        </p:grpSpPr>
        <p:grpSp>
          <p:nvGrpSpPr>
            <p:cNvPr id="70" name=""/>
            <p:cNvGrpSpPr/>
            <p:nvPr/>
          </p:nvGrpSpPr>
          <p:grpSpPr>
            <a:xfrm>
              <a:off x="1152360" y="0"/>
              <a:ext cx="6319080" cy="6851880"/>
              <a:chOff x="1152360" y="0"/>
              <a:chExt cx="6319080" cy="685188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1152360" y="0"/>
                <a:ext cx="6319080" cy="1784520"/>
                <a:chOff x="1152360" y="0"/>
                <a:chExt cx="6319080" cy="17845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199520" y="0"/>
                  <a:ext cx="6224040" cy="17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úmero de gametos diferentes producidos por la F1, y de genotipos y fenotipos diferentes en la F2, de un cruce entre progenitores que difieren en un número dado de gene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152360" y="0"/>
                  <a:ext cx="6319080" cy="178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1152360" y="1784880"/>
                <a:ext cx="1578600" cy="1056240"/>
                <a:chOff x="1152360" y="1784880"/>
                <a:chExt cx="1578600" cy="10562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19952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Pares de gen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15236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731320" y="1784880"/>
                <a:ext cx="1578600" cy="1056240"/>
                <a:chOff x="2731320" y="1784880"/>
                <a:chExt cx="1578600" cy="10562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77848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am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73132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4310640" y="1784880"/>
                <a:ext cx="1580040" cy="1056240"/>
                <a:chOff x="4310640" y="1784880"/>
                <a:chExt cx="1580040" cy="10562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357800" y="1784880"/>
                  <a:ext cx="148464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enotip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31064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5891400" y="1784880"/>
                <a:ext cx="1580040" cy="1056240"/>
                <a:chOff x="5891400" y="1784880"/>
                <a:chExt cx="1580040" cy="10562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938560" y="1784880"/>
                  <a:ext cx="148536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fenotipos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89140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1152360" y="2841840"/>
                <a:ext cx="1578600" cy="801360"/>
                <a:chOff x="1152360" y="2841840"/>
                <a:chExt cx="1578600" cy="8013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19952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15236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731320" y="2841840"/>
                <a:ext cx="1578600" cy="801360"/>
                <a:chOff x="2731320" y="2841840"/>
                <a:chExt cx="1578600" cy="8013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7848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3132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310640" y="2841840"/>
                <a:ext cx="1580040" cy="801360"/>
                <a:chOff x="4310640" y="2841840"/>
                <a:chExt cx="1580040" cy="8013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357800" y="2841840"/>
                  <a:ext cx="1484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1064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91400" y="2841840"/>
                <a:ext cx="1580040" cy="801360"/>
                <a:chOff x="5891400" y="2841840"/>
                <a:chExt cx="1580040" cy="8013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938560" y="2841840"/>
                  <a:ext cx="148536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89140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52360" y="3643560"/>
                <a:ext cx="1578600" cy="801720"/>
                <a:chOff x="1152360" y="3643560"/>
                <a:chExt cx="1578600" cy="801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9952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15236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731320" y="3643560"/>
                <a:ext cx="1578600" cy="801720"/>
                <a:chOff x="2731320" y="3643560"/>
                <a:chExt cx="1578600" cy="801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848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73132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310640" y="3643560"/>
                <a:ext cx="1580040" cy="801720"/>
                <a:chOff x="4310640" y="3643560"/>
                <a:chExt cx="1580040" cy="8017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357800" y="36435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31064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891400" y="3643560"/>
                <a:ext cx="1580040" cy="801720"/>
                <a:chOff x="5891400" y="3643560"/>
                <a:chExt cx="1580040" cy="8017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938560" y="36435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9140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152360" y="4445640"/>
                <a:ext cx="1578600" cy="801720"/>
                <a:chOff x="1152360" y="4445640"/>
                <a:chExt cx="1578600" cy="801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19952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15236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731320" y="4445640"/>
                <a:ext cx="1578600" cy="801720"/>
                <a:chOff x="2731320" y="4445640"/>
                <a:chExt cx="1578600" cy="8017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848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73132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310640" y="4445640"/>
                <a:ext cx="1580040" cy="801720"/>
                <a:chOff x="4310640" y="4445640"/>
                <a:chExt cx="1580040" cy="8017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357800" y="444564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31064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891400" y="4445640"/>
                <a:ext cx="1580040" cy="801720"/>
                <a:chOff x="5891400" y="4445640"/>
                <a:chExt cx="1580040" cy="801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938560" y="444564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89140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152360" y="5248080"/>
                <a:ext cx="1578600" cy="801720"/>
                <a:chOff x="1152360" y="5248080"/>
                <a:chExt cx="1578600" cy="8017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19952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15236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731320" y="5248080"/>
                <a:ext cx="1578600" cy="801720"/>
                <a:chOff x="2731320" y="5248080"/>
                <a:chExt cx="1578600" cy="8017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77848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73132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310640" y="5248080"/>
                <a:ext cx="1580040" cy="801720"/>
                <a:chOff x="4310640" y="5248080"/>
                <a:chExt cx="1580040" cy="8017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357800" y="524808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31064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891400" y="5248080"/>
                <a:ext cx="1580040" cy="801720"/>
                <a:chOff x="5891400" y="5248080"/>
                <a:chExt cx="1580040" cy="801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938560" y="524808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89140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152360" y="6050160"/>
                <a:ext cx="1578600" cy="801720"/>
                <a:chOff x="1152360" y="6050160"/>
                <a:chExt cx="1578600" cy="801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19952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15236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731320" y="6050160"/>
                <a:ext cx="1578600" cy="801720"/>
                <a:chOff x="2731320" y="6050160"/>
                <a:chExt cx="1578600" cy="801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77848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3132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310640" y="6050160"/>
                <a:ext cx="1580040" cy="801720"/>
                <a:chOff x="4310640" y="6050160"/>
                <a:chExt cx="1580040" cy="801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57800" y="60501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064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891400" y="6050160"/>
                <a:ext cx="1580040" cy="801720"/>
                <a:chOff x="5891400" y="6050160"/>
                <a:chExt cx="1580040" cy="801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938560" y="60501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89140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" name="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042920" y="1125360"/>
          <a:ext cx="72486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25360"/>
                    <a:ext cx="7248600" cy="4819680"/>
                  </a:xfrm>
                  <a:prstGeom prst="rect">
                    <a:avLst/>
                  </a:prstGeom>
                  <a:ln w="7632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33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152280" y="1671480"/>
            <a:ext cx="9296280" cy="357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20:22:20Z</dcterms:created>
  <dc:creator>Facultad de Medicina</dc:creator>
  <dc:description/>
  <dc:language>en-US</dc:language>
  <cp:lastModifiedBy> </cp:lastModifiedBy>
  <dcterms:modified xsi:type="dcterms:W3CDTF">2008-01-03T02:52:08Z</dcterms:modified>
  <cp:revision>17</cp:revision>
  <dc:subject/>
  <dc:title>Presentación de PowerPoint</dc:title>
</cp:coreProperties>
</file>