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8.jpeg" ContentType="image/jpeg"/>
  <Override PartName="/ppt/media/image13.jpeg" ContentType="image/jpeg"/>
  <Override PartName="/ppt/media/image9.jpeg" ContentType="image/jpeg"/>
  <Override PartName="/ppt/media/image10.jpeg" ContentType="image/jpeg"/>
  <Override PartName="/ppt/media/image11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7303B-A63C-43CD-B2ED-6C9D7B33C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1ACCC-1154-455F-ACC9-91E2B280E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893EE-41D6-476E-9B6E-5A83629B7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DB847-8298-4D58-97E1-0B51FEFFB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27AC2-0074-4F55-B71D-5931ADD91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8C426-7729-4EAB-90A2-C302554E7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AA9D3-2B73-4566-907F-00E607263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5A517-CA9F-4770-9142-A90BF8FBF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8F615-4BE1-4981-A8CE-D0F498767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CEA0C-9386-41F7-AF11-C8F6CEE7B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553E3-AFF1-4F74-BF4A-A0CC75CF2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354FB-55D0-4F43-82DD-247AA2387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EFA28-DAB9-4C23-BF7F-59C763D5F614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714680" y="-228600"/>
            <a:ext cx="571500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0" y="-353880"/>
            <a:ext cx="9296280" cy="758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914400" y="257040"/>
            <a:ext cx="731520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523880" y="1295280"/>
            <a:ext cx="38124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752480" y="2286000"/>
            <a:ext cx="38124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62120" y="228600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648320" y="121932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276720" y="228600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343400" y="342900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666880" y="1295280"/>
            <a:ext cx="38124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495680" y="2286000"/>
            <a:ext cx="38124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590920" y="2286000"/>
            <a:ext cx="3808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410080" y="1295280"/>
            <a:ext cx="38124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410080" y="2286000"/>
            <a:ext cx="38124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248520" y="2286000"/>
            <a:ext cx="3808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086600" y="335268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228600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172200" y="335268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848720" y="3429000"/>
            <a:ext cx="3808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876920" y="548640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10280" y="5486400"/>
            <a:ext cx="38124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486400"/>
            <a:ext cx="380880" cy="380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924680" y="5486400"/>
            <a:ext cx="38124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095880" y="5486400"/>
            <a:ext cx="38124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971800" y="5562720"/>
            <a:ext cx="3808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905120" y="14479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029200" y="1371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914400" y="182880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648320" y="182880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629400" y="24382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30481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286000" y="1447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91440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9051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819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181480" y="13716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6483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657600" y="24382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5627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4771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6248160" y="18288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743200" y="18288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5053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743200" y="3429000"/>
            <a:ext cx="3808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52680" y="3429000"/>
            <a:ext cx="38124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95480" y="312408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495680" y="3124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895480" y="3124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581280" y="3124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038480" y="24382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858000" y="24382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324480" y="3048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238880" y="3048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6324120" y="30481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105520" y="3429000"/>
            <a:ext cx="3808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724280" y="35812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467480" y="35812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00600" y="426708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809880" y="4267080"/>
            <a:ext cx="38124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781680" y="4267080"/>
            <a:ext cx="38124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638680" y="4343400"/>
            <a:ext cx="38124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848720" y="4267080"/>
            <a:ext cx="3808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962520" y="4038480"/>
            <a:ext cx="1904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962520" y="4038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038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867280" y="40384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876920" y="3581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934320" y="40384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620120" y="3581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934320" y="4038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8077320" y="4038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19920" y="44197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19920" y="44956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124080" y="5257800"/>
            <a:ext cx="4953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400800" y="44956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124080" y="5257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114800" y="52578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05520" y="52578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248520" y="52578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162920" y="52578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8077320" y="52578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2654280" y="0"/>
            <a:ext cx="383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757520" y="0"/>
            <a:ext cx="5627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96960" y="909720"/>
            <a:ext cx="7727760" cy="5038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861840" y="1066680"/>
          <a:ext cx="7420320" cy="472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1840" y="1066680"/>
                    <a:ext cx="7420320" cy="47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417760" y="0"/>
            <a:ext cx="4308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a diferencia entre una semil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isa y una rugosa es la cantidad de almidón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alta concentración de almidón                          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poca sacarosa                                          semill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lis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baja concentración de almidón                          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mucha sacarosa                                    semill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rugosa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l rol del gen L para carácter “liso”: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Alelo “L”: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zima que cataliza formación de enlaces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                                      entre moléculas de sacarosa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acarosa                                                                     almidón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Alelo “l”: inactivo, no se forma almid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7848720" y="1225440"/>
          <a:ext cx="914400" cy="878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48720" y="1225440"/>
                    <a:ext cx="914400" cy="87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7543800" y="2743200"/>
          <a:ext cx="1066680" cy="793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43800" y="2743200"/>
                    <a:ext cx="1066680" cy="79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380880" y="1676520"/>
            <a:ext cx="152640" cy="15228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3200400"/>
            <a:ext cx="152640" cy="15228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4419720" y="1371600"/>
          <a:ext cx="609480" cy="585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19720" y="1371600"/>
                    <a:ext cx="609480" cy="58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"/>
          <p:cNvSpPr/>
          <p:nvPr/>
        </p:nvSpPr>
        <p:spPr>
          <a:xfrm>
            <a:off x="914400" y="3352680"/>
            <a:ext cx="3200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81480" y="33526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029200" y="175248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914400" y="1752480"/>
            <a:ext cx="3200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267080" y="2971800"/>
          <a:ext cx="914400" cy="681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267080" y="2971800"/>
                    <a:ext cx="914400" cy="68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"/>
          <p:cNvSpPr/>
          <p:nvPr/>
        </p:nvSpPr>
        <p:spPr>
          <a:xfrm>
            <a:off x="1447920" y="571500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438280" y="57150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505320" y="57150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343400" y="5715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181480" y="57150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1152360" y="0"/>
            <a:ext cx="6329520" cy="6864480"/>
            <a:chOff x="1152360" y="0"/>
            <a:chExt cx="6329520" cy="6864480"/>
          </a:xfrm>
        </p:grpSpPr>
        <p:grpSp>
          <p:nvGrpSpPr>
            <p:cNvPr id="70" name=""/>
            <p:cNvGrpSpPr/>
            <p:nvPr/>
          </p:nvGrpSpPr>
          <p:grpSpPr>
            <a:xfrm>
              <a:off x="1152360" y="0"/>
              <a:ext cx="6319080" cy="6851880"/>
              <a:chOff x="1152360" y="0"/>
              <a:chExt cx="6319080" cy="6851880"/>
            </a:xfrm>
          </p:grpSpPr>
          <p:grpSp>
            <p:nvGrpSpPr>
              <p:cNvPr id="71" name=""/>
              <p:cNvGrpSpPr/>
              <p:nvPr/>
            </p:nvGrpSpPr>
            <p:grpSpPr>
              <a:xfrm>
                <a:off x="1152360" y="0"/>
                <a:ext cx="6319080" cy="1784520"/>
                <a:chOff x="1152360" y="0"/>
                <a:chExt cx="6319080" cy="1784520"/>
              </a:xfrm>
            </p:grpSpPr>
            <p:sp>
              <p:nvSpPr>
                <p:cNvPr id="72" name=""/>
                <p:cNvSpPr/>
                <p:nvPr/>
              </p:nvSpPr>
              <p:spPr>
                <a:xfrm>
                  <a:off x="1199520" y="0"/>
                  <a:ext cx="6224040" cy="1784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560" rIns="79560" tIns="39600" bIns="39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Número de gametos diferentes producidos por la F1, y de genotipos y fenotipos diferentes en la F2, de un cruce entre progenitores que difieren en un número dado de genes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"/>
                <p:cNvSpPr/>
                <p:nvPr/>
              </p:nvSpPr>
              <p:spPr>
                <a:xfrm>
                  <a:off x="1152360" y="0"/>
                  <a:ext cx="6319080" cy="1784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" name=""/>
              <p:cNvGrpSpPr/>
              <p:nvPr/>
            </p:nvGrpSpPr>
            <p:grpSpPr>
              <a:xfrm>
                <a:off x="1152360" y="1784880"/>
                <a:ext cx="1578600" cy="1056240"/>
                <a:chOff x="1152360" y="1784880"/>
                <a:chExt cx="1578600" cy="1056240"/>
              </a:xfrm>
            </p:grpSpPr>
            <p:sp>
              <p:nvSpPr>
                <p:cNvPr id="75" name=""/>
                <p:cNvSpPr/>
                <p:nvPr/>
              </p:nvSpPr>
              <p:spPr>
                <a:xfrm>
                  <a:off x="1199520" y="1784880"/>
                  <a:ext cx="1483200" cy="105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560" rIns="79560" tIns="39600" bIns="39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600" spc="-1" strike="noStrike" u="sng">
                      <a:solidFill>
                        <a:srgbClr val="000000"/>
                      </a:solidFill>
                      <a:uFillTx/>
                      <a:latin typeface="Times New Roman"/>
                    </a:rPr>
                    <a:t>Pares de gene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>
                  <a:off x="1152360" y="1784880"/>
                  <a:ext cx="1578600" cy="1056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" name=""/>
              <p:cNvGrpSpPr/>
              <p:nvPr/>
            </p:nvGrpSpPr>
            <p:grpSpPr>
              <a:xfrm>
                <a:off x="2731320" y="1784880"/>
                <a:ext cx="1578600" cy="1056240"/>
                <a:chOff x="2731320" y="1784880"/>
                <a:chExt cx="1578600" cy="1056240"/>
              </a:xfrm>
            </p:grpSpPr>
            <p:sp>
              <p:nvSpPr>
                <p:cNvPr id="78" name=""/>
                <p:cNvSpPr/>
                <p:nvPr/>
              </p:nvSpPr>
              <p:spPr>
                <a:xfrm>
                  <a:off x="2778480" y="1784880"/>
                  <a:ext cx="1483200" cy="105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560" rIns="79560" tIns="39600" bIns="39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600" spc="-1" strike="noStrike" u="sng">
                      <a:solidFill>
                        <a:srgbClr val="000000"/>
                      </a:solidFill>
                      <a:uFillTx/>
                      <a:latin typeface="Times New Roman"/>
                    </a:rPr>
                    <a:t>Clases de gameto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>
                  <a:off x="2731320" y="1784880"/>
                  <a:ext cx="1578600" cy="1056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" name=""/>
              <p:cNvGrpSpPr/>
              <p:nvPr/>
            </p:nvGrpSpPr>
            <p:grpSpPr>
              <a:xfrm>
                <a:off x="4310640" y="1784880"/>
                <a:ext cx="1580040" cy="1056240"/>
                <a:chOff x="4310640" y="1784880"/>
                <a:chExt cx="1580040" cy="1056240"/>
              </a:xfrm>
            </p:grpSpPr>
            <p:sp>
              <p:nvSpPr>
                <p:cNvPr id="81" name=""/>
                <p:cNvSpPr/>
                <p:nvPr/>
              </p:nvSpPr>
              <p:spPr>
                <a:xfrm>
                  <a:off x="4357800" y="1784880"/>
                  <a:ext cx="1484640" cy="105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560" rIns="79560" tIns="39600" bIns="39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600" spc="-1" strike="noStrike" u="sng">
                      <a:solidFill>
                        <a:srgbClr val="000000"/>
                      </a:solidFill>
                      <a:uFillTx/>
                      <a:latin typeface="Times New Roman"/>
                    </a:rPr>
                    <a:t>Clases de genotipos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" name=""/>
                <p:cNvSpPr/>
                <p:nvPr/>
              </p:nvSpPr>
              <p:spPr>
                <a:xfrm>
                  <a:off x="4310640" y="1784880"/>
                  <a:ext cx="1580040" cy="1056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3" name=""/>
              <p:cNvGrpSpPr/>
              <p:nvPr/>
            </p:nvGrpSpPr>
            <p:grpSpPr>
              <a:xfrm>
                <a:off x="5891400" y="1784880"/>
                <a:ext cx="1580040" cy="1056240"/>
                <a:chOff x="5891400" y="1784880"/>
                <a:chExt cx="1580040" cy="1056240"/>
              </a:xfrm>
            </p:grpSpPr>
            <p:sp>
              <p:nvSpPr>
                <p:cNvPr id="84" name=""/>
                <p:cNvSpPr/>
                <p:nvPr/>
              </p:nvSpPr>
              <p:spPr>
                <a:xfrm>
                  <a:off x="5938560" y="1784880"/>
                  <a:ext cx="1485360" cy="105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560" rIns="79560" tIns="39600" bIns="39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600" spc="-1" strike="noStrike" u="sng">
                      <a:solidFill>
                        <a:srgbClr val="000000"/>
                      </a:solidFill>
                      <a:uFillTx/>
                      <a:latin typeface="Times New Roman"/>
                    </a:rPr>
                    <a:t>Clases de fenotipos*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>
                  <a:off x="5891400" y="1784880"/>
                  <a:ext cx="1580040" cy="1056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6" name=""/>
              <p:cNvGrpSpPr/>
              <p:nvPr/>
            </p:nvGrpSpPr>
            <p:grpSpPr>
              <a:xfrm>
                <a:off x="1152360" y="2841840"/>
                <a:ext cx="1578600" cy="801360"/>
                <a:chOff x="1152360" y="2841840"/>
                <a:chExt cx="1578600" cy="801360"/>
              </a:xfrm>
            </p:grpSpPr>
            <p:sp>
              <p:nvSpPr>
                <p:cNvPr id="87" name=""/>
                <p:cNvSpPr/>
                <p:nvPr/>
              </p:nvSpPr>
              <p:spPr>
                <a:xfrm>
                  <a:off x="1199520" y="2841840"/>
                  <a:ext cx="1483200" cy="80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560" rIns="79560" tIns="39600" bIns="39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>
                  <a:off x="1152360" y="2841840"/>
                  <a:ext cx="1578600" cy="801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" name=""/>
              <p:cNvGrpSpPr/>
              <p:nvPr/>
            </p:nvGrpSpPr>
            <p:grpSpPr>
              <a:xfrm>
                <a:off x="2731320" y="2841840"/>
                <a:ext cx="1578600" cy="801360"/>
                <a:chOff x="2731320" y="2841840"/>
                <a:chExt cx="1578600" cy="801360"/>
              </a:xfrm>
            </p:grpSpPr>
            <p:sp>
              <p:nvSpPr>
                <p:cNvPr id="90" name=""/>
                <p:cNvSpPr/>
                <p:nvPr/>
              </p:nvSpPr>
              <p:spPr>
                <a:xfrm>
                  <a:off x="2778480" y="2841840"/>
                  <a:ext cx="1483200" cy="80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560" rIns="79560" tIns="39600" bIns="39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2731320" y="2841840"/>
                  <a:ext cx="1578600" cy="801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2" name=""/>
              <p:cNvGrpSpPr/>
              <p:nvPr/>
            </p:nvGrpSpPr>
            <p:grpSpPr>
              <a:xfrm>
                <a:off x="4310640" y="2841840"/>
                <a:ext cx="1580040" cy="801360"/>
                <a:chOff x="4310640" y="2841840"/>
                <a:chExt cx="1580040" cy="801360"/>
              </a:xfrm>
            </p:grpSpPr>
            <p:sp>
              <p:nvSpPr>
                <p:cNvPr id="93" name=""/>
                <p:cNvSpPr/>
                <p:nvPr/>
              </p:nvSpPr>
              <p:spPr>
                <a:xfrm>
                  <a:off x="4357800" y="2841840"/>
                  <a:ext cx="1484640" cy="80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560" rIns="79560" tIns="39600" bIns="39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4310640" y="2841840"/>
                  <a:ext cx="1580040" cy="801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" name=""/>
              <p:cNvGrpSpPr/>
              <p:nvPr/>
            </p:nvGrpSpPr>
            <p:grpSpPr>
              <a:xfrm>
                <a:off x="5891400" y="2841840"/>
                <a:ext cx="1580040" cy="801360"/>
                <a:chOff x="5891400" y="2841840"/>
                <a:chExt cx="1580040" cy="801360"/>
              </a:xfrm>
            </p:grpSpPr>
            <p:sp>
              <p:nvSpPr>
                <p:cNvPr id="96" name=""/>
                <p:cNvSpPr/>
                <p:nvPr/>
              </p:nvSpPr>
              <p:spPr>
                <a:xfrm>
                  <a:off x="5938560" y="2841840"/>
                  <a:ext cx="1485360" cy="80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560" rIns="79560" tIns="39600" bIns="39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>
                  <a:off x="5891400" y="2841840"/>
                  <a:ext cx="1580040" cy="801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" name=""/>
              <p:cNvGrpSpPr/>
              <p:nvPr/>
            </p:nvGrpSpPr>
            <p:grpSpPr>
              <a:xfrm>
                <a:off x="1152360" y="3643560"/>
                <a:ext cx="1578600" cy="801720"/>
                <a:chOff x="1152360" y="3643560"/>
                <a:chExt cx="1578600" cy="80172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199520" y="3643560"/>
                  <a:ext cx="1483200" cy="80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560" rIns="79560" tIns="39600" bIns="39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152360" y="3643560"/>
                  <a:ext cx="1578600" cy="801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1" name=""/>
              <p:cNvGrpSpPr/>
              <p:nvPr/>
            </p:nvGrpSpPr>
            <p:grpSpPr>
              <a:xfrm>
                <a:off x="2731320" y="3643560"/>
                <a:ext cx="1578600" cy="801720"/>
                <a:chOff x="2731320" y="3643560"/>
                <a:chExt cx="1578600" cy="801720"/>
              </a:xfrm>
            </p:grpSpPr>
            <p:sp>
              <p:nvSpPr>
                <p:cNvPr id="102" name=""/>
                <p:cNvSpPr/>
                <p:nvPr/>
              </p:nvSpPr>
              <p:spPr>
                <a:xfrm>
                  <a:off x="2778480" y="3643560"/>
                  <a:ext cx="1483200" cy="80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560" rIns="79560" tIns="39600" bIns="39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4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2731320" y="3643560"/>
                  <a:ext cx="1578600" cy="801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4" name=""/>
              <p:cNvGrpSpPr/>
              <p:nvPr/>
            </p:nvGrpSpPr>
            <p:grpSpPr>
              <a:xfrm>
                <a:off x="4310640" y="3643560"/>
                <a:ext cx="1580040" cy="801720"/>
                <a:chOff x="4310640" y="3643560"/>
                <a:chExt cx="1580040" cy="801720"/>
              </a:xfrm>
            </p:grpSpPr>
            <p:sp>
              <p:nvSpPr>
                <p:cNvPr id="105" name=""/>
                <p:cNvSpPr/>
                <p:nvPr/>
              </p:nvSpPr>
              <p:spPr>
                <a:xfrm>
                  <a:off x="4357800" y="3643560"/>
                  <a:ext cx="1484640" cy="80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560" rIns="79560" tIns="39600" bIns="39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9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4310640" y="3643560"/>
                  <a:ext cx="1580040" cy="801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7" name=""/>
              <p:cNvGrpSpPr/>
              <p:nvPr/>
            </p:nvGrpSpPr>
            <p:grpSpPr>
              <a:xfrm>
                <a:off x="5891400" y="3643560"/>
                <a:ext cx="1580040" cy="801720"/>
                <a:chOff x="5891400" y="3643560"/>
                <a:chExt cx="1580040" cy="801720"/>
              </a:xfrm>
            </p:grpSpPr>
            <p:sp>
              <p:nvSpPr>
                <p:cNvPr id="108" name=""/>
                <p:cNvSpPr/>
                <p:nvPr/>
              </p:nvSpPr>
              <p:spPr>
                <a:xfrm>
                  <a:off x="5938560" y="3643560"/>
                  <a:ext cx="1485360" cy="80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560" rIns="79560" tIns="39600" bIns="39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4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5891400" y="3643560"/>
                  <a:ext cx="1580040" cy="801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" name=""/>
              <p:cNvGrpSpPr/>
              <p:nvPr/>
            </p:nvGrpSpPr>
            <p:grpSpPr>
              <a:xfrm>
                <a:off x="1152360" y="4445640"/>
                <a:ext cx="1578600" cy="801720"/>
                <a:chOff x="1152360" y="4445640"/>
                <a:chExt cx="1578600" cy="801720"/>
              </a:xfrm>
            </p:grpSpPr>
            <p:sp>
              <p:nvSpPr>
                <p:cNvPr id="111" name=""/>
                <p:cNvSpPr/>
                <p:nvPr/>
              </p:nvSpPr>
              <p:spPr>
                <a:xfrm>
                  <a:off x="1199520" y="4445640"/>
                  <a:ext cx="1483200" cy="80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560" rIns="79560" tIns="39600" bIns="39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1152360" y="4445640"/>
                  <a:ext cx="1578600" cy="801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" name=""/>
              <p:cNvGrpSpPr/>
              <p:nvPr/>
            </p:nvGrpSpPr>
            <p:grpSpPr>
              <a:xfrm>
                <a:off x="2731320" y="4445640"/>
                <a:ext cx="1578600" cy="801720"/>
                <a:chOff x="2731320" y="4445640"/>
                <a:chExt cx="1578600" cy="80172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2778480" y="4445640"/>
                  <a:ext cx="1483200" cy="80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560" rIns="79560" tIns="39600" bIns="39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8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2731320" y="4445640"/>
                  <a:ext cx="1578600" cy="801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4310640" y="4445640"/>
                <a:ext cx="1580040" cy="801720"/>
                <a:chOff x="4310640" y="4445640"/>
                <a:chExt cx="1580040" cy="80172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4357800" y="4445640"/>
                  <a:ext cx="1484640" cy="80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560" rIns="79560" tIns="39600" bIns="39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27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4310640" y="4445640"/>
                  <a:ext cx="1580040" cy="801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9" name=""/>
              <p:cNvGrpSpPr/>
              <p:nvPr/>
            </p:nvGrpSpPr>
            <p:grpSpPr>
              <a:xfrm>
                <a:off x="5891400" y="4445640"/>
                <a:ext cx="1580040" cy="801720"/>
                <a:chOff x="5891400" y="4445640"/>
                <a:chExt cx="1580040" cy="801720"/>
              </a:xfrm>
            </p:grpSpPr>
            <p:sp>
              <p:nvSpPr>
                <p:cNvPr id="120" name=""/>
                <p:cNvSpPr/>
                <p:nvPr/>
              </p:nvSpPr>
              <p:spPr>
                <a:xfrm>
                  <a:off x="5938560" y="4445640"/>
                  <a:ext cx="1485360" cy="80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560" rIns="79560" tIns="39600" bIns="39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8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5891400" y="4445640"/>
                  <a:ext cx="1580040" cy="801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2" name=""/>
              <p:cNvGrpSpPr/>
              <p:nvPr/>
            </p:nvGrpSpPr>
            <p:grpSpPr>
              <a:xfrm>
                <a:off x="1152360" y="5248080"/>
                <a:ext cx="1578600" cy="801720"/>
                <a:chOff x="1152360" y="5248080"/>
                <a:chExt cx="1578600" cy="801720"/>
              </a:xfrm>
            </p:grpSpPr>
            <p:sp>
              <p:nvSpPr>
                <p:cNvPr id="123" name=""/>
                <p:cNvSpPr/>
                <p:nvPr/>
              </p:nvSpPr>
              <p:spPr>
                <a:xfrm>
                  <a:off x="1199520" y="5248080"/>
                  <a:ext cx="1483200" cy="80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560" rIns="79560" tIns="39600" bIns="39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4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1152360" y="5248080"/>
                  <a:ext cx="1578600" cy="801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5" name=""/>
              <p:cNvGrpSpPr/>
              <p:nvPr/>
            </p:nvGrpSpPr>
            <p:grpSpPr>
              <a:xfrm>
                <a:off x="2731320" y="5248080"/>
                <a:ext cx="1578600" cy="801720"/>
                <a:chOff x="2731320" y="5248080"/>
                <a:chExt cx="1578600" cy="801720"/>
              </a:xfrm>
            </p:grpSpPr>
            <p:sp>
              <p:nvSpPr>
                <p:cNvPr id="126" name=""/>
                <p:cNvSpPr/>
                <p:nvPr/>
              </p:nvSpPr>
              <p:spPr>
                <a:xfrm>
                  <a:off x="2778480" y="5248080"/>
                  <a:ext cx="1483200" cy="80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560" rIns="79560" tIns="39600" bIns="39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16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2731320" y="5248080"/>
                  <a:ext cx="1578600" cy="801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8" name=""/>
              <p:cNvGrpSpPr/>
              <p:nvPr/>
            </p:nvGrpSpPr>
            <p:grpSpPr>
              <a:xfrm>
                <a:off x="4310640" y="5248080"/>
                <a:ext cx="1580040" cy="801720"/>
                <a:chOff x="4310640" y="5248080"/>
                <a:chExt cx="1580040" cy="801720"/>
              </a:xfrm>
            </p:grpSpPr>
            <p:sp>
              <p:nvSpPr>
                <p:cNvPr id="129" name=""/>
                <p:cNvSpPr/>
                <p:nvPr/>
              </p:nvSpPr>
              <p:spPr>
                <a:xfrm>
                  <a:off x="4357800" y="5248080"/>
                  <a:ext cx="1484640" cy="80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560" rIns="79560" tIns="39600" bIns="39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8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4310640" y="5248080"/>
                  <a:ext cx="1580040" cy="801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" name=""/>
              <p:cNvGrpSpPr/>
              <p:nvPr/>
            </p:nvGrpSpPr>
            <p:grpSpPr>
              <a:xfrm>
                <a:off x="5891400" y="5248080"/>
                <a:ext cx="1580040" cy="801720"/>
                <a:chOff x="5891400" y="5248080"/>
                <a:chExt cx="1580040" cy="801720"/>
              </a:xfrm>
            </p:grpSpPr>
            <p:sp>
              <p:nvSpPr>
                <p:cNvPr id="132" name=""/>
                <p:cNvSpPr/>
                <p:nvPr/>
              </p:nvSpPr>
              <p:spPr>
                <a:xfrm>
                  <a:off x="5938560" y="5248080"/>
                  <a:ext cx="1485360" cy="80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560" rIns="79560" tIns="39600" bIns="39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16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5891400" y="5248080"/>
                  <a:ext cx="1580040" cy="801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4" name=""/>
              <p:cNvGrpSpPr/>
              <p:nvPr/>
            </p:nvGrpSpPr>
            <p:grpSpPr>
              <a:xfrm>
                <a:off x="1152360" y="6050160"/>
                <a:ext cx="1578600" cy="801720"/>
                <a:chOff x="1152360" y="6050160"/>
                <a:chExt cx="1578600" cy="80172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1199520" y="6050160"/>
                  <a:ext cx="1483200" cy="80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560" rIns="79560" tIns="39600" bIns="39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n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1152360" y="6050160"/>
                  <a:ext cx="1578600" cy="801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7" name=""/>
              <p:cNvGrpSpPr/>
              <p:nvPr/>
            </p:nvGrpSpPr>
            <p:grpSpPr>
              <a:xfrm>
                <a:off x="2731320" y="6050160"/>
                <a:ext cx="1578600" cy="801720"/>
                <a:chOff x="2731320" y="6050160"/>
                <a:chExt cx="1578600" cy="801720"/>
              </a:xfrm>
            </p:grpSpPr>
            <p:sp>
              <p:nvSpPr>
                <p:cNvPr id="138" name=""/>
                <p:cNvSpPr/>
                <p:nvPr/>
              </p:nvSpPr>
              <p:spPr>
                <a:xfrm>
                  <a:off x="2778480" y="6050160"/>
                  <a:ext cx="1483200" cy="80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560" rIns="79560" tIns="39600" bIns="39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r>
                    <a:rPr b="1" lang="en-US" sz="1600" spc="-1" strike="noStrike" baseline="30000">
                      <a:solidFill>
                        <a:srgbClr val="000000"/>
                      </a:solidFill>
                      <a:latin typeface="Times New Roman"/>
                    </a:rPr>
                    <a:t>n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2731320" y="6050160"/>
                  <a:ext cx="1578600" cy="801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0" name=""/>
              <p:cNvGrpSpPr/>
              <p:nvPr/>
            </p:nvGrpSpPr>
            <p:grpSpPr>
              <a:xfrm>
                <a:off x="4310640" y="6050160"/>
                <a:ext cx="1580040" cy="801720"/>
                <a:chOff x="4310640" y="6050160"/>
                <a:chExt cx="1580040" cy="80172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4357800" y="6050160"/>
                  <a:ext cx="1484640" cy="80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560" rIns="79560" tIns="39600" bIns="39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r>
                    <a:rPr b="1" lang="en-US" sz="1600" spc="-1" strike="noStrike" baseline="30000">
                      <a:solidFill>
                        <a:srgbClr val="000000"/>
                      </a:solidFill>
                      <a:latin typeface="Times New Roman"/>
                    </a:rPr>
                    <a:t>n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310640" y="6050160"/>
                  <a:ext cx="1580040" cy="801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3" name=""/>
              <p:cNvGrpSpPr/>
              <p:nvPr/>
            </p:nvGrpSpPr>
            <p:grpSpPr>
              <a:xfrm>
                <a:off x="5891400" y="6050160"/>
                <a:ext cx="1580040" cy="801720"/>
                <a:chOff x="5891400" y="6050160"/>
                <a:chExt cx="1580040" cy="801720"/>
              </a:xfrm>
            </p:grpSpPr>
            <p:sp>
              <p:nvSpPr>
                <p:cNvPr id="144" name=""/>
                <p:cNvSpPr/>
                <p:nvPr/>
              </p:nvSpPr>
              <p:spPr>
                <a:xfrm>
                  <a:off x="5938560" y="6050160"/>
                  <a:ext cx="1485360" cy="80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560" rIns="79560" tIns="39600" bIns="39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r>
                    <a:rPr b="1" lang="en-US" sz="1600" spc="-1" strike="noStrike" baseline="30000">
                      <a:solidFill>
                        <a:srgbClr val="000000"/>
                      </a:solidFill>
                      <a:latin typeface="Times New Roman"/>
                    </a:rPr>
                    <a:t>n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891400" y="6050160"/>
                  <a:ext cx="1580040" cy="801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46" name=""/>
            <p:cNvSpPr/>
            <p:nvPr/>
          </p:nvSpPr>
          <p:spPr>
            <a:xfrm>
              <a:off x="1152360" y="0"/>
              <a:ext cx="6329520" cy="686448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7" name=""/>
          <p:cNvGraphicFramePr/>
          <p:nvPr/>
        </p:nvGraphicFramePr>
        <p:xfrm>
          <a:off x="1042920" y="1125360"/>
          <a:ext cx="7248600" cy="481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1125360"/>
                    <a:ext cx="7248600" cy="4819680"/>
                  </a:xfrm>
                  <a:prstGeom prst="rect">
                    <a:avLst/>
                  </a:prstGeom>
                  <a:ln w="76320">
                    <a:solidFill>
                      <a:srgbClr val="cc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2895480" y="0"/>
            <a:ext cx="3314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-152280" y="1671480"/>
            <a:ext cx="9296280" cy="357372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1828800" y="46483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362320" y="46483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1T20:22:20Z</dcterms:created>
  <dc:creator>Facultad de Medicina</dc:creator>
  <dc:description/>
  <dc:language>en-US</dc:language>
  <cp:lastModifiedBy> </cp:lastModifiedBy>
  <dcterms:modified xsi:type="dcterms:W3CDTF">2008-01-03T02:52:08Z</dcterms:modified>
  <cp:revision>17</cp:revision>
  <dc:subject/>
  <dc:title>Presentación de PowerPoint</dc:title>
</cp:coreProperties>
</file>