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D52-D5B0-4CBC-9F2D-51D5F049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D78-7DDF-41FA-AF8F-0590B2CE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E36-BD0A-4155-A724-1CF731F0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A72-7B54-42F7-8D73-B046997A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0D8-8ACB-4ED5-91EF-B84175B7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058-0F9B-460F-A9EC-61672028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756-EE1F-4F11-9658-C472E8AC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76D-FFD3-49E4-A4EA-07102041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EFA-0476-45DB-B092-C717CC5B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408-F5FB-44B6-8B20-26C5C1E1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C4C-1661-41A7-A5D2-A7DE7373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F2F-676E-4422-B5E9-868525CF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1EBA-9A38-451F-BBD5-2101B55D55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52900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cc"/>
                </a:solidFill>
                <a:latin typeface="Arial"/>
              </a:rPr>
              <a:t>3. Ecología B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5516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Prof. JUAN CALDENT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34920" y="800280"/>
            <a:ext cx="74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640" y="584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Ecología Vegetal y Geografía de Recurso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4920" y="94464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Escuela de Verano – Facultad de Ciencias Fores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2682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00" y="3897360"/>
            <a:ext cx="4103640" cy="642600"/>
          </a:xfrm>
          <a:prstGeom prst="rect">
            <a:avLst/>
          </a:prstGeom>
          <a:solidFill>
            <a:srgbClr val="ff6600">
              <a:alpha val="5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cc"/>
                </a:solidFill>
                <a:latin typeface="Arial"/>
              </a:rPr>
              <a:t>Hay sistemas vivos: no hay “materia” viva.  (Jacques Mon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952-0DC4-49E3-8966-7AE0AE2DD1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1628640"/>
            <a:ext cx="4248000" cy="50392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Incluye todos los organis-mos que funcionan juntos (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omunidad biótica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) en un área determinada interac-tuando con el medio físico de tal manera que un flujo de energía conduzca a la formación de estructuras bióticas claramente defini-das y al traspaso de mate-ria entre partes vivas y no v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59280" y="441000"/>
            <a:ext cx="4681440" cy="647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co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84720" y="1916280"/>
            <a:ext cx="3333960" cy="424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BF1-856E-4219-8A0B-C3A49D60C0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08360" y="368280"/>
            <a:ext cx="3960720" cy="706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2773"/>
                </a:solidFill>
                <a:latin typeface="Arial"/>
              </a:rPr>
              <a:t>Eco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Sociedad de Forestales Americanos (199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 “</a:t>
            </a:r>
            <a:r>
              <a:rPr b="1" i="1" lang="en-US" sz="2400" spc="-1" strike="noStrike">
                <a:solidFill>
                  <a:srgbClr val="392773"/>
                </a:solidFill>
                <a:latin typeface="Arial"/>
              </a:rPr>
              <a:t>una comunidad de dife-rentes organismos inter-dependientes unos de otros, en conjunto con su ambiente no vivo, siendo relativamente autosuficiente en tér-minos de flujos de energía, y distinto de las comunidades vecinas”.</a:t>
            </a:r>
            <a:r>
              <a:rPr b="0" i="1" lang="en-US" sz="2400" spc="-1" strike="noStrike">
                <a:solidFill>
                  <a:srgbClr val="3927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580000" y="1233360"/>
            <a:ext cx="3151080" cy="500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735-5EB4-4683-A2A5-886444B32D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89000"/>
            <a:ext cx="6551640" cy="503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TROS TERMIN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0" y="4798080"/>
            <a:ext cx="2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8920" y="1233360"/>
          <a:ext cx="8229600" cy="4875120"/>
        </p:xfrm>
        <a:graphic>
          <a:graphicData uri="http://schemas.openxmlformats.org/drawingml/2006/table">
            <a:tbl>
              <a:tblPr/>
              <a:tblGrid>
                <a:gridCol w="1450800"/>
                <a:gridCol w="6778800"/>
              </a:tblGrid>
              <a:tr h="109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specie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talidad de los miembros de una clase particular de planta, animal o microbio; una clase por su apariencia similar y la capacidad de aparearse y reproducir vástagos fértiles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dos los miembros de una especie que ocupan determinada área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munidad biótica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das las poblaciones de plantas, animales y microbios que ocupan una misma área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actores abióticos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dos los factores del medio físico: humedad, temperatura, luz, viento, pH, tipo de suelo, salinidad, etcétera.</a:t>
                      </a: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ioma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grupamiento de todos los ecosistemas de la misma clase; por ejemplo, bosques tropicales, pastizales, etcétera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iosfera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uncionamiento de todas las especies y los factores físicos de la Tierra como un solo ecosistema gigantesco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609-465E-458B-B2DD-0E81EC2E27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26920" y="260280"/>
            <a:ext cx="5653080" cy="432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tributos (Kimmins, 1996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16000" y="1088640"/>
            <a:ext cx="1995480" cy="423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47640" y="2097000"/>
            <a:ext cx="6227640" cy="2209320"/>
            <a:chOff x="1547640" y="2097000"/>
            <a:chExt cx="6227640" cy="2209320"/>
          </a:xfrm>
        </p:grpSpPr>
        <p:sp>
          <p:nvSpPr>
            <p:cNvPr id="91" name=""/>
            <p:cNvSpPr/>
            <p:nvPr/>
          </p:nvSpPr>
          <p:spPr>
            <a:xfrm>
              <a:off x="5136480" y="2097000"/>
              <a:ext cx="237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veget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6480" y="2530080"/>
              <a:ext cx="237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anim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06680" y="2928240"/>
              <a:ext cx="25686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microbian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91960" y="2392920"/>
              <a:ext cx="1420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biót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91960" y="3558600"/>
              <a:ext cx="13406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Ambiente abiótic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63200" y="3436920"/>
              <a:ext cx="24746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Suelo o sustrato geoló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47640" y="3104280"/>
              <a:ext cx="12610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Eco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38560" y="2220480"/>
              <a:ext cx="224640" cy="982080"/>
            </a:xfrm>
            <a:custGeom>
              <a:avLst/>
              <a:gdLst>
                <a:gd name="textAreaLeft" fmla="*/ 143640 w 224640"/>
                <a:gd name="textAreaRight" fmla="*/ 225000 w 224640"/>
                <a:gd name="textAreaTop" fmla="*/ 25560 h 982080"/>
                <a:gd name="textAreaBottom" fmla="*/ 956520 h 9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17040" y="3446640"/>
              <a:ext cx="196920" cy="796680"/>
            </a:xfrm>
            <a:custGeom>
              <a:avLst/>
              <a:gdLst>
                <a:gd name="textAreaLeft" fmla="*/ 126000 w 196920"/>
                <a:gd name="textAreaRight" fmla="*/ 197280 w 196920"/>
                <a:gd name="textAreaTop" fmla="*/ 20520 h 796680"/>
                <a:gd name="textAreaBottom" fmla="*/ 7761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61000" y="2160720"/>
              <a:ext cx="142560" cy="21456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55800 h 2145600"/>
                <a:gd name="textAreaBottom" fmla="*/ 2089800 h 21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71"/>
                  </a:lnTo>
                  <a:cubicBezTo>
                    <a:pt x="10800" y="10071"/>
                    <a:pt x="5400" y="10971"/>
                    <a:pt x="0" y="10971"/>
                  </a:cubicBezTo>
                  <a:cubicBezTo>
                    <a:pt x="5400" y="10971"/>
                    <a:pt x="10800" y="11871"/>
                    <a:pt x="10800" y="1277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47440" y="3935880"/>
              <a:ext cx="140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Atmósf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12C-8F4F-4B3B-8818-9D7F45435B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16000" y="404640"/>
            <a:ext cx="4778640" cy="55692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912000" y="3789360"/>
            <a:ext cx="1798560" cy="865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1476360" cy="1389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948360" y="4724280"/>
            <a:ext cx="1727280" cy="90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056360" y="5769000"/>
            <a:ext cx="1162080" cy="876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020000" y="2241720"/>
            <a:ext cx="1549440" cy="1403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216000" y="4292640"/>
            <a:ext cx="1584360" cy="1147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290-E1C0-4630-9964-FC79518177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24360" y="1773360"/>
            <a:ext cx="4716360" cy="1410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unció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: Hace referencia al intercambio constante de materia y energía entre el ambiente físico y la comunidad v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5194440" cy="504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Atributos (Kimmins, 199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16360" y="3824280"/>
            <a:ext cx="4861080" cy="160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</a:rPr>
              <a:t>Complejidad: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 Es la resultante de los altos niveles de integración biológica inherentes al ecosistema, donde cualquier evento o condición responde a un determinismo múltip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34920" y="1592280"/>
            <a:ext cx="2629080" cy="4951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7F0-E6FF-46B0-973D-57EB509351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47640" y="2060280"/>
            <a:ext cx="795672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ts val="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ts val="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376280"/>
            <a:ext cx="4788000" cy="2440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cc"/>
                </a:solidFill>
                <a:latin typeface="Arial"/>
              </a:rPr>
              <a:t>Interacción e interdependencia</a:t>
            </a:r>
            <a:r>
              <a:rPr b="0" lang="es-ES" sz="2200" spc="-1" strike="noStrike">
                <a:solidFill>
                  <a:srgbClr val="0000cc"/>
                </a:solidFill>
                <a:latin typeface="Arial"/>
              </a:rPr>
              <a:t>: Debido a que existe una alta interconectividad entre los diversos componentes vivos e inanimados, los cambios ocurridos en algunos de ellos ocasionaran subsecuentes cambios en casi todos los otr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365720"/>
            <a:ext cx="4752720" cy="2104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</a:rPr>
              <a:t>Cambio temporal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: Los ecosistemas no son estáticos; además de un continuo intercambio de materia y energía, la estructura y funcionamiento total del ecosistema esta sujeta a cambios en el tiemp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979280" y="549360"/>
            <a:ext cx="5194440" cy="504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Atributos (Kimmins, 199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88000" y="1449360"/>
            <a:ext cx="2629080" cy="4951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C78-BA07-4596-B054-DE251C2B73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35280" y="620640"/>
            <a:ext cx="507528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FOQUES CIENTI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6360" y="1592280"/>
            <a:ext cx="7883280" cy="11912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 GENERAL, LA CIENCIA SE ENFRENTA A LOS PROBLEMAS ME-DIANTE SU ANALISI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FOQUE REDUCCIONISTA)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 TRATA DE DIVIDIR ELOBJETO BAJO ESTUDIO EN SUS COMPONENTES MAS SIMPLES Y OBSERVAR SU COMPORT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00720" y="3268800"/>
            <a:ext cx="3419280" cy="2563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2106720" cy="2736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9B5-98D0-4853-BFC3-F34066E757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35280" y="620640"/>
            <a:ext cx="507528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FOQUES CIENTI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038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484280"/>
            <a:ext cx="8172360" cy="4997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 ENFOQUE REDUCCIONISTA FUE VALIDO HASTA ENFRETAR PROBLEMAS EN QUE LAS PARTES TENIAN GRANDES INTER-ACCIONES ENTRE ELLAS (EJ.: UN ORGANISMO VIVO). DE NADA SIRVE SABER MUCHO SOBRE LAS PARTES SI NO COMPREN-DEMOS SU FUNCION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STE ENFOQUE SE DENOMI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TETIC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DE UNIR) U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LISTIC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PORQUE ESTUDIA LAS RELACIONES ENTRE LAS PARTES EN LUGAR DE DETENERSE EN DET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 SE DEBE DESECHAR EL REDUCCIONISMO, PUES LA VISION GENERAL SE ENRIQUESE CON EL ESTUDIO DE LOS COMPO-NENTES. AMBSA PERSPECTIVAS EN MUCHOS CASOS SON COMPLEMENTARIAS ENTRE 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5C5-B1F3-4CB4-AF72-F53681FC0A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00400" y="990720"/>
            <a:ext cx="2514600" cy="1447560"/>
          </a:xfrm>
          <a:prstGeom prst="ellipse">
            <a:avLst/>
          </a:prstGeom>
          <a:solidFill>
            <a:srgbClr val="00ccff"/>
          </a:solidFill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CL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3657600"/>
            <a:ext cx="2514600" cy="1447920"/>
          </a:xfrm>
          <a:prstGeom prst="ellipse">
            <a:avLst/>
          </a:prstGeom>
          <a:solidFill>
            <a:srgbClr val="ffcc99"/>
          </a:solidFill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3505320"/>
            <a:ext cx="2819520" cy="1600200"/>
          </a:xfrm>
          <a:prstGeom prst="ellipse">
            <a:avLst/>
          </a:prstGeom>
          <a:solidFill>
            <a:srgbClr val="ccffcc"/>
          </a:solidFill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VEGETA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4419720"/>
            <a:ext cx="1752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895120" y="2438280"/>
            <a:ext cx="68580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2438280"/>
            <a:ext cx="76176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B07-CCF3-4215-8863-EE6B48404A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4560" y="1699920"/>
            <a:ext cx="7440840" cy="4321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cc"/>
                </a:solidFill>
                <a:latin typeface="Arial"/>
              </a:rPr>
              <a:t>Entregar información básica necesaria para conocer y comprend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0000cc"/>
                </a:solidFill>
                <a:latin typeface="Arial"/>
              </a:rPr>
              <a:t>El concepto de ecología y su rol como disciplina científ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cc"/>
                </a:solidFill>
                <a:latin typeface="Arial"/>
              </a:rPr>
              <a:t>Definiciones y principios ecológicos básic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cc"/>
                </a:solidFill>
                <a:latin typeface="Arial"/>
              </a:rPr>
              <a:t>Principales elementos de la estructura y funcionamiento de la unidad fundamental del estudio ecológico: el   ecosistema</a:t>
            </a:r>
            <a:r>
              <a:rPr b="0" lang="es-ES" sz="25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911-0F17-4995-82BB-8F41B1F39D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792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 modelos y la representación funcional de los ecosistemas: Componentes y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137440" cy="162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ff"/>
                </a:solidFill>
                <a:latin typeface="Arial"/>
              </a:rPr>
              <a:t>Un modelo es una entidad físicas o abstracta que representa de alguna forma la estructura y/o función de las entidades y procesos del mundo real (Kimmins, 1997).</a:t>
            </a:r>
            <a:r>
              <a:rPr b="1" lang="es-E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1640" y="2708280"/>
            <a:ext cx="8207640" cy="1557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Un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modelo es una declaración formal y precisa que expresa el conocimiento actual o las hipótesis respecto al funcionamiento de un sistema particular y sus respuestas a estímulos (Landsberg, 198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1640" y="1700280"/>
            <a:ext cx="8209080" cy="7038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DEMOS DEFINIR UN  MODELO COMO UNA SIMPLIFICACIÓN DE LA RE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020-B809-473F-B08C-9D6A500EBC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700280"/>
            <a:ext cx="8424720" cy="4291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ISTEMA = CONJUNTO DE PARTES QUE INTERACCION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744640"/>
            <a:ext cx="8136000" cy="10994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L ANALIZAR UN SISTEMA INTERESAN LAS RELACIONES EXISTENTES ENTRE COMPONENTES, A PARTIR DE LAS CUALES OBTENDREMOS SU FUNCIONAMIENTO 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714-8DD3-4A03-AB26-7AB15054E2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484280"/>
            <a:ext cx="6948360" cy="21132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STEMA COMO CAJA NEGRA.  NO SE MIRA DENTRO DEL SISTEMA. SOLO SE VEN LAS INTERACCIONES CON OTROS SISTEM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LO ANALIZA LAS ENTRADAS Y SALIDAS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3280" y="4473720"/>
            <a:ext cx="1981080" cy="1476360"/>
          </a:xfrm>
          <a:prstGeom prst="rect">
            <a:avLst/>
          </a:prstGeom>
          <a:solidFill>
            <a:srgbClr val="33cc33">
              <a:alpha val="5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5157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24360" y="4724280"/>
            <a:ext cx="502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49039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82920" y="508320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66920" y="5373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51280" y="562464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43640" y="483408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4360" y="5013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72000" y="5265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1840" y="537228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5697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365-3160-47E8-8B2A-E8A2721F23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.1. La ecología como disciplina científica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Origen y definición del término ec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3681360"/>
            <a:ext cx="3303720" cy="2441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39640" y="1916280"/>
            <a:ext cx="8099640" cy="155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timológicamente, la palabra ecología proviene de raíces griegas:</a:t>
            </a: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IKOS</a:t>
            </a: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ue significa casa, 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GO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ue significa estudio. Así, literalmente, la ecología seria el estudio de la casa 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3681360"/>
            <a:ext cx="3483000" cy="2414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F72-1A30-42BB-BE86-83B84A66DA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67280" y="297000"/>
            <a:ext cx="4321080" cy="60663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íntesis actual del concepto: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La ecología es el estudio científico de los procesos que influyen en la distribución y abundancia de los organismos, sus interacciones y las interrelacciones entre organismos y la transformación y flujos de materia y energía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7280" y="333360"/>
            <a:ext cx="3600360" cy="2400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4360" y="3033720"/>
            <a:ext cx="2771640" cy="3179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E2E-73DC-44FA-B3A0-826B7FB70F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58920" y="90792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512640"/>
            <a:ext cx="6372360" cy="5205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2773"/>
                </a:solidFill>
                <a:latin typeface="Arial"/>
              </a:rPr>
              <a:t>DEFINICION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1773360"/>
            <a:ext cx="4032360" cy="42166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UAL ACEPCION,  ACUÑADA EN UN CONGRESO MUNDIAL (ESTOCOLMO: 197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MEDIO AMBIENTE ES EL CONJUNTO DE COMPONEN-TES FISICOS, QUIMICOS, BIOLOGICOS Y SOCIALES CAPACES DE CAUSAR EFEC-TOS DIRECTOS O INDIREC-TOS, EN UN PLAZO CORTO O LARGO, SOBRE LOS SERES VIVIENTES Y LAS ACTIVI-DADES HUMAN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1592280"/>
            <a:ext cx="3792600" cy="4732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BB7-0DAC-45EB-8C6D-EE205B3C3C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696080" cy="55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íntesis del desarrollo de la ec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259160" cy="5077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Desde el hombre primi-tivo hasta la eda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s expediciones geo-gráficas de los siglos XVIII y comienzos del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s contribuciones de Malthus y Dar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 ecología humana y la integración de la dimen-sión ambiental al desa-rrollo socio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1913040" cy="142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3492360" cy="138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4000" y="4400640"/>
            <a:ext cx="1523880" cy="2114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340000" y="4437000"/>
            <a:ext cx="1673280" cy="2124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16000" y="1125360"/>
            <a:ext cx="2138400" cy="14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D8A-BFF5-4332-BF06-C1AF9CB534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88640"/>
            <a:ext cx="7696080" cy="93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epto de niveles de organización biológica y subdivisiones de la ecologí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33640" y="1484280"/>
          <a:ext cx="6727680" cy="5045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1484280"/>
                    <a:ext cx="6727680" cy="5045040"/>
                  </a:xfrm>
                  <a:prstGeom prst="rect">
                    <a:avLst/>
                  </a:prstGeom>
                  <a:ln w="63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531-C39C-4585-A74E-8400A8BA8D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900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2. El Ecosistema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epto, atributos y propi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1449360"/>
            <a:ext cx="3708360" cy="5008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Tansley (1935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Utilizó el término</a:t>
            </a:r>
            <a:r>
              <a:rPr b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COSISTEMA</a:t>
            </a:r>
            <a:r>
              <a:rPr b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ara referirse al 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istema interactivo que se establece entre la biocenosis (grupo de seres vivos) y su biotopo, que es el ambiente en el que ellos viv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7209000"/>
            <a:ext cx="7920000" cy="1618560"/>
          </a:xfrm>
          <a:prstGeom prst="rect">
            <a:avLst/>
          </a:prstGeom>
          <a:solidFill>
            <a:srgbClr val="f6d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dad de Forestales Americanos (1996):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a comunidad de diferentes organismos interdependientes unos de otros, en conjunto con su ambiente no vivo, siendo relativamente autosuficiente en términos de flujos de energía, y distinto de las comunidades veci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90920" cy="232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4303440" cy="2417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CB2-82FF-42E0-AFDC-C4ADD21109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56000" y="691920"/>
            <a:ext cx="4968720" cy="431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co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59280" y="1592280"/>
            <a:ext cx="562752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Odum (197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92773"/>
                </a:solidFill>
                <a:latin typeface="Arial"/>
              </a:rPr>
              <a:t>   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un</a:t>
            </a:r>
            <a:r>
              <a:rPr b="1" i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COSISTEMA</a:t>
            </a:r>
            <a:r>
              <a:rPr b="1" i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es cualquier unidad que incluye todos los organismos (comunidad) de un área dada, interactuando con el ambiente físico para que un flujo de energía conduzca a estructuras tró-ficas claramente definidas, diversidad biótica y ciclos de mate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1305000"/>
            <a:ext cx="2390760" cy="608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E61-D655-42CA-97E3-000AB36F0D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0:35:37Z</dcterms:created>
  <dc:creator>Jaime Hernández</dc:creator>
  <dc:description/>
  <dc:language>en-US</dc:language>
  <cp:lastModifiedBy>Carmen L.</cp:lastModifiedBy>
  <cp:lastPrinted>2004-01-16T16:23:19Z</cp:lastPrinted>
  <dcterms:modified xsi:type="dcterms:W3CDTF">2008-01-10T14:41:06Z</dcterms:modified>
  <cp:revision>322</cp:revision>
  <dc:subject/>
  <dc:title>Sistema de Gestión de Información del Arbolado Público Comunal</dc:title>
</cp:coreProperties>
</file>