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E474-77CD-4B17-BC49-6E09F75D7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5F8D-15E4-4205-A5CA-666829A5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61B9-A915-4FFD-B920-41E583B4D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40B2-4631-41C3-845E-8ADB4B4B6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1C36-A6D9-469F-B720-4D895975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914C-D345-4601-8F93-C075FA44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65D3-FF3F-4AC2-81EC-0E4B819B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4B48-50A3-43FD-BBA7-3A344827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9022-B4BB-42EB-9265-91797E3B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9C90-2CE4-42A1-8CBE-4B65DA3A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832C-DBBA-45E0-B94F-06A43BFE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1987-006D-4CA8-9790-9C324F2D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8785-6246-43C5-BD73-4F541ADCE93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52900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cc"/>
                </a:solidFill>
                <a:latin typeface="Arial"/>
              </a:rPr>
              <a:t>3. Ecología Bás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71640" y="5516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Prof. JUAN CALDENT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34920" y="800280"/>
            <a:ext cx="747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47640" y="5842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Ecología Vegetal y Geografía de Recurso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34920" y="94464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Escuela de Verano – Facultad de Ciencias Fores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26828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72000" y="3897360"/>
            <a:ext cx="4103640" cy="642600"/>
          </a:xfrm>
          <a:prstGeom prst="rect">
            <a:avLst/>
          </a:prstGeom>
          <a:solidFill>
            <a:srgbClr val="ff6600">
              <a:alpha val="5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cc"/>
                </a:solidFill>
                <a:latin typeface="Arial"/>
              </a:rPr>
              <a:t>Hay sistemas vivos: no hay “materia” viva.  (Jacques Mono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DD3E-CECC-4284-95D9-86668C19AFF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4000" y="1628640"/>
            <a:ext cx="4248000" cy="50392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Incluye todos los organis-mos que funcionan juntos (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comunidad biótica</a:t>
            </a:r>
            <a:r>
              <a:rPr b="1" i="1" lang="es-ES" sz="2400" spc="-1" strike="noStrike">
                <a:solidFill>
                  <a:srgbClr val="0000ff"/>
                </a:solidFill>
                <a:latin typeface="Arial"/>
              </a:rPr>
              <a:t>) en un área determinada interac-tuando con el medio físico de tal manera que un flujo de energía conduzca a la formación de estructuras bióticas claramente defini-das y al traspaso de mate-ria entre partes vivas y no vi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59280" y="441000"/>
            <a:ext cx="4681440" cy="647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co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184720" y="1916280"/>
            <a:ext cx="3333960" cy="4248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8093-572D-4276-BE94-D9A0C887E5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08360" y="368280"/>
            <a:ext cx="3960720" cy="7063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2773"/>
                </a:solidFill>
                <a:latin typeface="Arial"/>
              </a:rPr>
              <a:t>Eco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2773"/>
                </a:solidFill>
                <a:latin typeface="Arial"/>
              </a:rPr>
              <a:t>Sociedad de Forestales Americanos (1996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2773"/>
                </a:solidFill>
                <a:latin typeface="Arial"/>
              </a:rPr>
              <a:t> “</a:t>
            </a:r>
            <a:r>
              <a:rPr b="1" i="1" lang="en-US" sz="2400" spc="-1" strike="noStrike">
                <a:solidFill>
                  <a:srgbClr val="392773"/>
                </a:solidFill>
                <a:latin typeface="Arial"/>
              </a:rPr>
              <a:t>una comunidad de dife-rentes organismos inter-dependientes unos de otros, en conjunto con su ambiente no vivo, siendo relativamente autosuficiente en tér-minos de flujos de energía, y distinto de las comunidades vecinas”.</a:t>
            </a:r>
            <a:r>
              <a:rPr b="0" i="1" lang="en-US" sz="2400" spc="-1" strike="noStrike">
                <a:solidFill>
                  <a:srgbClr val="3927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580000" y="1233360"/>
            <a:ext cx="3151080" cy="5005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1A8B-E45C-4779-B68A-6083E43D21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189000"/>
            <a:ext cx="6551640" cy="503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TROS TERMINO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40" y="4798080"/>
            <a:ext cx="25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58920" y="1233360"/>
          <a:ext cx="8229600" cy="4875120"/>
        </p:xfrm>
        <a:graphic>
          <a:graphicData uri="http://schemas.openxmlformats.org/drawingml/2006/table">
            <a:tbl>
              <a:tblPr/>
              <a:tblGrid>
                <a:gridCol w="1450800"/>
                <a:gridCol w="6778800"/>
              </a:tblGrid>
              <a:tr h="109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Especie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otalidad de los miembros de una clase particular de planta, animal o microbio; una clase por su apariencia similar y la capacidad de aparearse y reproducir vástagos fértiles.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oblación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odos los miembros de una especie que ocupan determinada área.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</a:tr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omunidad biótica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odas las poblaciones de plantas, animales y microbios que ocupan una misma área.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</a:tr>
              <a:tr h="84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Factores abióticos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odos los factores del medio físico: humedad, temperatura, luz, viento, pH, tipo de suelo, salinidad, etcétera.</a:t>
                      </a:r>
                      <a:r>
                        <a:rPr b="1" lang="es-E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</a:tr>
              <a:tr h="84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Bioma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Agrupamiento de todos los ecosistemas de la misma clase; por ejemplo, bosques tropicales, pastizales, etcétera.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</a:tr>
              <a:tr h="84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Biosfera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Funcionamiento de todas las especies y los factores físicos de la Tierra como un solo ecosistema gigantesco.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C3DD-74B1-47C3-84C5-B8F3FB86D9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26920" y="260280"/>
            <a:ext cx="5653080" cy="432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Atributos (Kimmins, 1996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16000" y="1088640"/>
            <a:ext cx="1995480" cy="423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struct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547640" y="2097000"/>
            <a:ext cx="6227640" cy="2209320"/>
            <a:chOff x="1547640" y="2097000"/>
            <a:chExt cx="6227640" cy="2209320"/>
          </a:xfrm>
        </p:grpSpPr>
        <p:sp>
          <p:nvSpPr>
            <p:cNvPr id="91" name=""/>
            <p:cNvSpPr/>
            <p:nvPr/>
          </p:nvSpPr>
          <p:spPr>
            <a:xfrm>
              <a:off x="5136480" y="2097000"/>
              <a:ext cx="2372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Comunidades veget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36480" y="2530080"/>
              <a:ext cx="23727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Comunidades anim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06680" y="2928240"/>
              <a:ext cx="256860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Comunidades microbian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91960" y="2392920"/>
              <a:ext cx="1420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Comunidades biótic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91960" y="3558600"/>
              <a:ext cx="134064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Ambiente abiótic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263200" y="3436920"/>
              <a:ext cx="24746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Suelo o sustrato geológ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47640" y="3104280"/>
              <a:ext cx="126108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Ecosiste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38560" y="2220480"/>
              <a:ext cx="224640" cy="982080"/>
            </a:xfrm>
            <a:custGeom>
              <a:avLst/>
              <a:gdLst>
                <a:gd name="textAreaLeft" fmla="*/ 143640 w 224640"/>
                <a:gd name="textAreaRight" fmla="*/ 225000 w 224640"/>
                <a:gd name="textAreaTop" fmla="*/ 25560 h 982080"/>
                <a:gd name="textAreaBottom" fmla="*/ 956520 h 98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17040" y="3446640"/>
              <a:ext cx="196920" cy="796680"/>
            </a:xfrm>
            <a:custGeom>
              <a:avLst/>
              <a:gdLst>
                <a:gd name="textAreaLeft" fmla="*/ 126000 w 196920"/>
                <a:gd name="textAreaRight" fmla="*/ 197280 w 196920"/>
                <a:gd name="textAreaTop" fmla="*/ 20520 h 796680"/>
                <a:gd name="textAreaBottom" fmla="*/ 776160 h 79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61000" y="2160720"/>
              <a:ext cx="142560" cy="2145600"/>
            </a:xfrm>
            <a:custGeom>
              <a:avLst/>
              <a:gdLst>
                <a:gd name="textAreaLeft" fmla="*/ 91080 w 142560"/>
                <a:gd name="textAreaRight" fmla="*/ 142920 w 142560"/>
                <a:gd name="textAreaTop" fmla="*/ 55800 h 2145600"/>
                <a:gd name="textAreaBottom" fmla="*/ 2089800 h 214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171"/>
                  </a:lnTo>
                  <a:cubicBezTo>
                    <a:pt x="10800" y="10071"/>
                    <a:pt x="5400" y="10971"/>
                    <a:pt x="0" y="10971"/>
                  </a:cubicBezTo>
                  <a:cubicBezTo>
                    <a:pt x="5400" y="10971"/>
                    <a:pt x="10800" y="11871"/>
                    <a:pt x="10800" y="12771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47440" y="3935880"/>
              <a:ext cx="140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Atmósfe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5733-E435-485E-BF07-9F41815731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016000" y="404640"/>
            <a:ext cx="4778640" cy="556920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912000" y="3789360"/>
            <a:ext cx="1798560" cy="865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95280" y="2492280"/>
            <a:ext cx="1476360" cy="1389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948360" y="4724280"/>
            <a:ext cx="1727280" cy="900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7056360" y="5769000"/>
            <a:ext cx="1162080" cy="876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7020000" y="2241720"/>
            <a:ext cx="1549440" cy="1403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216000" y="4292640"/>
            <a:ext cx="1584360" cy="1147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37FD-8D94-4F85-8AB0-746135FAB5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924360" y="1773360"/>
            <a:ext cx="4716360" cy="1410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Función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: Hace referencia al intercambio constante de materia y energía entre el ambiente físico y la comunidad viv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79280" y="549360"/>
            <a:ext cx="5194440" cy="504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Atributos (Kimmins, 1996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16360" y="3824280"/>
            <a:ext cx="4861080" cy="1600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cc"/>
                </a:solidFill>
                <a:latin typeface="Arial"/>
              </a:rPr>
              <a:t>Complejidad:</a:t>
            </a: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 Es la resultante de los altos niveles de integración biológica inherentes al ecosistema, donde cualquier evento o condición responde a un determinismo múltip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34920" y="1592280"/>
            <a:ext cx="2629080" cy="4951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DE65-0F54-42F6-ADE7-77DE5FFEC5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47640" y="2060280"/>
            <a:ext cx="795672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ts val="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ts val="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1376280"/>
            <a:ext cx="4788000" cy="2440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cc"/>
                </a:solidFill>
                <a:latin typeface="Arial"/>
              </a:rPr>
              <a:t>Interacción e interdependencia</a:t>
            </a:r>
            <a:r>
              <a:rPr b="0" lang="es-ES" sz="2200" spc="-1" strike="noStrike">
                <a:solidFill>
                  <a:srgbClr val="0000cc"/>
                </a:solidFill>
                <a:latin typeface="Arial"/>
              </a:rPr>
              <a:t>: Debido a que existe una alta interconectividad entre los diversos componentes vivos e inanimados, los cambios ocurridos en algunos de ellos ocasionaran subsecuentes cambios en casi todos los otro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4365720"/>
            <a:ext cx="4752720" cy="2104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cc"/>
                </a:solidFill>
                <a:latin typeface="Arial"/>
              </a:rPr>
              <a:t>Cambio temporal</a:t>
            </a: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: Los ecosistemas no son estáticos; además de un continuo intercambio de materia y energía, la estructura y funcionamiento total del ecosistema esta sujeta a cambios en el tiemp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979280" y="549360"/>
            <a:ext cx="5194440" cy="504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Atributos (Kimmins, 1996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688000" y="1449360"/>
            <a:ext cx="2629080" cy="4951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5A36-020A-4FF2-AA0B-1708D620B4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835280" y="620640"/>
            <a:ext cx="5075280" cy="45972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NFOQUES CIENTI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6360" y="1592280"/>
            <a:ext cx="7883280" cy="119124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 GENERAL, LA CIENCIA SE ENFRENTA A LOS PROBLEMAS ME-DIANTE SU ANALISI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NFOQUE REDUCCIONISTA)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E TRATA DE DIVIDIR ELOBJETO BAJO ESTUDIO EN SUS COMPONENTES MAS SIMPLES Y OBSERVAR SU COMPORTA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00720" y="3268800"/>
            <a:ext cx="3419280" cy="25635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403280" y="3284640"/>
            <a:ext cx="2106720" cy="2736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376E-02C7-4D00-A2A4-2F1636CDFD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835280" y="620640"/>
            <a:ext cx="5075280" cy="45972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NFOQUES CIENTI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0388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484280"/>
            <a:ext cx="8172360" cy="49978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L ENFOQUE REDUCCIONISTA FUE VALIDO HASTA ENFRETAR PROBLEMAS EN QUE LAS PARTES TENIAN GRANDES INTER-ACCIONES ENTRE ELLAS (EJ.: UN ORGANISMO VIVO). DE NADA SIRVE SABER MUCHO SOBRE LAS PARTES SI NO COMPREN-DEMOS SU FUNCIONA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STE ENFOQUE SE DENOMIN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TETICO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(DE UNIR) U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LISTICO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PORQUE ESTUDIA LAS RELACIONES ENTRE LAS PARTES EN LUGAR DE DETENERSE EN DETAL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O SE DEBE DESECHAR EL REDUCCIONISMO, PUES LA VISION GENERAL SE ENRIQUESE CON EL ESTUDIO DE LOS COMPO-NENTES. AMBSA PERSPECTIVAS EN MUCHOS CASOS SON COMPLEMENTARIAS ENTRE S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4B42-D64F-4FDD-BB5C-600DD8B5AD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200400" y="990720"/>
            <a:ext cx="2514600" cy="1447560"/>
          </a:xfrm>
          <a:prstGeom prst="ellipse">
            <a:avLst/>
          </a:prstGeom>
          <a:solidFill>
            <a:srgbClr val="00ccff"/>
          </a:solidFill>
          <a:ln w="63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a50021"/>
                </a:solidFill>
                <a:latin typeface="Arial Black"/>
              </a:rPr>
              <a:t>CL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3657600"/>
            <a:ext cx="2514600" cy="1447920"/>
          </a:xfrm>
          <a:prstGeom prst="ellipse">
            <a:avLst/>
          </a:prstGeom>
          <a:solidFill>
            <a:srgbClr val="ffcc99"/>
          </a:solidFill>
          <a:ln w="63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a50021"/>
                </a:solidFill>
                <a:latin typeface="Arial Black"/>
              </a:rPr>
              <a:t>SU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86400" y="3505320"/>
            <a:ext cx="2819520" cy="1600200"/>
          </a:xfrm>
          <a:prstGeom prst="ellipse">
            <a:avLst/>
          </a:prstGeom>
          <a:solidFill>
            <a:srgbClr val="ccffcc"/>
          </a:solidFill>
          <a:ln w="63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a50021"/>
                </a:solidFill>
                <a:latin typeface="Arial Black"/>
              </a:rPr>
              <a:t>VEGETA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a50021"/>
                </a:solidFill>
                <a:latin typeface="Arial Black"/>
              </a:rPr>
              <a:t>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4419720"/>
            <a:ext cx="17528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895120" y="2438280"/>
            <a:ext cx="685800" cy="1143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4120" y="2438280"/>
            <a:ext cx="761760" cy="106704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4943-1487-466B-B308-FDB690449A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Arial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34560" y="1699920"/>
            <a:ext cx="7440840" cy="43210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cc"/>
                </a:solidFill>
                <a:latin typeface="Arial"/>
              </a:rPr>
              <a:t>Entregar información básica necesaria para conocer y comprender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buClr>
                <a:srgbClr val="0000c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" sz="2500" spc="-1" strike="noStrike">
                <a:solidFill>
                  <a:srgbClr val="0000cc"/>
                </a:solidFill>
                <a:latin typeface="Arial"/>
              </a:rPr>
              <a:t>El concepto de ecología y su rol como disciplina científic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buClr>
                <a:srgbClr val="0000c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cc"/>
                </a:solidFill>
                <a:latin typeface="Arial"/>
              </a:rPr>
              <a:t>Definiciones y principios ecológicos básic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buClr>
                <a:srgbClr val="0000c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cc"/>
                </a:solidFill>
                <a:latin typeface="Arial"/>
              </a:rPr>
              <a:t>Principales elementos de la estructura y funcionamiento de la unidad fundamental del estudio ecológico: el   ecosistema</a:t>
            </a:r>
            <a:r>
              <a:rPr b="0" lang="es-ES" sz="25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CF2F-2FA4-4E96-8D3B-8E4F0DD7D6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41360"/>
            <a:ext cx="8229600" cy="792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os modelos y la representación funcional de los ecosistemas: Componentes y 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4723920"/>
            <a:ext cx="8137440" cy="1621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0000ff"/>
                </a:solidFill>
                <a:latin typeface="Arial"/>
              </a:rPr>
              <a:t>Un modelo es una entidad físicas o abstracta que representa de alguna forma la estructura y/o función de las entidades y procesos del mundo real (Kimmins, 1997).</a:t>
            </a:r>
            <a:r>
              <a:rPr b="1" lang="es-ES" sz="25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1640" y="2708280"/>
            <a:ext cx="8207640" cy="1557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Un </a:t>
            </a:r>
            <a:r>
              <a:rPr b="1" i="1" lang="es-ES_tradnl" sz="2400" spc="-1" strike="noStrike">
                <a:solidFill>
                  <a:srgbClr val="0000ff"/>
                </a:solidFill>
                <a:latin typeface="Arial"/>
              </a:rPr>
              <a:t>modelo es una declaración formal y precisa que expresa el conocimiento actual o las hipótesis respecto al funcionamiento de un sistema particular y sus respuestas a estímulos (Landsberg, 1986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1640" y="1700280"/>
            <a:ext cx="8209080" cy="70380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DEMOS DEFINIR UN  MODELO COMO UNA SIMPLIFICACIÓN DE LA REA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0241-296F-42C0-8EEE-453F4669C0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376360" y="476280"/>
            <a:ext cx="4680000" cy="45972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DELAJE DE 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1700280"/>
            <a:ext cx="8424720" cy="42912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ISTEMA = CONJUNTO DE PARTES QUE INTERACCION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2744640"/>
            <a:ext cx="8136000" cy="109944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L ANALIZAR UN SISTEMA INTERESAN LAS RELACIONES EXISTENTES ENTRE COMPONENTES, A PARTIR DE LAS CUALES OBTENDREMOS SU FUNCIONAMIENTO GLOB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FDD9-F4F0-40BB-9B3D-36AA7B389B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376360" y="476280"/>
            <a:ext cx="4680000" cy="45972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DELAJE DE 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1484280"/>
            <a:ext cx="6948360" cy="211320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ISTEMA COMO CAJA NEGRA.  NO SE MIRA DENTRO DEL SISTEMA. SOLO SE VEN LAS INTERACCIONES CON OTROS SISTEMA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OLO ANALIZA LAS ENTRADAS Y SALIDAS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43280" y="4473720"/>
            <a:ext cx="1981080" cy="1476360"/>
          </a:xfrm>
          <a:prstGeom prst="rect">
            <a:avLst/>
          </a:prstGeom>
          <a:solidFill>
            <a:srgbClr val="33cc33">
              <a:alpha val="50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32000" y="515772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T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59640" y="5084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AL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24360" y="4724280"/>
            <a:ext cx="50292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490392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82920" y="508320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66920" y="537372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51280" y="562464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43640" y="483408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64360" y="501336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72000" y="526572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81840" y="537228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08720" y="5697360"/>
            <a:ext cx="50328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BCBB-7E68-4136-B4CC-AA5D35D7DE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3.1. La ecología como disciplina científica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      Origen y definición del término ec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76720" y="3681360"/>
            <a:ext cx="3303720" cy="2441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539640" y="1916280"/>
            <a:ext cx="8099640" cy="1557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timológicamente, la palabra ecología proviene de raíces griegas:</a:t>
            </a:r>
            <a:r>
              <a:rPr b="1" lang="en-US" sz="2400" spc="-1" strike="noStrike">
                <a:solidFill>
                  <a:srgbClr val="392773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IKOS</a:t>
            </a:r>
            <a:r>
              <a:rPr b="1" lang="en-US" sz="2400" spc="-1" strike="noStrike">
                <a:solidFill>
                  <a:srgbClr val="392773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que significa casa, 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GO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que significa estudio. Así, literalmente, la ecología seria el estudio de la casa o amb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42920" y="3681360"/>
            <a:ext cx="3483000" cy="2414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F572-1610-43CC-85CA-BF9FBEDBC0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067280" y="297000"/>
            <a:ext cx="4321080" cy="606636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íntesis actual del concepto: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La ecología es el estudio científico de los procesos que influyen en la distribución y abundancia de los organismos, sus interacciones y las interrelacciones entre organismos y la transformación y flujos de materia y energía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7280" y="333360"/>
            <a:ext cx="3600360" cy="24004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4360" y="3033720"/>
            <a:ext cx="2771640" cy="31798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E7E0-3783-46FA-B193-72E339941B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58920" y="907920"/>
            <a:ext cx="68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63640" y="512640"/>
            <a:ext cx="6372360" cy="52056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2773"/>
                </a:solidFill>
                <a:latin typeface="Arial"/>
              </a:rPr>
              <a:t>DEFINICION MEDI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43280" y="1773360"/>
            <a:ext cx="4032360" cy="42166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UAL ACEPCION,  ACUÑADA EN UN CONGRESO MUNDIAL (ESTOCOLMO: 1972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MEDIO AMBIENTE ES EL CONJUNTO DE COMPONEN-TES FISICOS, QUIMICOS, BIOLOGICOS Y SOCIALES CAPACES DE CAUSAR EFEC-TOS DIRECTOS O INDIREC-TOS, EN UN PLAZO CORTO O LARGO, SOBRE LOS SERES VIVIENTES Y LAS ACTIVI-DADES HUMANA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1592280"/>
            <a:ext cx="3792600" cy="4732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777C-A046-49D1-9DD3-7B2C210437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696080" cy="555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íntesis del desarrollo de la ec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27280" y="1267920"/>
            <a:ext cx="4259160" cy="5077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Desde el hombre primi-tivo hasta la eda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Las expediciones geo-gráficas de los siglos XVIII y comienzos del X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Las contribuciones de Malthus y Dar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La ecología humana y la integración de la dimen-sión ambiental al desa-rrollo socio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84360" y="1197000"/>
            <a:ext cx="1913040" cy="1420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4360" y="2708280"/>
            <a:ext cx="3492360" cy="1386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24000" y="4400640"/>
            <a:ext cx="1523880" cy="2114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2340000" y="4437000"/>
            <a:ext cx="1673280" cy="2124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216000" y="1125360"/>
            <a:ext cx="2138400" cy="1400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D8B8-59C6-47A1-A9AC-BB0E00BC0E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188640"/>
            <a:ext cx="7696080" cy="936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ncepto de niveles de organización biológica y subdivisiones de la ecología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33640" y="1484280"/>
          <a:ext cx="6727680" cy="50450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3640" y="1484280"/>
                    <a:ext cx="6727680" cy="5045040"/>
                  </a:xfrm>
                  <a:prstGeom prst="rect">
                    <a:avLst/>
                  </a:prstGeom>
                  <a:ln w="63360">
                    <a:solidFill>
                      <a:srgbClr val="0000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4BA8-CFE4-4DAB-A1CB-6540A844B6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25360"/>
            <a:ext cx="8229600" cy="900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2. El Ecosistema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ncepto, atributos y propie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59280" y="1449360"/>
            <a:ext cx="3708360" cy="5008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Tansley (1935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Utilizó el término</a:t>
            </a:r>
            <a:r>
              <a:rPr b="1" lang="es-ES" sz="2800" spc="-1" strike="noStrike">
                <a:solidFill>
                  <a:srgbClr val="392773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COSISTEMA</a:t>
            </a:r>
            <a:r>
              <a:rPr b="1" lang="es-ES" sz="2800" spc="-1" strike="noStrike">
                <a:solidFill>
                  <a:srgbClr val="392773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para referirse al </a:t>
            </a: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sistema interactivo que se establece entre la biocenosis (grupo de seres vivos) y su biotopo, que es el ambiente en el que ellos viv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7209000"/>
            <a:ext cx="7920000" cy="1618560"/>
          </a:xfrm>
          <a:prstGeom prst="rect">
            <a:avLst/>
          </a:prstGeom>
          <a:solidFill>
            <a:srgbClr val="f6db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edad de Forestales Americanos (1996): 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a comunidad de diferentes organismos interdependientes unos de otros, en conjunto con su ambiente no vivo, siendo relativamente autosuficiente en términos de flujos de energía, y distinto de las comunidades vecin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3490920" cy="2327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24000" y="3933720"/>
            <a:ext cx="4303440" cy="2417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48F6-6807-4B81-9EF1-1E2ABAE4DB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56000" y="691920"/>
            <a:ext cx="4968720" cy="431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co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59280" y="1592280"/>
            <a:ext cx="5627520" cy="4525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Odum (197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92773"/>
                </a:solidFill>
                <a:latin typeface="Arial"/>
              </a:rPr>
              <a:t>   </a:t>
            </a: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un</a:t>
            </a:r>
            <a:r>
              <a:rPr b="1" i="1" lang="es-ES" sz="2800" spc="-1" strike="noStrike">
                <a:solidFill>
                  <a:srgbClr val="392773"/>
                </a:solidFill>
                <a:latin typeface="Arial"/>
              </a:rPr>
              <a:t> 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ECOSISTEMA</a:t>
            </a:r>
            <a:r>
              <a:rPr b="1" i="1" lang="es-ES" sz="2800" spc="-1" strike="noStrike">
                <a:solidFill>
                  <a:srgbClr val="392773"/>
                </a:solidFill>
                <a:latin typeface="Arial"/>
              </a:rPr>
              <a:t> </a:t>
            </a:r>
            <a:r>
              <a:rPr b="1" i="1" lang="es-ES" sz="2800" spc="-1" strike="noStrike">
                <a:solidFill>
                  <a:srgbClr val="0000ff"/>
                </a:solidFill>
                <a:latin typeface="Arial"/>
              </a:rPr>
              <a:t>es cualquier unidad que incluye todos los organismos (comunidad) de un área dada, interactuando con el ambiente físico para que un flujo de energía conduzca a estructuras tró-ficas claramente definidas, diversidad biótica y ciclos de mater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24000" y="1305000"/>
            <a:ext cx="2390760" cy="6084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2B09-8289-48DA-9CBD-2B52D537A8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9T10:35:37Z</dcterms:created>
  <dc:creator>Jaime Hernández</dc:creator>
  <dc:description/>
  <dc:language>en-US</dc:language>
  <cp:lastModifiedBy>Carmen L.</cp:lastModifiedBy>
  <cp:lastPrinted>2004-01-16T16:23:19Z</cp:lastPrinted>
  <dcterms:modified xsi:type="dcterms:W3CDTF">2008-01-10T14:41:06Z</dcterms:modified>
  <cp:revision>322</cp:revision>
  <dc:subject/>
  <dc:title>Sistema de Gestión de Información del Arbolado Público Comunal</dc:title>
</cp:coreProperties>
</file>